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3.pct" ContentType="image/x-pict"/>
  <Override PartName="/ppt/media/image52.pct" ContentType="image/x-pict"/>
  <Override PartName="/ppt/media/image3.pct" ContentType="image/x-pict"/>
  <Override PartName="/ppt/media/image36.png" ContentType="image/png"/>
  <Override PartName="/ppt/media/image2.pct" ContentType="image/x-pict"/>
  <Override PartName="/ppt/media/image14.png" ContentType="image/png"/>
  <Override PartName="/ppt/media/image15.png" ContentType="image/png"/>
  <Override PartName="/ppt/media/image35.png" ContentType="image/png"/>
  <Override PartName="/ppt/media/image49.pct" ContentType="image/x-pict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55.pct" ContentType="image/x-pict"/>
  <Override PartName="/ppt/media/image21.png" ContentType="image/png"/>
  <Override PartName="/ppt/media/image29.png" ContentType="image/png"/>
  <Override PartName="/ppt/media/image28.png" ContentType="image/png"/>
  <Override PartName="/ppt/media/image27.png" ContentType="image/png"/>
  <Override PartName="/ppt/media/image26.png" ContentType="image/png"/>
  <Override PartName="/ppt/media/image1.pct" ContentType="image/x-pict"/>
  <Override PartName="/ppt/media/image48.pct" ContentType="image/x-pict"/>
  <Override PartName="/ppt/media/image34.png" ContentType="image/png"/>
  <Override PartName="/ppt/media/image61.pct" ContentType="image/x-pict"/>
  <Override PartName="/ppt/media/image59.pct" ContentType="image/x-pict"/>
  <Override PartName="/ppt/media/image25.png" ContentType="image/png"/>
  <Override PartName="/ppt/media/image60.pct" ContentType="image/x-pict"/>
  <Override PartName="/ppt/media/image58.pct" ContentType="image/x-pict"/>
  <Override PartName="/ppt/media/image24.png" ContentType="image/png"/>
  <Override PartName="/ppt/media/image57.pct" ContentType="image/x-pict"/>
  <Override PartName="/ppt/media/image23.png" ContentType="image/png"/>
  <Override PartName="/ppt/media/image19.png" ContentType="image/png"/>
  <Override PartName="/ppt/media/image4.pct" ContentType="image/x-pict"/>
  <Override PartName="/ppt/media/image37.png" ContentType="image/png"/>
  <Override PartName="/ppt/media/image12.png" ContentType="image/png"/>
  <Override PartName="/ppt/media/image5.pct" ContentType="image/x-pict"/>
  <Override PartName="/ppt/media/image8.png" ContentType="image/png"/>
  <Override PartName="/ppt/media/image38.png" ContentType="image/png"/>
  <Override PartName="/ppt/media/image22.png" ContentType="image/png"/>
  <Override PartName="/ppt/media/image56.pct" ContentType="image/x-pict"/>
  <Override PartName="/ppt/media/image10.pct" ContentType="image/x-pict"/>
  <Override PartName="/ppt/media/image13.png" ContentType="image/png"/>
  <Override PartName="/ppt/media/image6.pct" ContentType="image/x-pict"/>
  <Override PartName="/ppt/media/image39.png" ContentType="image/png"/>
  <Override PartName="/ppt/media/image7.pct" ContentType="image/x-pict"/>
  <Override PartName="/ppt/media/image11.png" ContentType="image/png"/>
  <Override PartName="/ppt/media/image9.pct" ContentType="image/x-pict"/>
  <Override PartName="/ppt/media/image45.pct" ContentType="image/x-pict"/>
  <Override PartName="/ppt/media/image31.png" ContentType="image/png"/>
  <Override PartName="/ppt/media/image46.pct" ContentType="image/x-pict"/>
  <Override PartName="/ppt/media/image32.png" ContentType="image/png"/>
  <Override PartName="/ppt/media/image47.pct" ContentType="image/x-pict"/>
  <Override PartName="/ppt/media/image33.png" ContentType="image/png"/>
  <Override PartName="/ppt/media/image54.pct" ContentType="image/x-pict"/>
  <Override PartName="/ppt/media/image40.png" ContentType="image/png"/>
  <Override PartName="/ppt/media/image41.pct" ContentType="image/x-pict"/>
  <Override PartName="/ppt/media/image42.pct" ContentType="image/x-pict"/>
  <Override PartName="/ppt/media/image43.pct" ContentType="image/x-pict"/>
  <Override PartName="/ppt/media/image30.png" ContentType="image/png"/>
  <Override PartName="/ppt/media/image44.pct" ContentType="image/x-pict"/>
  <Override PartName="/ppt/media/image50.pct" ContentType="image/x-pict"/>
  <Override PartName="/ppt/media/image51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2E93-7837-4742-9B53-F2878A312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7823-706F-405D-8DD9-2DF9F2038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21D9-A7D3-412F-8975-821865F80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458B-9C9D-4443-ADDC-ABBD80000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65C5-3EAB-4A04-BAB8-A35834EC1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B468-5F59-46AE-A371-9BAFE5B29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E744-E6B4-4ACE-9D0E-8BD159EB5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0C84-E9BD-4A52-8029-7C739C035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6294-860F-41EB-905D-4E3E402A2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54BA-A991-47D6-ADDC-76EB859C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EDFF-ECD8-4FA4-930E-6EAA4D63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F56D-3164-459F-B5BF-3E2E2D81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7D636-165C-42B9-BAC7-643AD4047F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1.pct"/><Relationship Id="rId3" Type="http://schemas.openxmlformats.org/officeDocument/2006/relationships/image" Target="../media/image1.pct"/><Relationship Id="rId4" Type="http://schemas.openxmlformats.org/officeDocument/2006/relationships/image" Target="../media/image1.pct"/><Relationship Id="rId5" Type="http://schemas.openxmlformats.org/officeDocument/2006/relationships/image" Target="../media/image2.pct"/><Relationship Id="rId6" Type="http://schemas.openxmlformats.org/officeDocument/2006/relationships/image" Target="../media/image2.pct"/><Relationship Id="rId7" Type="http://schemas.openxmlformats.org/officeDocument/2006/relationships/image" Target="../media/image2.pct"/><Relationship Id="rId8" Type="http://schemas.openxmlformats.org/officeDocument/2006/relationships/image" Target="../media/image2.pct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pct"/><Relationship Id="rId2" Type="http://schemas.openxmlformats.org/officeDocument/2006/relationships/image" Target="../media/image42.pct"/><Relationship Id="rId3" Type="http://schemas.openxmlformats.org/officeDocument/2006/relationships/image" Target="../media/image43.pct"/><Relationship Id="rId4" Type="http://schemas.openxmlformats.org/officeDocument/2006/relationships/image" Target="../media/image44.pct"/><Relationship Id="rId5" Type="http://schemas.openxmlformats.org/officeDocument/2006/relationships/image" Target="../media/image45.pct"/><Relationship Id="rId6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6.pct"/><Relationship Id="rId2" Type="http://schemas.openxmlformats.org/officeDocument/2006/relationships/image" Target="../media/image47.pct"/><Relationship Id="rId3" Type="http://schemas.openxmlformats.org/officeDocument/2006/relationships/image" Target="../media/image48.pct"/><Relationship Id="rId4" Type="http://schemas.openxmlformats.org/officeDocument/2006/relationships/image" Target="../media/image49.pct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0.pct"/><Relationship Id="rId2" Type="http://schemas.openxmlformats.org/officeDocument/2006/relationships/image" Target="../media/image51.pct"/><Relationship Id="rId3" Type="http://schemas.openxmlformats.org/officeDocument/2006/relationships/image" Target="../media/image52.pct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3.pct"/><Relationship Id="rId2" Type="http://schemas.openxmlformats.org/officeDocument/2006/relationships/image" Target="../media/image54.pct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5.pct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6.pct"/><Relationship Id="rId2" Type="http://schemas.openxmlformats.org/officeDocument/2006/relationships/image" Target="../media/image57.pct"/><Relationship Id="rId3" Type="http://schemas.openxmlformats.org/officeDocument/2006/relationships/image" Target="../media/image58.pct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9.pct"/><Relationship Id="rId2" Type="http://schemas.openxmlformats.org/officeDocument/2006/relationships/image" Target="../media/image60.pct"/><Relationship Id="rId3" Type="http://schemas.openxmlformats.org/officeDocument/2006/relationships/image" Target="../media/image61.pct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stetson.edu/~efriedma/mathmagic/1205.html" TargetMode="External"/><Relationship Id="rId2" Type="http://schemas.openxmlformats.org/officeDocument/2006/relationships/hyperlink" Target="http://mathworld.wolfram.com/MatchstickGraph.html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nimal Matchstick Graph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Small Degree 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ich Fried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tso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/25/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03200" cy="2666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153280" y="3657600"/>
            <a:ext cx="403200" cy="2666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33520" y="533520"/>
            <a:ext cx="403200" cy="2666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33520" y="3657600"/>
            <a:ext cx="403200" cy="2666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1371600" y="533520"/>
            <a:ext cx="2895480" cy="439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4800600" y="533520"/>
            <a:ext cx="2895480" cy="439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1371600" y="5943600"/>
            <a:ext cx="2895480" cy="439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4876920" y="5943600"/>
            <a:ext cx="2895480" cy="43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ity Obser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6553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m is even and n is odd, then the smallest {m,n} graph contains at least 2 vertices of degree 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because the total of all the degrees of a graph is even, since each edge contributes 2 to the tot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{2,n} Graphs For Small 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5638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n≤10 is even, the smallest {2,n} graph is n/2 triangles sharing a verte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n≤9 is odd, the smallest {2,n} graph is two triangles sharing an edge with (n-3)/2 triangles touching each endpoint of the shared ed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324480" y="15238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48520" y="3886200"/>
            <a:ext cx="253980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{2,n} Graphs For Large Even 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3809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n≥12 is even, the smallest {2,n} graph is the smallest {2,10} graph with (n-10)/2 additional thin diamonds touching the center verte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952880" y="1752480"/>
            <a:ext cx="35434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{2,n} Graphs For Large Odd 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1676520"/>
            <a:ext cx="67053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n≥11 is odd, the smallest {2,n} graph is the smallest {2,9} graph with (n-9)/2 additional thin diamonds touching both center verti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523880" y="3657600"/>
            <a:ext cx="5791320" cy="29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{3,n} Graphs For Small 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1676520"/>
            <a:ext cx="6400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mallest known {3,4} and {3,5} graphs are shown bel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and further graphs in this talk have not been proved minim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143000" y="4343400"/>
            <a:ext cx="2438280" cy="2070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495680" y="4343400"/>
            <a:ext cx="350532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{3,n} Graphs For Medium 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1676520"/>
            <a:ext cx="59436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6≤n≤12, the smallest known {3,n} graph is a hexagon wheel graph with (n-6) triangles replaced with pieces of p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62120" y="4724280"/>
            <a:ext cx="1784160" cy="15512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657600" y="3886200"/>
            <a:ext cx="1784520" cy="2394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553080" y="3048120"/>
            <a:ext cx="178452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{3,n} Graphs For Large 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1676520"/>
            <a:ext cx="6705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n≥12, we can build a {3,n} graph from pieces like those bel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143000" y="5410080"/>
            <a:ext cx="922320" cy="8240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114800" y="4572000"/>
            <a:ext cx="922320" cy="16588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7086600" y="3581280"/>
            <a:ext cx="922320" cy="2627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62120" y="3124080"/>
            <a:ext cx="5562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iece with k levels adds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k-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the central deg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{3,n} Graphs For Large 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1828800"/>
            <a:ext cx="3200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n-1 as powers of 2, and use those pieces around   a center verte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: Since 23 = 4+4+4+4+4+2+1, we get this {3,24} gra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502920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{4,n} Graphs For Small 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1828800"/>
            <a:ext cx="29718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mallest known {4,n} graphs for some n are modifications of this {4} graph, a   tiling of a dodecag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962520" y="167652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{4,n} Graphs For Small 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1828800"/>
            <a:ext cx="78483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mallest known {4,5},{4,6}, and {4,8} graphs are shown bel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80880" y="380988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276720" y="3809880"/>
            <a:ext cx="2590560" cy="25909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172200" y="3809880"/>
            <a:ext cx="2590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tchstick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752480"/>
            <a:ext cx="63244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ck up 12 matchsticks from the box at the front of the ro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range them on the table so th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do not overl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ends of every matchstick touch exactly two other matchstick e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CAN be don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mallest Known {4,7}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1676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mallest known {4,7} graph, found by Gavin Theobald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variation of this id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5029200" cy="37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tilizing St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16002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have already made use of strings where every vertex has degree 2 or 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09480" y="3809880"/>
            <a:ext cx="8001000" cy="2858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09480" y="4952880"/>
            <a:ext cx="800100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tilizing St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1600200"/>
            <a:ext cx="77724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ow are two strings where every vertex has degree 4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irst one uses fewer vertices, but the second one can bend at hin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09480" y="4419720"/>
            <a:ext cx="8001000" cy="4172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09480" y="5257800"/>
            <a:ext cx="800100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-Minimal {4,10}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1600200"/>
            <a:ext cx="26668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e is my first attempt at a {4,10} gra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5-fold symmetry and 260 verti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581280" y="1600200"/>
            <a:ext cx="5029200" cy="49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mallest Known {4,10}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1600200"/>
            <a:ext cx="26668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e is a modification using only    140 vertic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the smallest known {4,10} gra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200400" y="1905120"/>
            <a:ext cx="5638680" cy="45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-Minimal {4,9}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1981080"/>
            <a:ext cx="5410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ollowing slides show my attempts at a {4,9} gra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each case, the number of vertices is giv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-Minimal {4,9}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985080" cy="53532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28600" y="6095880"/>
            <a:ext cx="2514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08 vert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-Minimal {4,9}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6095880"/>
            <a:ext cx="2514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6 vert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479000" cy="47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-Minimal {4,9}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6095880"/>
            <a:ext cx="2514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04 vert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479000" cy="39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-Minimal {4,9}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6095880"/>
            <a:ext cx="2514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62 vert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17372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440" y="1676520"/>
            <a:ext cx="4800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9999"/>
                </a:solidFill>
                <a:latin typeface="Times New Roman"/>
              </a:rPr>
              <a:t>gra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collection of </a:t>
            </a:r>
            <a:r>
              <a:rPr b="0" lang="en-US" sz="3200" spc="-1" strike="noStrike">
                <a:solidFill>
                  <a:srgbClr val="009999"/>
                </a:solidFill>
                <a:latin typeface="Times New Roman"/>
              </a:rPr>
              <a:t>verti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points) and </a:t>
            </a:r>
            <a:r>
              <a:rPr b="0" lang="en-US" sz="3200" spc="-1" strike="noStrike">
                <a:solidFill>
                  <a:srgbClr val="009999"/>
                </a:solidFill>
                <a:latin typeface="Times New Roman"/>
              </a:rPr>
              <a:t>edg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lin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9999"/>
                </a:solidFill>
                <a:latin typeface="Times New Roman"/>
              </a:rPr>
              <a:t>planar gra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graph whose edges do not cro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9999"/>
                </a:solidFill>
                <a:latin typeface="Times New Roman"/>
              </a:rPr>
              <a:t>matchstick gra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lanar graph where every edge has length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943600" y="2133720"/>
            <a:ext cx="2664000" cy="3886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-Minimal {4,9}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6095880"/>
            <a:ext cx="2514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41 vert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5343480" cy="48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mallest Known {4,9}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6095880"/>
            <a:ext cx="8686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mallest known {4,9} graph has 211 verti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05120" y="1752480"/>
            <a:ext cx="534348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mallest Known {4,11}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1676520"/>
            <a:ext cx="25909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e is a close-up of a crowded region in  the smallest known {4,11} gra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657600" y="1600200"/>
            <a:ext cx="480060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mallest Known {4,11}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153280" cy="48625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04920" y="6095880"/>
            <a:ext cx="8686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the smallest known {4,11} gra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{m,n}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1600200"/>
            <a:ext cx="57913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onjecture there is no {4,n} graph for n≥1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known that there is no {m,n} graph for 5≤m&lt;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ual {m,n}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1828800"/>
            <a:ext cx="85341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Joe DeVincentis, I considered the variation of finding the smallest </a:t>
            </a:r>
            <a:r>
              <a:rPr b="0" lang="en-US" sz="3200" spc="-1" strike="noStrike">
                <a:solidFill>
                  <a:srgbClr val="009999"/>
                </a:solidFill>
                <a:latin typeface="Times New Roman"/>
              </a:rPr>
              <a:t>equal {m,n} graph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 smallest matchstick graphs where half of the vertices have degree m and half have degree 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ual {1,n}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1447920"/>
            <a:ext cx="8534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mallest known equal {1,2}, {1,3}, {1,4}, {1,5}, and {1,6} matchstick graphs ({1,4} and {1,5} were found by Fred Heleniu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286000" y="4038480"/>
            <a:ext cx="2895480" cy="25210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743200" y="3352680"/>
            <a:ext cx="1905120" cy="1954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5257800" y="3200400"/>
            <a:ext cx="3657600" cy="32576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380880" y="3200400"/>
            <a:ext cx="1727280" cy="15112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5"/>
          <a:stretch/>
        </p:blipFill>
        <p:spPr>
          <a:xfrm>
            <a:off x="304920" y="5029200"/>
            <a:ext cx="18414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ual {2,n}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14479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mallest known equal {2,3}, {2,4}, {2,5}, and {2,6} matchstick graphs ({2,5} was found by Gavin Theobald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80880" y="4876920"/>
            <a:ext cx="1752840" cy="15350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905120" y="3276720"/>
            <a:ext cx="2971800" cy="27921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5029200" y="3048120"/>
            <a:ext cx="3809880" cy="34812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533520" y="3048120"/>
            <a:ext cx="152388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ual {3,n}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04920" y="1447920"/>
            <a:ext cx="26668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mallest known equal {3,4}, {3,5}, and {3,6} matchstick graph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124080" y="1752480"/>
            <a:ext cx="1981440" cy="17370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5486400" y="1600200"/>
            <a:ext cx="3048120" cy="20653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1371600" y="4191120"/>
            <a:ext cx="685800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ual {4,n}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80880" y="3657600"/>
            <a:ext cx="2984760" cy="28512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3352680" y="1600200"/>
            <a:ext cx="5423040" cy="48895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609480" y="1447920"/>
            <a:ext cx="2743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mallest known equal {4,5} and {4,6} graph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5181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9999"/>
                </a:solidFill>
                <a:latin typeface="Times New Roman"/>
              </a:rPr>
              <a:t>deg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 vertex is the number of edges coming out of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9999"/>
                </a:solidFill>
                <a:latin typeface="Times New Roman"/>
              </a:rPr>
              <a:t>degree 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 graph is the set of the degrees of the verti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: The degree set of the graph to the right is {1,2,4}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943600" y="2133720"/>
            <a:ext cx="2664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{m,n} Graphs in 3 Dimen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4920" y="1600200"/>
            <a:ext cx="86104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ain with Joe DeVincentis, I considered the variation of finding the smallest </a:t>
            </a:r>
            <a:r>
              <a:rPr b="0" lang="en-US" sz="3200" spc="-1" strike="noStrike">
                <a:solidFill>
                  <a:srgbClr val="009999"/>
                </a:solidFill>
                <a:latin typeface="Times New Roman"/>
              </a:rPr>
              <a:t>3-dimensional {m,n} graph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952880" y="3200400"/>
            <a:ext cx="3429000" cy="31226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304920" y="3505320"/>
            <a:ext cx="33526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mallest 3-dimensional {2,n} graphs are n-1 triangles that share an ed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{m,n} Graphs in 3 Dimen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4920" y="175248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mallest 3-dimensional {3}, {3,4} and {3,5} graphs are pyrami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80880" y="3733920"/>
            <a:ext cx="2210040" cy="19796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124080" y="3733920"/>
            <a:ext cx="2438640" cy="20602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095880" y="4038480"/>
            <a:ext cx="2590920" cy="16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{m,n} Graphs in 3 Dimen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1600200"/>
            <a:ext cx="85341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mallest 3-dimensional {4} and {4,5} graphs are bi-pyrami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mallest known 3-dimensional {4,6} graph has a hexagonal base and a triangular to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04920" y="4191120"/>
            <a:ext cx="2743200" cy="21589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3352680" y="4267080"/>
            <a:ext cx="2590920" cy="212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6172200" y="4495680"/>
            <a:ext cx="259092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1295280"/>
            <a:ext cx="7543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the {3,n} and {4,n} matchstick graphs presented here the smallest such graph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5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a {4,12} graph exis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5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est graphs for larger degree se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5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the smallest equal {m,n} graph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5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an equal {1,7} graph exis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est {n} and {m,n} in 3 dimensio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nt To Know Mo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1523880"/>
            <a:ext cx="632448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www.stetson.edu/~efriedma/mathmagic/1205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mathworld.wolfram.com/ MatchstickGraph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5029200"/>
            <a:ext cx="7925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eneral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7238880" cy="297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a given set S, what is the matchstick graph with the smallest number of vertices that has degree set 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ious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773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1994, the problem for singleton sets S was studied by Hartsfield and Ring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mallest matchstick graphs for S={0}, {1}, {2}, and {3} are shown bel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85800" y="4876920"/>
            <a:ext cx="4191120" cy="12794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562720" y="4191120"/>
            <a:ext cx="2895480" cy="23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ious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mallest known matchstick graph for S={4}, the </a:t>
            </a:r>
            <a:r>
              <a:rPr b="0" lang="en-US" sz="3200" spc="-1" strike="noStrike">
                <a:solidFill>
                  <a:srgbClr val="009999"/>
                </a:solidFill>
                <a:latin typeface="Times New Roman"/>
              </a:rPr>
              <a:t>Harborth gra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s shown bel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648320" y="259092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5800" y="3124080"/>
            <a:ext cx="37339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contains 52 vertices, and has not been proved minim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no S={5} matchstick gra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onsider only two element degree se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ll a matchstick graph with degree set S={m,n} a </a:t>
            </a:r>
            <a:r>
              <a:rPr b="0" lang="en-US" sz="3200" spc="-1" strike="noStrike">
                <a:solidFill>
                  <a:srgbClr val="009999"/>
                </a:solidFill>
                <a:latin typeface="Times New Roman"/>
              </a:rPr>
              <a:t>{m,n} gra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4572000"/>
            <a:ext cx="84582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the smallest {m,n} graphs for various values of m and 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{0,n} and {1,n}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1532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mallest {0,n} graph is the union of the smallest {0} graph and the smallest {n} gra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mallest {1,n} graph is a star with n+1 verti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334120" y="4038480"/>
            <a:ext cx="2539800" cy="25401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600200" y="419112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8T22:47:14Z</dcterms:created>
  <dc:creator>Authorized User</dc:creator>
  <dc:description/>
  <dc:language>en-US</dc:language>
  <cp:lastModifiedBy>Authorized User</cp:lastModifiedBy>
  <cp:lastPrinted>2006-01-24T17:57:11Z</cp:lastPrinted>
  <dcterms:modified xsi:type="dcterms:W3CDTF">2006-01-26T15:50:12Z</dcterms:modified>
  <cp:revision>39</cp:revision>
  <dc:subject/>
  <dc:title>Minimal Matchstick Graphs With Small Degree Sets</dc:title>
</cp:coreProperties>
</file>