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.pct" ContentType="image/x-pict"/>
  <Override PartName="/ppt/media/image52.pct" ContentType="image/x-pict"/>
  <Override PartName="/ppt/media/image3.pct" ContentType="image/x-pict"/>
  <Override PartName="/ppt/media/image36.png" ContentType="image/png"/>
  <Override PartName="/ppt/media/image2.pct" ContentType="image/x-pict"/>
  <Override PartName="/ppt/media/image14.png" ContentType="image/png"/>
  <Override PartName="/ppt/media/image15.png" ContentType="image/png"/>
  <Override PartName="/ppt/media/image35.png" ContentType="image/png"/>
  <Override PartName="/ppt/media/image49.pct" ContentType="image/x-pict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55.pct" ContentType="image/x-pict"/>
  <Override PartName="/ppt/media/image21.png" ContentType="image/png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1.pct" ContentType="image/x-pict"/>
  <Override PartName="/ppt/media/image48.pct" ContentType="image/x-pict"/>
  <Override PartName="/ppt/media/image34.png" ContentType="image/png"/>
  <Override PartName="/ppt/media/image61.pct" ContentType="image/x-pict"/>
  <Override PartName="/ppt/media/image59.pct" ContentType="image/x-pict"/>
  <Override PartName="/ppt/media/image25.png" ContentType="image/png"/>
  <Override PartName="/ppt/media/image60.pct" ContentType="image/x-pict"/>
  <Override PartName="/ppt/media/image58.pct" ContentType="image/x-pict"/>
  <Override PartName="/ppt/media/image24.png" ContentType="image/png"/>
  <Override PartName="/ppt/media/image57.pct" ContentType="image/x-pict"/>
  <Override PartName="/ppt/media/image23.png" ContentType="image/png"/>
  <Override PartName="/ppt/media/image19.png" ContentType="image/png"/>
  <Override PartName="/ppt/media/image4.pct" ContentType="image/x-pict"/>
  <Override PartName="/ppt/media/image37.png" ContentType="image/png"/>
  <Override PartName="/ppt/media/image12.png" ContentType="image/png"/>
  <Override PartName="/ppt/media/image5.pct" ContentType="image/x-pict"/>
  <Override PartName="/ppt/media/image8.png" ContentType="image/png"/>
  <Override PartName="/ppt/media/image38.png" ContentType="image/png"/>
  <Override PartName="/ppt/media/image22.png" ContentType="image/png"/>
  <Override PartName="/ppt/media/image56.pct" ContentType="image/x-pict"/>
  <Override PartName="/ppt/media/image10.pct" ContentType="image/x-pict"/>
  <Override PartName="/ppt/media/image13.png" ContentType="image/png"/>
  <Override PartName="/ppt/media/image6.pct" ContentType="image/x-pict"/>
  <Override PartName="/ppt/media/image39.png" ContentType="image/png"/>
  <Override PartName="/ppt/media/image7.pct" ContentType="image/x-pict"/>
  <Override PartName="/ppt/media/image11.png" ContentType="image/png"/>
  <Override PartName="/ppt/media/image9.pct" ContentType="image/x-pict"/>
  <Override PartName="/ppt/media/image45.pct" ContentType="image/x-pict"/>
  <Override PartName="/ppt/media/image31.png" ContentType="image/png"/>
  <Override PartName="/ppt/media/image46.pct" ContentType="image/x-pict"/>
  <Override PartName="/ppt/media/image32.png" ContentType="image/png"/>
  <Override PartName="/ppt/media/image47.pct" ContentType="image/x-pict"/>
  <Override PartName="/ppt/media/image33.png" ContentType="image/png"/>
  <Override PartName="/ppt/media/image54.pct" ContentType="image/x-pict"/>
  <Override PartName="/ppt/media/image40.png" ContentType="image/png"/>
  <Override PartName="/ppt/media/image41.pct" ContentType="image/x-pict"/>
  <Override PartName="/ppt/media/image42.pct" ContentType="image/x-pict"/>
  <Override PartName="/ppt/media/image43.pct" ContentType="image/x-pict"/>
  <Override PartName="/ppt/media/image30.png" ContentType="image/png"/>
  <Override PartName="/ppt/media/image44.pct" ContentType="image/x-pict"/>
  <Override PartName="/ppt/media/image50.pct" ContentType="image/x-pict"/>
  <Override PartName="/ppt/media/image51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D0D-12E5-4F25-9F20-6CAE026C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6E8-C9E1-44E2-A4E5-223CFB23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3EC-95A3-4D48-8D7F-A1658D81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C02-4A3B-4527-91F4-A81A401B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52C-CAED-46FE-995E-9FCF6F24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B6D-3B78-41A3-9FA1-91B50235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163-F879-4DE3-9D87-7F0B6885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CC0-A3A9-435A-A59E-D3907F94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508-13CA-4D08-A2D6-1ED380D4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704-45E0-48B9-BB32-2AE5013E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B45-9576-4FE6-99DF-E6B19910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F54-D858-4BA5-B071-37910090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89F1-93E6-4E74-89B3-339CFA821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image" Target="../media/image42.pct"/><Relationship Id="rId3" Type="http://schemas.openxmlformats.org/officeDocument/2006/relationships/image" Target="../media/image43.pct"/><Relationship Id="rId4" Type="http://schemas.openxmlformats.org/officeDocument/2006/relationships/image" Target="../media/image44.pct"/><Relationship Id="rId5" Type="http://schemas.openxmlformats.org/officeDocument/2006/relationships/image" Target="../media/image45.pct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image" Target="../media/image47.pct"/><Relationship Id="rId3" Type="http://schemas.openxmlformats.org/officeDocument/2006/relationships/image" Target="../media/image48.pct"/><Relationship Id="rId4" Type="http://schemas.openxmlformats.org/officeDocument/2006/relationships/image" Target="../media/image49.pct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pct"/><Relationship Id="rId2" Type="http://schemas.openxmlformats.org/officeDocument/2006/relationships/image" Target="../media/image51.pct"/><Relationship Id="rId3" Type="http://schemas.openxmlformats.org/officeDocument/2006/relationships/image" Target="../media/image52.pct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ct"/><Relationship Id="rId2" Type="http://schemas.openxmlformats.org/officeDocument/2006/relationships/image" Target="../media/image5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image" Target="../media/image57.pct"/><Relationship Id="rId3" Type="http://schemas.openxmlformats.org/officeDocument/2006/relationships/image" Target="../media/image58.pct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pct"/><Relationship Id="rId2" Type="http://schemas.openxmlformats.org/officeDocument/2006/relationships/image" Target="../media/image60.pct"/><Relationship Id="rId3" Type="http://schemas.openxmlformats.org/officeDocument/2006/relationships/image" Target="../media/image61.pct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stetson.edu/~efriedma/mathmagic/1205.html" TargetMode="External"/><Relationship Id="rId2" Type="http://schemas.openxmlformats.org/officeDocument/2006/relationships/hyperlink" Target="http://mathworld.wolfram.com/MatchstickGraph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al Matchstick Graph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Small Degree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h Fri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ts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25/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03200" cy="266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153280" y="3657600"/>
            <a:ext cx="40320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33520" y="533520"/>
            <a:ext cx="40320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3520" y="3657600"/>
            <a:ext cx="40320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371600" y="533520"/>
            <a:ext cx="2895480" cy="439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800600" y="533520"/>
            <a:ext cx="2895480" cy="439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371600" y="5943600"/>
            <a:ext cx="2895480" cy="439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76920" y="5943600"/>
            <a:ext cx="289548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ity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is even and n is odd, then the smallest {m,n} graph contains at least 2 vertices of degree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the total of all the degrees of a graph is even, since each edge contributes 2 to the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2,n} Graphs For Small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5638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≤10 is even, the smallest {2,n} graph is n/2 triangles sharing a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≤9 is odd, the smallest {2,n} graph is two triangles sharing an edge with (n-3)/2 triangles touching each endpoint of the shared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324480" y="1523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2,n} Graphs For Large Even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≥12 is even, the smallest {2,n} graph is the smallest {2,10} graph with (n-10)/2 additional thin diamonds touching the center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543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2,n} Graphs For Large Odd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676520"/>
            <a:ext cx="6705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≥11 is odd, the smallest {2,n} graph is the smallest {2,9} graph with (n-9)/2 additional thin diamonds touching both center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57913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3,n} Graphs For Small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{3,4} and {3,5} graphs are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and further graphs in this talk have not been proved min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207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95680" y="4343400"/>
            <a:ext cx="35053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3,n} Graphs For Medium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676520"/>
            <a:ext cx="5943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6≤n≤12, the smallest known {3,n} graph is a hexagon wheel graph with (n-6) triangles replaced with pieces of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4724280"/>
            <a:ext cx="1784160" cy="1551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657600" y="3886200"/>
            <a:ext cx="1784520" cy="239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53080" y="3048120"/>
            <a:ext cx="17845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3,n} Graphs For Large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676520"/>
            <a:ext cx="6705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n≥12, we can build a {3,n} graph from pieces like those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43000" y="5410080"/>
            <a:ext cx="922320" cy="824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14800" y="4572000"/>
            <a:ext cx="922320" cy="1658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086600" y="3581280"/>
            <a:ext cx="922320" cy="2627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120" y="3124080"/>
            <a:ext cx="5562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iece with k levels adds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central deg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3,n} Graphs For Large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828800"/>
            <a:ext cx="3200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n-1 as powers of 2, and use those pieces around   a center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Since 23 = 4+4+4+4+4+2+1, we get this {3,24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50292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4,n} Graphs For Small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828800"/>
            <a:ext cx="2971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{4,n} graphs for some n are modifications of this {4} graph, a   tiling of a dodecag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4,n} Graphs For Small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828800"/>
            <a:ext cx="7848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{4,5},{4,6}, and {4,8} graphs are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38098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172200" y="380988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stick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752480"/>
            <a:ext cx="6324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12 matchsticks from the box at the front of the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nge them on the table so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do not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ends of every matchstick touch exactly two other matchstick 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be d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Known {4,7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676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{4,7} graph, found by Gavin Theobald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variation of this id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02920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ilizing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already made use of strings where every vertex has degree 2 or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8001000" cy="285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9480" y="4952880"/>
            <a:ext cx="80010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ilizing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w are two strings where every vertex has degree 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one uses fewer vertices, but the second one can bend at hi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4419720"/>
            <a:ext cx="8001000" cy="417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8001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10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600200"/>
            <a:ext cx="2666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my first attempt at a {4,10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5-fold symmetry and 260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81280" y="1600200"/>
            <a:ext cx="50292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Known {4,10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600200"/>
            <a:ext cx="2666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modification using only    140 vertic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smallest known {4,10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563868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981080"/>
            <a:ext cx="5410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slides show my attempts at a {4,9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case, the number of vertices is 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85080" cy="5353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8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6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7900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4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7900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2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73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llection of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vert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oints) and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ed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lin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planar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graph whose edges do not cro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matchstick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lanar graph where every edge has length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66400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1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4348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Known {4,9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{4,9} graph has 211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3434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Known {4,11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676520"/>
            <a:ext cx="2590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close-up of a crowded region in  the smallest known {4,11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48006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Known {4,11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4862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smallest known {4,11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{m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00200"/>
            <a:ext cx="5791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jecture there is no {4,n} graph for n≥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known that there is no {m,n} graph for 5≤m&lt;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 {m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828800"/>
            <a:ext cx="8534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Joe DeVincentis, I considered the variation of finding the smallest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equal {m,n} graph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mallest matchstick graphs where half of the vertices have degree m and half have degree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 {1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447920"/>
            <a:ext cx="8534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equal {1,2}, {1,3}, {1,4}, {1,5}, and {1,6} matchstick graphs ({1,4} and {1,5} were found by Fred Heleniu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2895480" cy="2521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43200" y="3352680"/>
            <a:ext cx="1905120" cy="195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257800" y="3200400"/>
            <a:ext cx="3657600" cy="3257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80880" y="3200400"/>
            <a:ext cx="1727280" cy="1511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304920" y="5029200"/>
            <a:ext cx="184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 {2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4479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equal {2,3}, {2,4}, {2,5}, and {2,6} matchstick graphs ({2,5} was found by Gavin Theobal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4876920"/>
            <a:ext cx="1752840" cy="1535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05120" y="3276720"/>
            <a:ext cx="2971800" cy="2792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029200" y="3048120"/>
            <a:ext cx="3809880" cy="3481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33520" y="3048120"/>
            <a:ext cx="152388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 {3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447920"/>
            <a:ext cx="2666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equal {3,4}, {3,5}, and {3,6} matchstick graph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198144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3048120" cy="2065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371600" y="4191120"/>
            <a:ext cx="68580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 {4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2984760" cy="2851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5423040" cy="4889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9480" y="1447920"/>
            <a:ext cx="2743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equal {4,5} and {4,6} graph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deg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vertex is the number of edges coming out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degree 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graph is the set of the degrees of the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The degree set of the graph to the right is {1,2,4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66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m,n} Graphs in 3 Dime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60020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 with Joe DeVincentis, I considered the variation of finding the smallest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3-dimensional {m,n} graph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3429000" cy="3122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920" y="3505320"/>
            <a:ext cx="3352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3-dimensional {2,n} graphs are n-1 triangles that share an ed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m,n} Graphs in 3 Dime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752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3-dimensional {3}, {3,4} and {3,5} graphs are pyram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210040" cy="1979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124080" y="3733920"/>
            <a:ext cx="2438640" cy="2060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4038480"/>
            <a:ext cx="25909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m,n} Graphs in 3 Dime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6002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3-dimensional {4} and {4,5} graphs are bi-pyram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3-dimensional {4,6} graph has a hexagonal base and a triangular t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274320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2590920" cy="212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172200" y="4495680"/>
            <a:ext cx="25909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295280"/>
            <a:ext cx="754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{3,n} and {4,n} matchstick graphs presented here the smallest such graph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a {4,12} graph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st graphs for larger degree se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smallest equal {m,n} graph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an equal {1,7} graph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st {n} and {m,n} in 3 dimens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nt To Know M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1523880"/>
            <a:ext cx="63244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tetson.edu/~efriedma/mathmagic/1205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mathworld.wolfram.com/ MatchstickGraph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02920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ra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2388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 given set S, what is the matchstick graph with the smallest number of vertices that has degree set 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4, the problem for singleton sets S was studied by Hartsfield and Ring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matchstick graphs for S={0}, {1}, {2}, and {3} are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419112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28954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matchstick graph for S={4}, the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Harborth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5909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31240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ntains 52 vertices, and has not been proved min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S={5} matchstick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ider only two element degree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ll a matchstick graph with degree set S={m,n} a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{m,n}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572000"/>
            <a:ext cx="84582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mallest {m,n} graphs for various values of m and 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0,n} and {1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{0,n} graph is the union of the smallest {0} graph and the smallest {n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{1,n} graph is a star with n+1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4120" y="403848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00200" y="41911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22:47:14Z</dcterms:created>
  <dc:creator>Authorized User</dc:creator>
  <dc:description/>
  <dc:language>en-US</dc:language>
  <cp:lastModifiedBy>Authorized User</cp:lastModifiedBy>
  <cp:lastPrinted>2006-01-24T17:57:11Z</cp:lastPrinted>
  <dcterms:modified xsi:type="dcterms:W3CDTF">2006-01-26T15:50:12Z</dcterms:modified>
  <cp:revision>39</cp:revision>
  <dc:subject/>
  <dc:title>Minimal Matchstick Graphs With Small Degree Sets</dc:title>
</cp:coreProperties>
</file>