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7.pct" ContentType="image/x-pict"/>
  <Override PartName="/ppt/media/image37.png" ContentType="image/png"/>
  <Override PartName="/ppt/media/image34.pct" ContentType="image/x-pict"/>
  <Override PartName="/ppt/media/image7.png" ContentType="image/png"/>
  <Override PartName="/ppt/media/image60.pct" ContentType="image/x-pict"/>
  <Override PartName="/ppt/media/image20.pct" ContentType="image/x-pict"/>
  <Override PartName="/ppt/media/image39.png" ContentType="image/png"/>
  <Override PartName="/ppt/media/image36.pct" ContentType="image/x-pict"/>
  <Override PartName="/ppt/media/image18.pct" ContentType="image/x-pict"/>
  <Override PartName="/ppt/media/image6.pct" ContentType="image/x-pict"/>
  <Override PartName="/ppt/media/image31.pct" ContentType="image/x-pict"/>
  <Override PartName="/ppt/media/image4.png" ContentType="image/png"/>
  <Override PartName="/ppt/media/image16.png" ContentType="image/png"/>
  <Override PartName="/ppt/media/image1.pct" ContentType="image/x-pict"/>
  <Override PartName="/ppt/media/image13.pct" ContentType="image/x-pict"/>
  <Override PartName="/ppt/media/image63.pct" ContentType="image/x-pict"/>
  <Override PartName="/ppt/media/image64.png" ContentType="image/png"/>
  <Override PartName="/ppt/media/image61.pct" ContentType="image/x-pict"/>
  <Override PartName="/ppt/media/image19.pct" ContentType="image/x-pict"/>
  <Override PartName="/ppt/media/image27.png" ContentType="image/png"/>
  <Override PartName="/ppt/media/image24.pct" ContentType="image/x-pict"/>
  <Override PartName="/ppt/media/image17.png" ContentType="image/png"/>
  <Override PartName="/ppt/media/image5.png" ContentType="image/png"/>
  <Override PartName="/ppt/media/image28.png" ContentType="image/png"/>
  <Override PartName="/ppt/media/image62.png" ContentType="image/png"/>
  <Override PartName="/ppt/media/image23.pct" ContentType="image/x-pict"/>
  <Override PartName="/ppt/media/image26.png" ContentType="image/png"/>
  <Override PartName="/ppt/media/image15.png" ContentType="image/png"/>
  <Override PartName="/ppt/media/image29.pct" ContentType="image/x-pict"/>
  <Override PartName="/ppt/media/image3.png" ContentType="image/png"/>
  <Override PartName="/ppt/media/image22.pct" ContentType="image/x-pict"/>
  <Override PartName="/ppt/media/image12.png" ContentType="image/png"/>
  <Override PartName="/ppt/media/image49.png" ContentType="image/png"/>
  <Override PartName="/ppt/media/image21.pct" ContentType="image/x-pict"/>
  <Override PartName="/ppt/media/image8.png" ContentType="image/png"/>
  <Override PartName="/ppt/media/image35.pct" ContentType="image/x-pict"/>
  <Override PartName="/ppt/media/image38.png" ContentType="image/png"/>
  <Override PartName="/ppt/media/image10.pct" ContentType="image/x-pict"/>
  <Override PartName="/ppt/media/image9.pct" ContentType="image/x-pict"/>
  <Override PartName="/ppt/media/image25.pct" ContentType="image/x-pict"/>
  <Override PartName="/ppt/media/image11.png" ContentType="image/png"/>
  <Override PartName="/ppt/media/image48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52.png" ContentType="image/png"/>
  <Override PartName="/ppt/media/image66.pct" ContentType="image/x-pict"/>
  <Override PartName="/ppt/media/image30.png" ContentType="image/png"/>
  <Override PartName="/ppt/media/image33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8.pct" ContentType="image/x-pict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65.pct" ContentType="image/x-pict"/>
  <Override PartName="/ppt/media/image5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61B-6DC0-4ABB-B27C-65EE1712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8DD-CFA1-4432-B95B-490C93C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9F8-7527-4807-B862-A76EEEEA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21F-F883-4820-AD9D-F219FF6B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808-6386-431F-AA5B-8D1E3A0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D7D-D879-4055-9A1D-31281D8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A7F-B73E-480F-8B48-9C268E6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4D7-E727-4C3C-9B58-B5EA70CC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C79-EEF2-4980-98E3-CF50DF50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814-1209-41E2-A735-D59E4B0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D43-7A7D-4FBF-8536-131B935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930-EEE7-4563-94E4-9C9B784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8E85-B203-4F6A-A01A-BA4541D5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wo Doze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solved Problem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Plane Ge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2667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27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7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209680" cy="16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2514600" cy="24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4876920"/>
            <a:ext cx="2514600" cy="16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72400" y="2438280"/>
            <a:ext cx="1185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≤ K(10) ≤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≤ K(11) ≤ 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≤ K(12) ≤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Kabanovitch showed K(13)=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 ≤ K(14) ≤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uki      showed K(15)=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3227400" cy="314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25146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how (n-2) ≤ K(n) ≤ n(n-1)(n-2)/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even known if K(n)=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line between any two points of S is also in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n-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given any n points in S, there exists a line between 2 of them that lies inside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4197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2-convex is the same as conve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5-pointed star is not convex but is 3-conv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743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entine and Eggleston showed that every 3-convex shape is the union of at most three convex sha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k so that every 4-convex shape is the union of k convex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either 5 or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n example of a      4-convex shape that is the union of no fewer than five convex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578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find the smallest collection of squares each touching 3 other squ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72400" y="1828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04812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each touching 3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where each touches 3 other squares along part of an e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24480" y="4952880"/>
            <a:ext cx="2210040" cy="165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53080" y="2819520"/>
            <a:ext cx="1922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so that each square touches 4 other squ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37339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so that each square touches 4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ack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8380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0492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522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8954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8006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3526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9144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9718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the smallest squares that we can pack 1 to 10 non-overlapping unit squares 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79880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square we can pack 11 unit squares i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one, with side 3.87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838080"/>
            <a:ext cx="7467480" cy="5562720"/>
          </a:xfrm>
          <a:custGeom>
            <a:avLst/>
            <a:gdLst/>
            <a:ahLst/>
            <a:rect l="l" t="t" r="r" b="b"/>
            <a:pathLst>
              <a:path w="4704" h="3504">
                <a:moveTo>
                  <a:pt x="288" y="0"/>
                </a:moveTo>
                <a:lnTo>
                  <a:pt x="1200" y="816"/>
                </a:lnTo>
                <a:lnTo>
                  <a:pt x="1728" y="240"/>
                </a:lnTo>
                <a:lnTo>
                  <a:pt x="1776" y="816"/>
                </a:lnTo>
                <a:lnTo>
                  <a:pt x="3072" y="720"/>
                </a:lnTo>
                <a:lnTo>
                  <a:pt x="2448" y="240"/>
                </a:lnTo>
                <a:lnTo>
                  <a:pt x="4416" y="672"/>
                </a:lnTo>
                <a:lnTo>
                  <a:pt x="4704" y="1632"/>
                </a:lnTo>
                <a:lnTo>
                  <a:pt x="3168" y="1824"/>
                </a:lnTo>
                <a:lnTo>
                  <a:pt x="4368" y="2256"/>
                </a:lnTo>
                <a:lnTo>
                  <a:pt x="4704" y="3216"/>
                </a:lnTo>
                <a:lnTo>
                  <a:pt x="3168" y="3504"/>
                </a:lnTo>
                <a:lnTo>
                  <a:pt x="3984" y="2880"/>
                </a:lnTo>
                <a:lnTo>
                  <a:pt x="2640" y="2640"/>
                </a:lnTo>
                <a:lnTo>
                  <a:pt x="2400" y="2064"/>
                </a:lnTo>
                <a:lnTo>
                  <a:pt x="1920" y="3456"/>
                </a:lnTo>
                <a:lnTo>
                  <a:pt x="1344" y="2208"/>
                </a:lnTo>
                <a:lnTo>
                  <a:pt x="624" y="2832"/>
                </a:lnTo>
                <a:lnTo>
                  <a:pt x="0" y="2160"/>
                </a:lnTo>
                <a:lnTo>
                  <a:pt x="960" y="1680"/>
                </a:lnTo>
                <a:lnTo>
                  <a:pt x="336" y="960"/>
                </a:lnTo>
                <a:lnTo>
                  <a:pt x="288" y="0"/>
                </a:lnTo>
                <a:close/>
              </a:path>
            </a:pathLst>
          </a:custGeom>
          <a:solidFill>
            <a:srgbClr val="8bcc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acking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s the proportion of the plane that can be covered by non-overlapping copies of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ircle has packing                              density π/√12 ≈ .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nvex shape has the                  smallest packing den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29718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5257800" cy="4016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ctagon that has its corners smoothed by hyperbolas has packing density .9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88620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smallest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largest finit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52578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largest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                 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105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lar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57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i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odd n≥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olutions for n=3, 5, 7, and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581280" cy="1949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429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352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2 be cut into smaller integer-sided squares so that no square is used more than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9 be cut into consecutive squares so that each size is used either once or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tile a square with distinct squares, are there always at least two squares with only four neighb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Cutting Squares into Rectangles of Equal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n, are there only finitely many ways to cut a square into n rectangles of equal ar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800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3880"/>
            <a:ext cx="7086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8195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72000" cy="1882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64832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248520" cy="3624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pies needed in such a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les are                                           order 2 rep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28191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35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known reptile of order 2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r = √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reptiles of order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9076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14 known classes of convex pentagons that can be used to tile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90920" cy="147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895480" cy="1650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72200" y="2895480"/>
            <a:ext cx="2519280" cy="143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3124080" cy="177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2361960" cy="134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095880" y="4724280"/>
            <a:ext cx="2595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479680" cy="1389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1523880"/>
            <a:ext cx="2595600" cy="1484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80880" y="3124080"/>
            <a:ext cx="2743200" cy="1568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28600" y="4876920"/>
            <a:ext cx="2895480" cy="1596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4952880"/>
            <a:ext cx="2276280" cy="162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72200" y="3200400"/>
            <a:ext cx="2455920" cy="165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76720" y="3276720"/>
            <a:ext cx="2635200" cy="146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5880" y="5105520"/>
            <a:ext cx="236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one tile so that each tile touches exactly n other tiles, for n=6, 7, 8, 9, 10, 12, 14, 16, and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two tiles so that each tile touches exactly n other tiles, for n=11, 13, and 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867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his be done for other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421160" cy="209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141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 or counterexample is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some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ite S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13716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76212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7524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2670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38862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57150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6386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points S is i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3 points of S lie on a line and no 4 points of S lie on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ee n points in the plane determine n(n-1)/2 =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find n points in general position so that one distance occurs once, one distance occurs twice,…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04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4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495680" cy="2449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3520" y="487692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by  Pilásti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olutions for n≥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rbitrarily larg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7. Perpendicular Bis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 points below have the property that the perpendicular bisector of the line between any 2 points contains 2 other points of th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1148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sets of points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points can be in general position so the distance between each pair of points is an integ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7315200" cy="2584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" y="3809880"/>
            <a:ext cx="2286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with 4 points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2438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ch found a set of 6 points with this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larger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867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rch of 2007, Tobias Kreisel and Sascha Kurz found a 7 point set with integer distan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8592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attice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int (x,y) in the plane, where x and 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hape that has area at least π/4 can be translated and rotated so that it covers at least 2 lattic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&gt;2, what is the smallest area A so that every shape with area at least A can be moved to cover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convex shape                          with area 4/3 that covers                               a lattice point, no matter                           how it is pla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maller shape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onvex shape of the smallest possible area that must cover at least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ur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160" y="446040"/>
            <a:ext cx="7832880" cy="5878440"/>
          </a:xfrm>
          <a:custGeom>
            <a:avLst/>
            <a:gdLst/>
            <a:ahLst/>
            <a:rect l="l" t="t" r="r" b="b"/>
            <a:pathLst>
              <a:path w="4934" h="3566">
                <a:moveTo>
                  <a:pt x="1709" y="2082"/>
                </a:moveTo>
                <a:cubicBezTo>
                  <a:pt x="1670" y="2080"/>
                  <a:pt x="1631" y="2080"/>
                  <a:pt x="1593" y="2076"/>
                </a:cubicBezTo>
                <a:cubicBezTo>
                  <a:pt x="1584" y="2074"/>
                  <a:pt x="1577" y="2066"/>
                  <a:pt x="1569" y="2064"/>
                </a:cubicBezTo>
                <a:cubicBezTo>
                  <a:pt x="1472" y="2032"/>
                  <a:pt x="1611" y="2089"/>
                  <a:pt x="1502" y="2046"/>
                </a:cubicBezTo>
                <a:cubicBezTo>
                  <a:pt x="1467" y="2032"/>
                  <a:pt x="1442" y="2007"/>
                  <a:pt x="1410" y="1991"/>
                </a:cubicBezTo>
                <a:cubicBezTo>
                  <a:pt x="1315" y="1943"/>
                  <a:pt x="1197" y="1805"/>
                  <a:pt x="1154" y="1710"/>
                </a:cubicBezTo>
                <a:cubicBezTo>
                  <a:pt x="1130" y="1658"/>
                  <a:pt x="1124" y="1605"/>
                  <a:pt x="1111" y="1551"/>
                </a:cubicBezTo>
                <a:cubicBezTo>
                  <a:pt x="1113" y="1498"/>
                  <a:pt x="1113" y="1444"/>
                  <a:pt x="1117" y="1392"/>
                </a:cubicBezTo>
                <a:cubicBezTo>
                  <a:pt x="1119" y="1354"/>
                  <a:pt x="1127" y="1351"/>
                  <a:pt x="1135" y="1313"/>
                </a:cubicBezTo>
                <a:cubicBezTo>
                  <a:pt x="1148" y="1248"/>
                  <a:pt x="1159" y="1182"/>
                  <a:pt x="1172" y="1118"/>
                </a:cubicBezTo>
                <a:cubicBezTo>
                  <a:pt x="1197" y="988"/>
                  <a:pt x="1222" y="859"/>
                  <a:pt x="1233" y="727"/>
                </a:cubicBezTo>
                <a:cubicBezTo>
                  <a:pt x="1229" y="670"/>
                  <a:pt x="1229" y="612"/>
                  <a:pt x="1221" y="556"/>
                </a:cubicBezTo>
                <a:cubicBezTo>
                  <a:pt x="1202" y="433"/>
                  <a:pt x="1100" y="308"/>
                  <a:pt x="1001" y="244"/>
                </a:cubicBezTo>
                <a:cubicBezTo>
                  <a:pt x="943" y="206"/>
                  <a:pt x="890" y="168"/>
                  <a:pt x="824" y="146"/>
                </a:cubicBezTo>
                <a:cubicBezTo>
                  <a:pt x="792" y="135"/>
                  <a:pt x="726" y="128"/>
                  <a:pt x="726" y="128"/>
                </a:cubicBezTo>
                <a:cubicBezTo>
                  <a:pt x="673" y="130"/>
                  <a:pt x="619" y="130"/>
                  <a:pt x="567" y="134"/>
                </a:cubicBezTo>
                <a:cubicBezTo>
                  <a:pt x="521" y="136"/>
                  <a:pt x="481" y="160"/>
                  <a:pt x="439" y="171"/>
                </a:cubicBezTo>
                <a:cubicBezTo>
                  <a:pt x="388" y="204"/>
                  <a:pt x="327" y="234"/>
                  <a:pt x="287" y="281"/>
                </a:cubicBezTo>
                <a:cubicBezTo>
                  <a:pt x="250" y="321"/>
                  <a:pt x="227" y="371"/>
                  <a:pt x="195" y="415"/>
                </a:cubicBezTo>
                <a:cubicBezTo>
                  <a:pt x="187" y="438"/>
                  <a:pt x="173" y="454"/>
                  <a:pt x="164" y="476"/>
                </a:cubicBezTo>
                <a:cubicBezTo>
                  <a:pt x="154" y="495"/>
                  <a:pt x="140" y="537"/>
                  <a:pt x="140" y="537"/>
                </a:cubicBezTo>
                <a:cubicBezTo>
                  <a:pt x="131" y="580"/>
                  <a:pt x="118" y="622"/>
                  <a:pt x="109" y="666"/>
                </a:cubicBezTo>
                <a:cubicBezTo>
                  <a:pt x="98" y="758"/>
                  <a:pt x="89" y="869"/>
                  <a:pt x="122" y="959"/>
                </a:cubicBezTo>
                <a:cubicBezTo>
                  <a:pt x="138" y="1003"/>
                  <a:pt x="183" y="1088"/>
                  <a:pt x="213" y="1124"/>
                </a:cubicBezTo>
                <a:cubicBezTo>
                  <a:pt x="260" y="1180"/>
                  <a:pt x="330" y="1227"/>
                  <a:pt x="372" y="1289"/>
                </a:cubicBezTo>
                <a:cubicBezTo>
                  <a:pt x="393" y="1321"/>
                  <a:pt x="428" y="1342"/>
                  <a:pt x="451" y="1374"/>
                </a:cubicBezTo>
                <a:cubicBezTo>
                  <a:pt x="478" y="1412"/>
                  <a:pt x="515" y="1456"/>
                  <a:pt x="549" y="1490"/>
                </a:cubicBezTo>
                <a:cubicBezTo>
                  <a:pt x="556" y="1512"/>
                  <a:pt x="572" y="1525"/>
                  <a:pt x="586" y="1545"/>
                </a:cubicBezTo>
                <a:cubicBezTo>
                  <a:pt x="592" y="1569"/>
                  <a:pt x="598" y="1589"/>
                  <a:pt x="610" y="1612"/>
                </a:cubicBezTo>
                <a:cubicBezTo>
                  <a:pt x="624" y="1671"/>
                  <a:pt x="629" y="1727"/>
                  <a:pt x="635" y="1789"/>
                </a:cubicBezTo>
                <a:cubicBezTo>
                  <a:pt x="632" y="1849"/>
                  <a:pt x="640" y="1964"/>
                  <a:pt x="610" y="2034"/>
                </a:cubicBezTo>
                <a:cubicBezTo>
                  <a:pt x="588" y="2080"/>
                  <a:pt x="582" y="2086"/>
                  <a:pt x="555" y="2131"/>
                </a:cubicBezTo>
                <a:cubicBezTo>
                  <a:pt x="550" y="2137"/>
                  <a:pt x="543" y="2150"/>
                  <a:pt x="543" y="2150"/>
                </a:cubicBezTo>
                <a:cubicBezTo>
                  <a:pt x="525" y="2220"/>
                  <a:pt x="450" y="2276"/>
                  <a:pt x="409" y="2333"/>
                </a:cubicBezTo>
                <a:cubicBezTo>
                  <a:pt x="375" y="2378"/>
                  <a:pt x="344" y="2427"/>
                  <a:pt x="311" y="2473"/>
                </a:cubicBezTo>
                <a:cubicBezTo>
                  <a:pt x="285" y="2508"/>
                  <a:pt x="269" y="2551"/>
                  <a:pt x="238" y="2583"/>
                </a:cubicBezTo>
                <a:cubicBezTo>
                  <a:pt x="214" y="2606"/>
                  <a:pt x="197" y="2622"/>
                  <a:pt x="177" y="2650"/>
                </a:cubicBezTo>
                <a:cubicBezTo>
                  <a:pt x="124" y="2723"/>
                  <a:pt x="86" y="2802"/>
                  <a:pt x="36" y="2876"/>
                </a:cubicBezTo>
                <a:cubicBezTo>
                  <a:pt x="22" y="2923"/>
                  <a:pt x="9" y="2968"/>
                  <a:pt x="0" y="3017"/>
                </a:cubicBezTo>
                <a:cubicBezTo>
                  <a:pt x="2" y="3053"/>
                  <a:pt x="1" y="3090"/>
                  <a:pt x="6" y="3127"/>
                </a:cubicBezTo>
                <a:cubicBezTo>
                  <a:pt x="10" y="3161"/>
                  <a:pt x="37" y="3188"/>
                  <a:pt x="54" y="3218"/>
                </a:cubicBezTo>
                <a:cubicBezTo>
                  <a:pt x="113" y="3325"/>
                  <a:pt x="187" y="3412"/>
                  <a:pt x="293" y="3475"/>
                </a:cubicBezTo>
                <a:cubicBezTo>
                  <a:pt x="330" y="3497"/>
                  <a:pt x="365" y="3521"/>
                  <a:pt x="409" y="3530"/>
                </a:cubicBezTo>
                <a:cubicBezTo>
                  <a:pt x="466" y="3552"/>
                  <a:pt x="530" y="3559"/>
                  <a:pt x="592" y="3566"/>
                </a:cubicBezTo>
                <a:cubicBezTo>
                  <a:pt x="669" y="3560"/>
                  <a:pt x="731" y="3541"/>
                  <a:pt x="806" y="3524"/>
                </a:cubicBezTo>
                <a:cubicBezTo>
                  <a:pt x="840" y="3506"/>
                  <a:pt x="878" y="3480"/>
                  <a:pt x="916" y="3469"/>
                </a:cubicBezTo>
                <a:cubicBezTo>
                  <a:pt x="944" y="3449"/>
                  <a:pt x="972" y="3427"/>
                  <a:pt x="1001" y="3408"/>
                </a:cubicBezTo>
                <a:cubicBezTo>
                  <a:pt x="1027" y="3366"/>
                  <a:pt x="1068" y="3336"/>
                  <a:pt x="1099" y="3298"/>
                </a:cubicBezTo>
                <a:cubicBezTo>
                  <a:pt x="1160" y="3219"/>
                  <a:pt x="1212" y="3132"/>
                  <a:pt x="1294" y="3072"/>
                </a:cubicBezTo>
                <a:cubicBezTo>
                  <a:pt x="1347" y="2987"/>
                  <a:pt x="1468" y="2904"/>
                  <a:pt x="1557" y="2858"/>
                </a:cubicBezTo>
                <a:cubicBezTo>
                  <a:pt x="1589" y="2841"/>
                  <a:pt x="1631" y="2812"/>
                  <a:pt x="1667" y="2803"/>
                </a:cubicBezTo>
                <a:cubicBezTo>
                  <a:pt x="1686" y="2797"/>
                  <a:pt x="1728" y="2791"/>
                  <a:pt x="1728" y="2791"/>
                </a:cubicBezTo>
                <a:cubicBezTo>
                  <a:pt x="1764" y="2796"/>
                  <a:pt x="1795" y="2806"/>
                  <a:pt x="1831" y="2815"/>
                </a:cubicBezTo>
                <a:cubicBezTo>
                  <a:pt x="1836" y="2820"/>
                  <a:pt x="1866" y="2838"/>
                  <a:pt x="1868" y="2840"/>
                </a:cubicBezTo>
                <a:cubicBezTo>
                  <a:pt x="1874" y="2846"/>
                  <a:pt x="1875" y="2856"/>
                  <a:pt x="1880" y="2864"/>
                </a:cubicBezTo>
                <a:cubicBezTo>
                  <a:pt x="1904" y="2903"/>
                  <a:pt x="1930" y="2940"/>
                  <a:pt x="1954" y="2980"/>
                </a:cubicBezTo>
                <a:cubicBezTo>
                  <a:pt x="1962" y="2995"/>
                  <a:pt x="1978" y="3006"/>
                  <a:pt x="1984" y="3023"/>
                </a:cubicBezTo>
                <a:cubicBezTo>
                  <a:pt x="1990" y="3041"/>
                  <a:pt x="1999" y="3060"/>
                  <a:pt x="2009" y="3078"/>
                </a:cubicBezTo>
                <a:cubicBezTo>
                  <a:pt x="2016" y="3090"/>
                  <a:pt x="2033" y="3115"/>
                  <a:pt x="2033" y="3115"/>
                </a:cubicBezTo>
                <a:cubicBezTo>
                  <a:pt x="2041" y="3148"/>
                  <a:pt x="2061" y="3159"/>
                  <a:pt x="2076" y="3188"/>
                </a:cubicBezTo>
                <a:cubicBezTo>
                  <a:pt x="2086" y="3208"/>
                  <a:pt x="2076" y="3205"/>
                  <a:pt x="2094" y="3224"/>
                </a:cubicBezTo>
                <a:cubicBezTo>
                  <a:pt x="2129" y="3260"/>
                  <a:pt x="2096" y="3216"/>
                  <a:pt x="2125" y="3249"/>
                </a:cubicBezTo>
                <a:cubicBezTo>
                  <a:pt x="2143" y="3270"/>
                  <a:pt x="2145" y="3282"/>
                  <a:pt x="2173" y="3292"/>
                </a:cubicBezTo>
                <a:cubicBezTo>
                  <a:pt x="2216" y="3331"/>
                  <a:pt x="2262" y="3341"/>
                  <a:pt x="2320" y="3347"/>
                </a:cubicBezTo>
                <a:cubicBezTo>
                  <a:pt x="2330" y="3346"/>
                  <a:pt x="2434" y="3343"/>
                  <a:pt x="2467" y="3334"/>
                </a:cubicBezTo>
                <a:cubicBezTo>
                  <a:pt x="2473" y="3331"/>
                  <a:pt x="2478" y="3324"/>
                  <a:pt x="2485" y="3322"/>
                </a:cubicBezTo>
                <a:cubicBezTo>
                  <a:pt x="2494" y="3318"/>
                  <a:pt x="2505" y="3318"/>
                  <a:pt x="2515" y="3316"/>
                </a:cubicBezTo>
                <a:cubicBezTo>
                  <a:pt x="2597" y="3264"/>
                  <a:pt x="2640" y="3171"/>
                  <a:pt x="2705" y="3102"/>
                </a:cubicBezTo>
                <a:cubicBezTo>
                  <a:pt x="2712" y="3079"/>
                  <a:pt x="2725" y="3062"/>
                  <a:pt x="2735" y="3041"/>
                </a:cubicBezTo>
                <a:cubicBezTo>
                  <a:pt x="2742" y="3024"/>
                  <a:pt x="2760" y="2992"/>
                  <a:pt x="2760" y="2992"/>
                </a:cubicBezTo>
                <a:cubicBezTo>
                  <a:pt x="2770" y="2948"/>
                  <a:pt x="2792" y="2904"/>
                  <a:pt x="2809" y="2864"/>
                </a:cubicBezTo>
                <a:cubicBezTo>
                  <a:pt x="2813" y="2854"/>
                  <a:pt x="2821" y="2834"/>
                  <a:pt x="2821" y="2834"/>
                </a:cubicBezTo>
                <a:cubicBezTo>
                  <a:pt x="2831" y="2779"/>
                  <a:pt x="2848" y="2719"/>
                  <a:pt x="2870" y="2669"/>
                </a:cubicBezTo>
                <a:cubicBezTo>
                  <a:pt x="2881" y="2610"/>
                  <a:pt x="2889" y="2553"/>
                  <a:pt x="2912" y="2498"/>
                </a:cubicBezTo>
                <a:cubicBezTo>
                  <a:pt x="2941" y="2343"/>
                  <a:pt x="3046" y="2288"/>
                  <a:pt x="3181" y="2235"/>
                </a:cubicBezTo>
                <a:cubicBezTo>
                  <a:pt x="3382" y="2241"/>
                  <a:pt x="3324" y="2228"/>
                  <a:pt x="3438" y="2272"/>
                </a:cubicBezTo>
                <a:cubicBezTo>
                  <a:pt x="3520" y="2354"/>
                  <a:pt x="3547" y="2471"/>
                  <a:pt x="3566" y="2583"/>
                </a:cubicBezTo>
                <a:cubicBezTo>
                  <a:pt x="3568" y="2630"/>
                  <a:pt x="3570" y="2676"/>
                  <a:pt x="3572" y="2724"/>
                </a:cubicBezTo>
                <a:cubicBezTo>
                  <a:pt x="3577" y="2965"/>
                  <a:pt x="3528" y="3316"/>
                  <a:pt x="3792" y="3450"/>
                </a:cubicBezTo>
                <a:cubicBezTo>
                  <a:pt x="3831" y="3470"/>
                  <a:pt x="3826" y="3483"/>
                  <a:pt x="3883" y="3493"/>
                </a:cubicBezTo>
                <a:cubicBezTo>
                  <a:pt x="3930" y="3500"/>
                  <a:pt x="3975" y="3507"/>
                  <a:pt x="4024" y="3512"/>
                </a:cubicBezTo>
                <a:cubicBezTo>
                  <a:pt x="4029" y="3511"/>
                  <a:pt x="4129" y="3510"/>
                  <a:pt x="4164" y="3499"/>
                </a:cubicBezTo>
                <a:cubicBezTo>
                  <a:pt x="4191" y="3490"/>
                  <a:pt x="4215" y="3475"/>
                  <a:pt x="4244" y="3469"/>
                </a:cubicBezTo>
                <a:cubicBezTo>
                  <a:pt x="4292" y="3430"/>
                  <a:pt x="4356" y="3407"/>
                  <a:pt x="4408" y="3371"/>
                </a:cubicBezTo>
                <a:cubicBezTo>
                  <a:pt x="4462" y="3333"/>
                  <a:pt x="4519" y="3282"/>
                  <a:pt x="4561" y="3231"/>
                </a:cubicBezTo>
                <a:cubicBezTo>
                  <a:pt x="4584" y="3202"/>
                  <a:pt x="4598" y="3172"/>
                  <a:pt x="4622" y="3145"/>
                </a:cubicBezTo>
                <a:cubicBezTo>
                  <a:pt x="4655" y="3104"/>
                  <a:pt x="4678" y="3057"/>
                  <a:pt x="4702" y="3011"/>
                </a:cubicBezTo>
                <a:cubicBezTo>
                  <a:pt x="4716" y="2983"/>
                  <a:pt x="4738" y="2925"/>
                  <a:pt x="4738" y="2925"/>
                </a:cubicBezTo>
                <a:cubicBezTo>
                  <a:pt x="4740" y="2904"/>
                  <a:pt x="4741" y="2884"/>
                  <a:pt x="4744" y="2864"/>
                </a:cubicBezTo>
                <a:cubicBezTo>
                  <a:pt x="4745" y="2853"/>
                  <a:pt x="4748" y="2844"/>
                  <a:pt x="4750" y="2834"/>
                </a:cubicBezTo>
                <a:cubicBezTo>
                  <a:pt x="4755" y="2791"/>
                  <a:pt x="4763" y="2705"/>
                  <a:pt x="4763" y="2705"/>
                </a:cubicBezTo>
                <a:cubicBezTo>
                  <a:pt x="4761" y="2605"/>
                  <a:pt x="4761" y="2505"/>
                  <a:pt x="4757" y="2406"/>
                </a:cubicBezTo>
                <a:cubicBezTo>
                  <a:pt x="4755" y="2364"/>
                  <a:pt x="4707" y="2254"/>
                  <a:pt x="4689" y="2211"/>
                </a:cubicBezTo>
                <a:cubicBezTo>
                  <a:pt x="4676" y="2108"/>
                  <a:pt x="4652" y="2006"/>
                  <a:pt x="4634" y="1905"/>
                </a:cubicBezTo>
                <a:cubicBezTo>
                  <a:pt x="4622" y="1842"/>
                  <a:pt x="4619" y="1777"/>
                  <a:pt x="4604" y="1716"/>
                </a:cubicBezTo>
                <a:cubicBezTo>
                  <a:pt x="4589" y="1558"/>
                  <a:pt x="4595" y="1465"/>
                  <a:pt x="4702" y="1350"/>
                </a:cubicBezTo>
                <a:cubicBezTo>
                  <a:pt x="4736" y="1313"/>
                  <a:pt x="4764" y="1271"/>
                  <a:pt x="4799" y="1234"/>
                </a:cubicBezTo>
                <a:cubicBezTo>
                  <a:pt x="4810" y="1221"/>
                  <a:pt x="4836" y="1197"/>
                  <a:pt x="4836" y="1197"/>
                </a:cubicBezTo>
                <a:cubicBezTo>
                  <a:pt x="4860" y="1145"/>
                  <a:pt x="4890" y="1095"/>
                  <a:pt x="4915" y="1044"/>
                </a:cubicBezTo>
                <a:cubicBezTo>
                  <a:pt x="4921" y="1013"/>
                  <a:pt x="4927" y="983"/>
                  <a:pt x="4934" y="953"/>
                </a:cubicBezTo>
                <a:cubicBezTo>
                  <a:pt x="4932" y="921"/>
                  <a:pt x="4933" y="802"/>
                  <a:pt x="4915" y="757"/>
                </a:cubicBezTo>
                <a:cubicBezTo>
                  <a:pt x="4813" y="504"/>
                  <a:pt x="4601" y="277"/>
                  <a:pt x="4347" y="171"/>
                </a:cubicBezTo>
                <a:cubicBezTo>
                  <a:pt x="4264" y="136"/>
                  <a:pt x="4181" y="123"/>
                  <a:pt x="4097" y="98"/>
                </a:cubicBezTo>
                <a:cubicBezTo>
                  <a:pt x="3999" y="68"/>
                  <a:pt x="3911" y="52"/>
                  <a:pt x="3810" y="43"/>
                </a:cubicBezTo>
                <a:cubicBezTo>
                  <a:pt x="3670" y="13"/>
                  <a:pt x="3524" y="5"/>
                  <a:pt x="3383" y="0"/>
                </a:cubicBezTo>
                <a:cubicBezTo>
                  <a:pt x="3260" y="2"/>
                  <a:pt x="3138" y="2"/>
                  <a:pt x="3016" y="6"/>
                </a:cubicBezTo>
                <a:cubicBezTo>
                  <a:pt x="2933" y="8"/>
                  <a:pt x="2852" y="43"/>
                  <a:pt x="2772" y="61"/>
                </a:cubicBezTo>
                <a:cubicBezTo>
                  <a:pt x="2637" y="90"/>
                  <a:pt x="2495" y="115"/>
                  <a:pt x="2369" y="171"/>
                </a:cubicBezTo>
                <a:cubicBezTo>
                  <a:pt x="2277" y="210"/>
                  <a:pt x="2173" y="254"/>
                  <a:pt x="2106" y="330"/>
                </a:cubicBezTo>
                <a:cubicBezTo>
                  <a:pt x="2089" y="348"/>
                  <a:pt x="2071" y="364"/>
                  <a:pt x="2057" y="385"/>
                </a:cubicBezTo>
                <a:cubicBezTo>
                  <a:pt x="2043" y="404"/>
                  <a:pt x="2021" y="446"/>
                  <a:pt x="2021" y="446"/>
                </a:cubicBezTo>
                <a:cubicBezTo>
                  <a:pt x="2004" y="513"/>
                  <a:pt x="1997" y="521"/>
                  <a:pt x="2015" y="611"/>
                </a:cubicBezTo>
                <a:cubicBezTo>
                  <a:pt x="2017" y="625"/>
                  <a:pt x="2031" y="634"/>
                  <a:pt x="2039" y="647"/>
                </a:cubicBezTo>
                <a:cubicBezTo>
                  <a:pt x="2061" y="681"/>
                  <a:pt x="2100" y="727"/>
                  <a:pt x="2137" y="745"/>
                </a:cubicBezTo>
                <a:cubicBezTo>
                  <a:pt x="2199" y="807"/>
                  <a:pt x="2283" y="842"/>
                  <a:pt x="2363" y="879"/>
                </a:cubicBezTo>
                <a:cubicBezTo>
                  <a:pt x="2457" y="921"/>
                  <a:pt x="2546" y="953"/>
                  <a:pt x="2650" y="965"/>
                </a:cubicBezTo>
                <a:cubicBezTo>
                  <a:pt x="2764" y="963"/>
                  <a:pt x="2878" y="963"/>
                  <a:pt x="2992" y="959"/>
                </a:cubicBezTo>
                <a:cubicBezTo>
                  <a:pt x="3038" y="957"/>
                  <a:pt x="3085" y="951"/>
                  <a:pt x="3132" y="947"/>
                </a:cubicBezTo>
                <a:cubicBezTo>
                  <a:pt x="3156" y="944"/>
                  <a:pt x="3205" y="940"/>
                  <a:pt x="3205" y="940"/>
                </a:cubicBezTo>
                <a:cubicBezTo>
                  <a:pt x="3428" y="948"/>
                  <a:pt x="3331" y="934"/>
                  <a:pt x="3486" y="965"/>
                </a:cubicBezTo>
                <a:cubicBezTo>
                  <a:pt x="3512" y="970"/>
                  <a:pt x="3566" y="983"/>
                  <a:pt x="3566" y="983"/>
                </a:cubicBezTo>
                <a:cubicBezTo>
                  <a:pt x="3643" y="1021"/>
                  <a:pt x="3536" y="970"/>
                  <a:pt x="3615" y="1001"/>
                </a:cubicBezTo>
                <a:cubicBezTo>
                  <a:pt x="3644" y="1012"/>
                  <a:pt x="3672" y="1033"/>
                  <a:pt x="3700" y="1050"/>
                </a:cubicBezTo>
                <a:cubicBezTo>
                  <a:pt x="3720" y="1062"/>
                  <a:pt x="3731" y="1079"/>
                  <a:pt x="3755" y="1087"/>
                </a:cubicBezTo>
                <a:cubicBezTo>
                  <a:pt x="3839" y="1171"/>
                  <a:pt x="3940" y="1310"/>
                  <a:pt x="3969" y="1429"/>
                </a:cubicBezTo>
                <a:cubicBezTo>
                  <a:pt x="3982" y="1482"/>
                  <a:pt x="3988" y="1539"/>
                  <a:pt x="3999" y="1594"/>
                </a:cubicBezTo>
                <a:cubicBezTo>
                  <a:pt x="4020" y="1702"/>
                  <a:pt x="4036" y="1812"/>
                  <a:pt x="4036" y="1924"/>
                </a:cubicBezTo>
              </a:path>
            </a:pathLst>
          </a:custGeom>
          <a:noFill/>
          <a:ln w="38160">
            <a:solidFill>
              <a:srgbClr val="8bcc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 Worm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nvex set that contains a copy of every continuous curve of length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581280"/>
            <a:ext cx="3047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polygon found by Gerriets and Poole with area .28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4394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n curves that divides the plane into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ions, no two of which are inside exactly the same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ymmetric 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VD) is a collection of n congruent curves rotated about some point that forms a Venn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733560" cy="3686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590560" cy="2479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Ds can only exist for n pr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VDs for n=3 and n=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 known for n=2, 3, 5, 7, and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xample exist for n=1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8288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VD for n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484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2. Squares on Closed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every closed curve contain the vertices of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200400"/>
            <a:ext cx="419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known for boundaries of convex shapes, and piecewise differentiable curves without cus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3. Equichordal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P is a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quichord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f every chord of S that passes through P has 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7339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er of a circle is an equichord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 convex shape have more than one equichordal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426708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a unit equilateral triangle require 3 different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438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971440"/>
            <a:ext cx="3276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the Moser Spindle require 4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73248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32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est possible upper boun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rue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3886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. Conic Sections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Five Points of a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well known that given any 5 points in the plane, there is a unique (possibly degenerate) conic section passing through thos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closed curve (that is not an ellipse) with the property that any 5 points chosen from it determine an elli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|x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|y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are congruent overlapping triangles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ecture: The best bound i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0, 0, 1, 2, 5, 7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296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301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continues …11, 15, 20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59:54Z</dcterms:created>
  <dc:creator>Authorized User</dc:creator>
  <dc:description/>
  <dc:language>en-US</dc:language>
  <cp:lastModifiedBy>Erich Friedman</cp:lastModifiedBy>
  <dcterms:modified xsi:type="dcterms:W3CDTF">2008-02-18T04:27:11Z</dcterms:modified>
  <cp:revision>41</cp:revision>
  <dc:subject/>
  <dc:title>Unsolved Problems in Planar Geometry</dc:title>
</cp:coreProperties>
</file>