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9.png" ContentType="image/png"/>
  <Override PartName="/ppt/media/image57.png" ContentType="image/png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67.pct" ContentType="image/x-pict"/>
  <Override PartName="/ppt/media/image37.png" ContentType="image/png"/>
  <Override PartName="/ppt/media/image34.pct" ContentType="image/x-pict"/>
  <Override PartName="/ppt/media/image7.png" ContentType="image/png"/>
  <Override PartName="/ppt/media/image60.pct" ContentType="image/x-pict"/>
  <Override PartName="/ppt/media/image20.pct" ContentType="image/x-pict"/>
  <Override PartName="/ppt/media/image39.png" ContentType="image/png"/>
  <Override PartName="/ppt/media/image36.pct" ContentType="image/x-pict"/>
  <Override PartName="/ppt/media/image18.pct" ContentType="image/x-pict"/>
  <Override PartName="/ppt/media/image6.pct" ContentType="image/x-pict"/>
  <Override PartName="/ppt/media/image31.pct" ContentType="image/x-pict"/>
  <Override PartName="/ppt/media/image4.png" ContentType="image/png"/>
  <Override PartName="/ppt/media/image16.png" ContentType="image/png"/>
  <Override PartName="/ppt/media/image1.pct" ContentType="image/x-pict"/>
  <Override PartName="/ppt/media/image13.pct" ContentType="image/x-pict"/>
  <Override PartName="/ppt/media/image63.pct" ContentType="image/x-pict"/>
  <Override PartName="/ppt/media/image64.png" ContentType="image/png"/>
  <Override PartName="/ppt/media/image61.pct" ContentType="image/x-pict"/>
  <Override PartName="/ppt/media/image19.pct" ContentType="image/x-pict"/>
  <Override PartName="/ppt/media/image27.png" ContentType="image/png"/>
  <Override PartName="/ppt/media/image24.pct" ContentType="image/x-pict"/>
  <Override PartName="/ppt/media/image17.png" ContentType="image/png"/>
  <Override PartName="/ppt/media/image5.png" ContentType="image/png"/>
  <Override PartName="/ppt/media/image28.png" ContentType="image/png"/>
  <Override PartName="/ppt/media/image62.png" ContentType="image/png"/>
  <Override PartName="/ppt/media/image23.pct" ContentType="image/x-pict"/>
  <Override PartName="/ppt/media/image26.png" ContentType="image/png"/>
  <Override PartName="/ppt/media/image15.png" ContentType="image/png"/>
  <Override PartName="/ppt/media/image29.pct" ContentType="image/x-pict"/>
  <Override PartName="/ppt/media/image3.png" ContentType="image/png"/>
  <Override PartName="/ppt/media/image22.pct" ContentType="image/x-pict"/>
  <Override PartName="/ppt/media/image12.png" ContentType="image/png"/>
  <Override PartName="/ppt/media/image49.png" ContentType="image/png"/>
  <Override PartName="/ppt/media/image21.pct" ContentType="image/x-pict"/>
  <Override PartName="/ppt/media/image8.png" ContentType="image/png"/>
  <Override PartName="/ppt/media/image35.pct" ContentType="image/x-pict"/>
  <Override PartName="/ppt/media/image38.png" ContentType="image/png"/>
  <Override PartName="/ppt/media/image10.pct" ContentType="image/x-pict"/>
  <Override PartName="/ppt/media/image9.pct" ContentType="image/x-pict"/>
  <Override PartName="/ppt/media/image25.pct" ContentType="image/x-pict"/>
  <Override PartName="/ppt/media/image11.png" ContentType="image/png"/>
  <Override PartName="/ppt/media/image48.png" ContentType="image/png"/>
  <Override PartName="/ppt/media/image14.png" ContentType="image/png"/>
  <Override PartName="/ppt/media/image2.png" ContentType="image/png"/>
  <Override PartName="/ppt/media/image32.png" ContentType="image/png"/>
  <Override PartName="/ppt/media/image52.png" ContentType="image/png"/>
  <Override PartName="/ppt/media/image66.pct" ContentType="image/x-pict"/>
  <Override PartName="/ppt/media/image30.png" ContentType="image/png"/>
  <Override PartName="/ppt/media/image33.pct" ContentType="image/x-pict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58.pct" ContentType="image/x-pict"/>
  <Override PartName="/ppt/media/image44.png" ContentType="image/png"/>
  <Override PartName="/ppt/media/image45.png" ContentType="image/png"/>
  <Override PartName="/ppt/media/image46.png" ContentType="image/png"/>
  <Override PartName="/ppt/media/image47.png" ContentType="image/png"/>
  <Override PartName="/ppt/media/image50.png" ContentType="image/png"/>
  <Override PartName="/ppt/media/image65.pct" ContentType="image/x-pict"/>
  <Override PartName="/ppt/media/image5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6F9F3-7F20-4E05-9D01-673C455FE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1E908-278D-49F7-8A9B-CD0D6D209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4E21F-9830-4D0C-B419-868A186FB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74ECC-FE2B-4D51-A326-42156B3A3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0883F-EEF0-4103-B194-DFCDD1038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4F6C3-57F1-48A2-904C-8BD9CD7F4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A0B97-64C0-4C36-9DC0-1ABD06C2F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D23E4-93F6-427F-A5D8-6B08E02BF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C672D-5487-4B65-ABDC-BC63274DC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0DEA3-4929-4C8D-ADBE-2CCE93D19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3E7C7-FC7A-4CD6-AAF3-FEAC56660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C4E15-A442-4FB2-AE82-5605ADDC1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F8C04-99E2-4923-AC3A-FE9CB41F27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ct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ct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2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ct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ct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ct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ct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ct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pct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pct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pct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pct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1.pct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3.pct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4.pct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5.pct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6.pct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image" Target="../media/image40.png"/><Relationship Id="rId5" Type="http://schemas.openxmlformats.org/officeDocument/2006/relationships/image" Target="../media/image41.png"/><Relationship Id="rId6" Type="http://schemas.openxmlformats.org/officeDocument/2006/relationships/image" Target="../media/image42.png"/><Relationship Id="rId7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image" Target="../media/image45.png"/><Relationship Id="rId4" Type="http://schemas.openxmlformats.org/officeDocument/2006/relationships/image" Target="../media/image46.png"/><Relationship Id="rId5" Type="http://schemas.openxmlformats.org/officeDocument/2006/relationships/image" Target="../media/image47.png"/><Relationship Id="rId6" Type="http://schemas.openxmlformats.org/officeDocument/2006/relationships/image" Target="../media/image48.png"/><Relationship Id="rId7" Type="http://schemas.openxmlformats.org/officeDocument/2006/relationships/image" Target="../media/image49.png"/><Relationship Id="rId8" Type="http://schemas.openxmlformats.org/officeDocument/2006/relationships/image" Target="../media/image50.png"/><Relationship Id="rId9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53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58.pct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60.pct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61.pct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2.png"/><Relationship Id="rId3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63.pct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65.pct"/><Relationship Id="rId2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66.pct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67.pct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ct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11430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Two Dozen</a:t>
            </a: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Unsolved Problems</a:t>
            </a: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in Plane Geometry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514600" y="4266720"/>
            <a:ext cx="40384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rich Friedm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etso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/27/0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friedma@stetson.ed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934320" y="304920"/>
            <a:ext cx="1904760" cy="17636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304920" y="228600"/>
            <a:ext cx="2209680" cy="16527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152280" y="4114800"/>
            <a:ext cx="2514600" cy="24811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152280" y="2209680"/>
            <a:ext cx="1467000" cy="16765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5"/>
          <a:stretch/>
        </p:blipFill>
        <p:spPr>
          <a:xfrm>
            <a:off x="6477120" y="4876920"/>
            <a:ext cx="2514600" cy="16905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6"/>
          <a:stretch/>
        </p:blipFill>
        <p:spPr>
          <a:xfrm>
            <a:off x="7772400" y="2438280"/>
            <a:ext cx="118584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News Flash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191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5 ≤ K(10) ≤ 2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2 ≤ K(11) ≤ 3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8 ≤ K(12) ≤ 4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. Kabanovitch showed K(13)=47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3 ≤ K(14) ≤ 5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zuki      showed K(15)=65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5257800" y="3276720"/>
            <a:ext cx="3227400" cy="3146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5867280" y="1066680"/>
            <a:ext cx="2514600" cy="20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. Kabon Triangle Probl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904760"/>
            <a:ext cx="79250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fast does K(n) grow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sy to show (n-2) ≤ K(n) ≤ n(n-1)(n-2)/6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mura proved that K(n) ≤ n(n-2)/3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not even known if K(n)=o(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. n-Convex Se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6960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set S is called </a:t>
            </a:r>
            <a:r>
              <a:rPr b="0" lang="en-US" sz="3200" spc="-1" strike="noStrike">
                <a:solidFill>
                  <a:srgbClr val="993300"/>
                </a:solidFill>
                <a:latin typeface="Times New Roman"/>
              </a:rPr>
              <a:t>conve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f the line between any two points of S is also in 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set S is called </a:t>
            </a:r>
            <a:r>
              <a:rPr b="0" lang="en-US" sz="3200" spc="-1" strike="noStrike">
                <a:solidFill>
                  <a:srgbClr val="993300"/>
                </a:solidFill>
                <a:latin typeface="Times New Roman"/>
              </a:rPr>
              <a:t>n-conve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f given any n points in S, there exists a line between 2 of them that lies inside 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4419720"/>
            <a:ext cx="45720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us 2-convex is the same as convex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3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5-pointed star is not convex but is 3-convex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5486400" y="3886200"/>
            <a:ext cx="2743200" cy="259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. n-Convex Se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7543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lentine and Eggleston showed that every 3-convex shape is the union of at most three convex shap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4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the smallest number k so that every 4-convex shape is the union of k convex set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4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answer is either 5 or 6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. n-Convex Se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26668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re is an example of a      4-convex shape that is the union of no fewer than five convex se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3276720" y="1371600"/>
            <a:ext cx="5257800" cy="48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5. Squares Touching Squa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6858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sy to find the smallest collection of squares each touching 3 other squar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7772400" y="1828800"/>
            <a:ext cx="762120" cy="76212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685800" y="3048120"/>
            <a:ext cx="59436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the smallest collection of squares each touching 3 other squares at exactly one poin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85800" y="4876920"/>
            <a:ext cx="54864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the smallest number where each touches 3 other squares along part of an edg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6324480" y="4952880"/>
            <a:ext cx="2210040" cy="165276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6553080" y="2819520"/>
            <a:ext cx="192276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5. Squares Touching Squa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440" y="1828440"/>
            <a:ext cx="57913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the smallest collection of squares so that each square touches 4 other squar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6400800" y="1600200"/>
            <a:ext cx="2057400" cy="195912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685800" y="3733920"/>
            <a:ext cx="403848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the smallest collection so that each square touches 4 other squares at exactly one poin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724280" y="3581280"/>
            <a:ext cx="297180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8600" y="2285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Packing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62120" y="838080"/>
            <a:ext cx="2057400" cy="2057400"/>
          </a:xfrm>
          <a:prstGeom prst="ellipse">
            <a:avLst/>
          </a:prstGeom>
          <a:solidFill>
            <a:srgbClr val="8bcc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743200" y="304920"/>
            <a:ext cx="2057400" cy="2057400"/>
          </a:xfrm>
          <a:prstGeom prst="ellipse">
            <a:avLst/>
          </a:prstGeom>
          <a:solidFill>
            <a:srgbClr val="8bcc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800600" y="152280"/>
            <a:ext cx="2057400" cy="2057400"/>
          </a:xfrm>
          <a:prstGeom prst="ellipse">
            <a:avLst/>
          </a:prstGeom>
          <a:solidFill>
            <a:srgbClr val="8bcc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990720" y="2895480"/>
            <a:ext cx="2057400" cy="2057400"/>
          </a:xfrm>
          <a:prstGeom prst="ellipse">
            <a:avLst/>
          </a:prstGeom>
          <a:solidFill>
            <a:srgbClr val="8bcc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52280" y="4800600"/>
            <a:ext cx="2057400" cy="2057400"/>
          </a:xfrm>
          <a:prstGeom prst="ellipse">
            <a:avLst/>
          </a:prstGeom>
          <a:solidFill>
            <a:srgbClr val="8bcc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209680" y="4572000"/>
            <a:ext cx="2057400" cy="2057400"/>
          </a:xfrm>
          <a:prstGeom prst="ellipse">
            <a:avLst/>
          </a:prstGeom>
          <a:solidFill>
            <a:srgbClr val="8bcc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886200" y="3352680"/>
            <a:ext cx="2057400" cy="2057400"/>
          </a:xfrm>
          <a:prstGeom prst="ellipse">
            <a:avLst/>
          </a:prstGeom>
          <a:solidFill>
            <a:srgbClr val="8bcc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705720" y="914400"/>
            <a:ext cx="2057400" cy="2057400"/>
          </a:xfrm>
          <a:prstGeom prst="ellipse">
            <a:avLst/>
          </a:prstGeom>
          <a:solidFill>
            <a:srgbClr val="8bcc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58000" y="2971800"/>
            <a:ext cx="2057400" cy="2057400"/>
          </a:xfrm>
          <a:prstGeom prst="ellipse">
            <a:avLst/>
          </a:prstGeom>
          <a:solidFill>
            <a:srgbClr val="8bcc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562720" y="4572000"/>
            <a:ext cx="2057400" cy="2057400"/>
          </a:xfrm>
          <a:prstGeom prst="ellipse">
            <a:avLst/>
          </a:prstGeom>
          <a:solidFill>
            <a:srgbClr val="8bcc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6. Packing Unit Squa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33520" y="19807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re are the smallest squares that we can pack 1 to 10 non-overlapping unit squares int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533520" y="3200400"/>
            <a:ext cx="7988040" cy="307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6. Packing Unit Squa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905120"/>
            <a:ext cx="350532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the smallest square we can pack 11 unit squares in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it this one, with side 3.877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4191120" y="1828800"/>
            <a:ext cx="41148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62120" y="838080"/>
            <a:ext cx="7467480" cy="5562720"/>
          </a:xfrm>
          <a:custGeom>
            <a:avLst/>
            <a:gdLst/>
            <a:ahLst/>
            <a:rect l="l" t="t" r="r" b="b"/>
            <a:pathLst>
              <a:path w="4704" h="3504">
                <a:moveTo>
                  <a:pt x="288" y="0"/>
                </a:moveTo>
                <a:lnTo>
                  <a:pt x="1200" y="816"/>
                </a:lnTo>
                <a:lnTo>
                  <a:pt x="1728" y="240"/>
                </a:lnTo>
                <a:lnTo>
                  <a:pt x="1776" y="816"/>
                </a:lnTo>
                <a:lnTo>
                  <a:pt x="3072" y="720"/>
                </a:lnTo>
                <a:lnTo>
                  <a:pt x="2448" y="240"/>
                </a:lnTo>
                <a:lnTo>
                  <a:pt x="4416" y="672"/>
                </a:lnTo>
                <a:lnTo>
                  <a:pt x="4704" y="1632"/>
                </a:lnTo>
                <a:lnTo>
                  <a:pt x="3168" y="1824"/>
                </a:lnTo>
                <a:lnTo>
                  <a:pt x="4368" y="2256"/>
                </a:lnTo>
                <a:lnTo>
                  <a:pt x="4704" y="3216"/>
                </a:lnTo>
                <a:lnTo>
                  <a:pt x="3168" y="3504"/>
                </a:lnTo>
                <a:lnTo>
                  <a:pt x="3984" y="2880"/>
                </a:lnTo>
                <a:lnTo>
                  <a:pt x="2640" y="2640"/>
                </a:lnTo>
                <a:lnTo>
                  <a:pt x="2400" y="2064"/>
                </a:lnTo>
                <a:lnTo>
                  <a:pt x="1920" y="3456"/>
                </a:lnTo>
                <a:lnTo>
                  <a:pt x="1344" y="2208"/>
                </a:lnTo>
                <a:lnTo>
                  <a:pt x="624" y="2832"/>
                </a:lnTo>
                <a:lnTo>
                  <a:pt x="0" y="2160"/>
                </a:lnTo>
                <a:lnTo>
                  <a:pt x="960" y="1680"/>
                </a:lnTo>
                <a:lnTo>
                  <a:pt x="336" y="960"/>
                </a:lnTo>
                <a:lnTo>
                  <a:pt x="288" y="0"/>
                </a:lnTo>
                <a:close/>
              </a:path>
            </a:pathLst>
          </a:custGeom>
          <a:solidFill>
            <a:srgbClr val="8bccb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7. Smallest Packing Dens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3200" spc="-1" strike="noStrike">
                <a:solidFill>
                  <a:srgbClr val="993300"/>
                </a:solidFill>
                <a:latin typeface="Times New Roman"/>
              </a:rPr>
              <a:t>packing densit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a shape S is the proportion of the plane that can be covered by non-overlapping copies of 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circle has packing                              density π/√12 ≈ .90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convex shape has the                  smallest packing densit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5105520" y="3505320"/>
            <a:ext cx="2971800" cy="142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3276720" y="2362320"/>
            <a:ext cx="5257800" cy="401616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7. Smallest Packing Dens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761760" y="1828440"/>
            <a:ext cx="5638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octagon that has its corners smoothed by hyperbolas has packing density .902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62120" y="3886200"/>
            <a:ext cx="259056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is the smallest possibl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8487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8. Heesch Numb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37720" y="1523520"/>
            <a:ext cx="75438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3200" spc="-1" strike="noStrike">
                <a:solidFill>
                  <a:srgbClr val="993300"/>
                </a:solidFill>
                <a:latin typeface="Times New Roman"/>
              </a:rPr>
              <a:t>Heesch numb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a shape is the largest finite number of times it can be completely surrounded by copies of itself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838080" y="3352680"/>
            <a:ext cx="419112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example, the shape to the right has Heesch number 1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517920" cy="317520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838080" y="5257800"/>
            <a:ext cx="38102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the largest Heesch number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8487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8. Heesch Numb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828800"/>
            <a:ext cx="25909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hexagon with two external notches and 3 internal notches has Heesch number 4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886200" y="1295280"/>
            <a:ext cx="4660920" cy="519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380520" y="1676520"/>
            <a:ext cx="20574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highest known Heesch number is 5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2895480" y="533520"/>
            <a:ext cx="5956560" cy="601956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2"/>
          <p:cNvSpPr>
            <a:spLocks noGrp="1"/>
          </p:cNvSpPr>
          <p:nvPr>
            <p:ph type="title"/>
          </p:nvPr>
        </p:nvSpPr>
        <p:spPr>
          <a:xfrm>
            <a:off x="837720" y="228600"/>
            <a:ext cx="81536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8. Heesch                   Numb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80880" y="5105520"/>
            <a:ext cx="236232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is the larges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762120" y="685800"/>
            <a:ext cx="7467480" cy="557676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28600" y="2285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Tiling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4872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9. Cutting Rectangles int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gruent Non-Rectangular Par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09480" y="2437920"/>
            <a:ext cx="792504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which values of n is it possible to cut a rectangle into n equal non-rectangular part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triangles, we can do this for all even 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4876920"/>
            <a:ext cx="7391520" cy="122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4872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9. Cutting Rectangles int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gruent Non-Rectangular Par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09120" y="2057040"/>
            <a:ext cx="8001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lutions are known for odd n≥11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re are solutions for n=11 and n=15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09480" y="5638680"/>
            <a:ext cx="8001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marL="260640" indent="-260640">
              <a:lnSpc>
                <a:spcPct val="16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e there solutions for n=3, 5, 7, and 9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914400" y="3657600"/>
            <a:ext cx="3581280" cy="194940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4800600" y="3657600"/>
            <a:ext cx="3429000" cy="190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0. Cutting Squares Into Squa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33526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every square of side n≥22 be cut into smaller integer-sided squares so that no square is used more than twic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114800" y="1828800"/>
            <a:ext cx="441972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0. Cutting Squares Into Squa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3200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every square of side n≥29 be cut into consecutive squares so that each size is used either once or twic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4114800" y="1905120"/>
            <a:ext cx="43434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. Polygonal Illumination Probl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914400" y="2286000"/>
            <a:ext cx="7315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iven a polygon S constructed with mirrors as sides, and given a point P in the interior of S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 inside of 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letel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lluminated by 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ght source at P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495680" y="3657600"/>
            <a:ext cx="4191120" cy="25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457200" y="1828800"/>
            <a:ext cx="28195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we tile a square with distinct squares, are there always at least two squares with only four neighbor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3657600" y="1600200"/>
            <a:ext cx="4952880" cy="495288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0. Cutting Squares Into Squa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1. Cutting Squares into Rectangles of Equal Are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1532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each n, are there only finitely many ways to cut a square into n rectangles of equal area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2209680" y="3352680"/>
            <a:ext cx="4800600" cy="308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2. Aperiodic Ti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62120" y="1523880"/>
            <a:ext cx="7086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set of tiles is called </a:t>
            </a:r>
            <a:r>
              <a:rPr b="0" lang="en-US" sz="3200" spc="-1" strike="noStrike">
                <a:solidFill>
                  <a:srgbClr val="993300"/>
                </a:solidFill>
                <a:latin typeface="Times New Roman"/>
              </a:rPr>
              <a:t>aperiodi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f they tile the plane, but not in a periodic wa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62120" y="2819520"/>
            <a:ext cx="75438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nrose found this set of 2 colored aperiodic tiles, now called Penrose Ti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2209680" y="4267080"/>
            <a:ext cx="4572000" cy="188280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1676520" y="518148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i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477120" y="4648320"/>
            <a:ext cx="100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1523880" y="2133720"/>
            <a:ext cx="6248520" cy="362412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8487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2. Aperiodic Ti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37720" y="1523880"/>
            <a:ext cx="7543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is part of a tiling using Penrose Ti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38080" y="5943600"/>
            <a:ext cx="7543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 single tile which is aperiodic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3. Reptiles of Order Tw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3200" spc="-1" strike="noStrike">
                <a:solidFill>
                  <a:srgbClr val="993300"/>
                </a:solidFill>
                <a:latin typeface="Times New Roman"/>
              </a:rPr>
              <a:t>repti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shape that can be tiled with smaller copies of itself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3200" spc="-1" strike="noStrike">
                <a:solidFill>
                  <a:srgbClr val="993300"/>
                </a:solidFill>
                <a:latin typeface="Times New Roman"/>
              </a:rPr>
              <a:t>ord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a reptile is the smallest number of copies needed in such a til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iangles are                                           order 2 repti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4419720" y="4648320"/>
            <a:ext cx="2819160" cy="13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3. Reptiles of Order Tw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3530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only other known reptile of order 2 is show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re r = √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4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e there any other reptiles of order 2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4419720" y="2133720"/>
            <a:ext cx="4190760" cy="359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4. Tilings by Convex Pentag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re are 14 known classes of convex pentagons that can be used to tile the plan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380880" y="2819520"/>
            <a:ext cx="2590920" cy="147636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3200400" y="2819520"/>
            <a:ext cx="2895480" cy="165096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3"/>
          <a:stretch/>
        </p:blipFill>
        <p:spPr>
          <a:xfrm>
            <a:off x="6172200" y="2895480"/>
            <a:ext cx="2519280" cy="143532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4"/>
          <a:stretch/>
        </p:blipFill>
        <p:spPr>
          <a:xfrm>
            <a:off x="228600" y="4572000"/>
            <a:ext cx="3124080" cy="177948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5"/>
          <a:stretch/>
        </p:blipFill>
        <p:spPr>
          <a:xfrm>
            <a:off x="3505320" y="4800600"/>
            <a:ext cx="2361960" cy="134460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6"/>
          <a:stretch/>
        </p:blipFill>
        <p:spPr>
          <a:xfrm>
            <a:off x="6095880" y="4724280"/>
            <a:ext cx="2595600" cy="14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685800" y="6094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4. Tilings by Convex Pentag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80880" y="1523880"/>
            <a:ext cx="2479680" cy="138924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3200400" y="1447920"/>
            <a:ext cx="2666880" cy="152388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6095880" y="1523880"/>
            <a:ext cx="2595600" cy="148428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4"/>
          <a:stretch/>
        </p:blipFill>
        <p:spPr>
          <a:xfrm>
            <a:off x="380880" y="3124080"/>
            <a:ext cx="2743200" cy="156852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5"/>
          <a:stretch/>
        </p:blipFill>
        <p:spPr>
          <a:xfrm>
            <a:off x="228600" y="4876920"/>
            <a:ext cx="2895480" cy="159696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6"/>
          <a:stretch/>
        </p:blipFill>
        <p:spPr>
          <a:xfrm>
            <a:off x="3505320" y="4952880"/>
            <a:ext cx="2276280" cy="162252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7"/>
          <a:stretch/>
        </p:blipFill>
        <p:spPr>
          <a:xfrm>
            <a:off x="6172200" y="3200400"/>
            <a:ext cx="2455920" cy="16588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8"/>
          <a:stretch/>
        </p:blipFill>
        <p:spPr>
          <a:xfrm>
            <a:off x="3276720" y="3276720"/>
            <a:ext cx="2635200" cy="146052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6095880" y="5105520"/>
            <a:ext cx="2362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e there any mor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5. Tilings with a Constant Number of Neighbo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09120" y="2209680"/>
            <a:ext cx="3429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re are tilings of the plane using one tile so that each tile touches exactly n other tiles, for n=6, 7, 8, 9, 10, 12, 14, 16, and 21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4191120" y="1981080"/>
            <a:ext cx="441936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5. Tilings with a Constant Number of Neighbo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440" y="1905120"/>
            <a:ext cx="762012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re are tilings of the plane using two tiles so that each tile touches exactly n other tiles, for n=11, 13, and 15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85800" y="5867280"/>
            <a:ext cx="76201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be this be done for other values of 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990720" y="3581280"/>
            <a:ext cx="4421160" cy="20988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>
            <a:off x="5486400" y="3657600"/>
            <a:ext cx="2141640" cy="19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. Polygonal Illumination Probl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2120" y="2209320"/>
            <a:ext cx="76960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conjectured that for every S and P, the answer is y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proof or counterexample is know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ven this easier problem is open: Does every polygon S have some point P where a light source would illuminate the interior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Finite Sets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295280" y="1371600"/>
            <a:ext cx="228600" cy="228600"/>
          </a:xfrm>
          <a:prstGeom prst="ellipse">
            <a:avLst/>
          </a:prstGeom>
          <a:solidFill>
            <a:srgbClr val="8bcc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657600" y="762120"/>
            <a:ext cx="228600" cy="228600"/>
          </a:xfrm>
          <a:prstGeom prst="ellipse">
            <a:avLst/>
          </a:prstGeom>
          <a:solidFill>
            <a:srgbClr val="8bcc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400800" y="1752480"/>
            <a:ext cx="228600" cy="228600"/>
          </a:xfrm>
          <a:prstGeom prst="ellipse">
            <a:avLst/>
          </a:prstGeom>
          <a:solidFill>
            <a:srgbClr val="8bcc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09680" y="4267080"/>
            <a:ext cx="228600" cy="228600"/>
          </a:xfrm>
          <a:prstGeom prst="ellipse">
            <a:avLst/>
          </a:prstGeom>
          <a:solidFill>
            <a:srgbClr val="8bcc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638680" y="3886200"/>
            <a:ext cx="228600" cy="228600"/>
          </a:xfrm>
          <a:prstGeom prst="ellipse">
            <a:avLst/>
          </a:prstGeom>
          <a:solidFill>
            <a:srgbClr val="8bcc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8077320" y="5715000"/>
            <a:ext cx="228600" cy="228600"/>
          </a:xfrm>
          <a:prstGeom prst="ellipse">
            <a:avLst/>
          </a:prstGeom>
          <a:solidFill>
            <a:srgbClr val="8bcc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038480" y="5638680"/>
            <a:ext cx="228600" cy="228600"/>
          </a:xfrm>
          <a:prstGeom prst="ellipse">
            <a:avLst/>
          </a:prstGeom>
          <a:solidFill>
            <a:srgbClr val="8bcc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6. Distances Between Poi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set of points S is in </a:t>
            </a:r>
            <a:r>
              <a:rPr b="0" lang="en-US" sz="3200" spc="-1" strike="noStrike">
                <a:solidFill>
                  <a:srgbClr val="993300"/>
                </a:solidFill>
                <a:latin typeface="Times New Roman"/>
              </a:rPr>
              <a:t>general posi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f no 3 points of S lie on a line and no 4 points of S lie on a circ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sy to see n points in the plane determine n(n-1)/2 = 1+2+3+…+(n-1) distanc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we find n points in general position so that one distance occurs once, one distance occurs twice,…and one distance occurs n-1 tim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6. Distances Between Poi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50496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is easy t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 for small 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example fo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=4 is show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3962520" y="1981080"/>
            <a:ext cx="4495680" cy="244980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533520" y="4876920"/>
            <a:ext cx="65530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lutions are only known for n≤8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6. Distances Between Poi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5812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solution by  Pilásti for n=8 is shown to the righ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e there any solutions for n≥9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rdös offered $500 for arbitrarily large examp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4267080" y="1828800"/>
            <a:ext cx="438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7. Perpendicular Bisecto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0866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8 points below have the property that the perpendicular bisector of the line between any 2 points contains 2 other points of the se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85800" y="4114800"/>
            <a:ext cx="380988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e there any other sets of points with this propert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5257800" y="3429000"/>
            <a:ext cx="27432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8. Integer Distan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many points can be in general position so the distance between each pair of points is an integer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1371600" y="3962520"/>
            <a:ext cx="7315200" cy="258444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685800" y="3809880"/>
            <a:ext cx="2286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set with 4 points is show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8. Integer Distan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33160" y="1904760"/>
            <a:ext cx="24382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ech found a set of 6 points with this propert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e there larger set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2895480" y="1981080"/>
            <a:ext cx="5867640" cy="43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News Flash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6668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March of 2007, Tobias Kreisel and Sascha Kurz found a 7 point set with integer distance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3733920" y="1676520"/>
            <a:ext cx="4859280" cy="433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9. Lattice Poi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3200" spc="-1" strike="noStrike">
                <a:solidFill>
                  <a:srgbClr val="993300"/>
                </a:solidFill>
                <a:latin typeface="Times New Roman"/>
              </a:rPr>
              <a:t>lattice poi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point (x,y) in the plane, where x and y are integ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4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very shape that has area at least π/4 can be translated and rotated so that it covers at least 2 lattice poi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4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n&gt;2, what is the smallest area A so that every shape with area at least A can be moved to cover n lattice point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9. Lattice Poi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re is a convex shape                          with area 4/3 that covers                               a lattice point, no matter                           how it is placed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4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 smaller shape with this propert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4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the convex shape of the smallest possible area that must cover at least n lattice point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5410080" y="1828800"/>
            <a:ext cx="3048120" cy="20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. Polygonal Illumination Probl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14040" y="2209320"/>
            <a:ext cx="75438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non-polygonal regions, the conjecture is false, as shown by the example below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800600" y="3429000"/>
            <a:ext cx="3683160" cy="30481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14400" y="3733920"/>
            <a:ext cx="380988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top and bottom are elliptical arcs with foci shown, connected with some circular arc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Curves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776160" y="446040"/>
            <a:ext cx="7832880" cy="5878440"/>
          </a:xfrm>
          <a:custGeom>
            <a:avLst/>
            <a:gdLst/>
            <a:ahLst/>
            <a:rect l="l" t="t" r="r" b="b"/>
            <a:pathLst>
              <a:path w="4934" h="3566">
                <a:moveTo>
                  <a:pt x="1709" y="2082"/>
                </a:moveTo>
                <a:cubicBezTo>
                  <a:pt x="1670" y="2080"/>
                  <a:pt x="1631" y="2080"/>
                  <a:pt x="1593" y="2076"/>
                </a:cubicBezTo>
                <a:cubicBezTo>
                  <a:pt x="1584" y="2074"/>
                  <a:pt x="1577" y="2066"/>
                  <a:pt x="1569" y="2064"/>
                </a:cubicBezTo>
                <a:cubicBezTo>
                  <a:pt x="1472" y="2032"/>
                  <a:pt x="1611" y="2089"/>
                  <a:pt x="1502" y="2046"/>
                </a:cubicBezTo>
                <a:cubicBezTo>
                  <a:pt x="1467" y="2032"/>
                  <a:pt x="1442" y="2007"/>
                  <a:pt x="1410" y="1991"/>
                </a:cubicBezTo>
                <a:cubicBezTo>
                  <a:pt x="1315" y="1943"/>
                  <a:pt x="1197" y="1805"/>
                  <a:pt x="1154" y="1710"/>
                </a:cubicBezTo>
                <a:cubicBezTo>
                  <a:pt x="1130" y="1658"/>
                  <a:pt x="1124" y="1605"/>
                  <a:pt x="1111" y="1551"/>
                </a:cubicBezTo>
                <a:cubicBezTo>
                  <a:pt x="1113" y="1498"/>
                  <a:pt x="1113" y="1444"/>
                  <a:pt x="1117" y="1392"/>
                </a:cubicBezTo>
                <a:cubicBezTo>
                  <a:pt x="1119" y="1354"/>
                  <a:pt x="1127" y="1351"/>
                  <a:pt x="1135" y="1313"/>
                </a:cubicBezTo>
                <a:cubicBezTo>
                  <a:pt x="1148" y="1248"/>
                  <a:pt x="1159" y="1182"/>
                  <a:pt x="1172" y="1118"/>
                </a:cubicBezTo>
                <a:cubicBezTo>
                  <a:pt x="1197" y="988"/>
                  <a:pt x="1222" y="859"/>
                  <a:pt x="1233" y="727"/>
                </a:cubicBezTo>
                <a:cubicBezTo>
                  <a:pt x="1229" y="670"/>
                  <a:pt x="1229" y="612"/>
                  <a:pt x="1221" y="556"/>
                </a:cubicBezTo>
                <a:cubicBezTo>
                  <a:pt x="1202" y="433"/>
                  <a:pt x="1100" y="308"/>
                  <a:pt x="1001" y="244"/>
                </a:cubicBezTo>
                <a:cubicBezTo>
                  <a:pt x="943" y="206"/>
                  <a:pt x="890" y="168"/>
                  <a:pt x="824" y="146"/>
                </a:cubicBezTo>
                <a:cubicBezTo>
                  <a:pt x="792" y="135"/>
                  <a:pt x="726" y="128"/>
                  <a:pt x="726" y="128"/>
                </a:cubicBezTo>
                <a:cubicBezTo>
                  <a:pt x="673" y="130"/>
                  <a:pt x="619" y="130"/>
                  <a:pt x="567" y="134"/>
                </a:cubicBezTo>
                <a:cubicBezTo>
                  <a:pt x="521" y="136"/>
                  <a:pt x="481" y="160"/>
                  <a:pt x="439" y="171"/>
                </a:cubicBezTo>
                <a:cubicBezTo>
                  <a:pt x="388" y="204"/>
                  <a:pt x="327" y="234"/>
                  <a:pt x="287" y="281"/>
                </a:cubicBezTo>
                <a:cubicBezTo>
                  <a:pt x="250" y="321"/>
                  <a:pt x="227" y="371"/>
                  <a:pt x="195" y="415"/>
                </a:cubicBezTo>
                <a:cubicBezTo>
                  <a:pt x="187" y="438"/>
                  <a:pt x="173" y="454"/>
                  <a:pt x="164" y="476"/>
                </a:cubicBezTo>
                <a:cubicBezTo>
                  <a:pt x="154" y="495"/>
                  <a:pt x="140" y="537"/>
                  <a:pt x="140" y="537"/>
                </a:cubicBezTo>
                <a:cubicBezTo>
                  <a:pt x="131" y="580"/>
                  <a:pt x="118" y="622"/>
                  <a:pt x="109" y="666"/>
                </a:cubicBezTo>
                <a:cubicBezTo>
                  <a:pt x="98" y="758"/>
                  <a:pt x="89" y="869"/>
                  <a:pt x="122" y="959"/>
                </a:cubicBezTo>
                <a:cubicBezTo>
                  <a:pt x="138" y="1003"/>
                  <a:pt x="183" y="1088"/>
                  <a:pt x="213" y="1124"/>
                </a:cubicBezTo>
                <a:cubicBezTo>
                  <a:pt x="260" y="1180"/>
                  <a:pt x="330" y="1227"/>
                  <a:pt x="372" y="1289"/>
                </a:cubicBezTo>
                <a:cubicBezTo>
                  <a:pt x="393" y="1321"/>
                  <a:pt x="428" y="1342"/>
                  <a:pt x="451" y="1374"/>
                </a:cubicBezTo>
                <a:cubicBezTo>
                  <a:pt x="478" y="1412"/>
                  <a:pt x="515" y="1456"/>
                  <a:pt x="549" y="1490"/>
                </a:cubicBezTo>
                <a:cubicBezTo>
                  <a:pt x="556" y="1512"/>
                  <a:pt x="572" y="1525"/>
                  <a:pt x="586" y="1545"/>
                </a:cubicBezTo>
                <a:cubicBezTo>
                  <a:pt x="592" y="1569"/>
                  <a:pt x="598" y="1589"/>
                  <a:pt x="610" y="1612"/>
                </a:cubicBezTo>
                <a:cubicBezTo>
                  <a:pt x="624" y="1671"/>
                  <a:pt x="629" y="1727"/>
                  <a:pt x="635" y="1789"/>
                </a:cubicBezTo>
                <a:cubicBezTo>
                  <a:pt x="632" y="1849"/>
                  <a:pt x="640" y="1964"/>
                  <a:pt x="610" y="2034"/>
                </a:cubicBezTo>
                <a:cubicBezTo>
                  <a:pt x="588" y="2080"/>
                  <a:pt x="582" y="2086"/>
                  <a:pt x="555" y="2131"/>
                </a:cubicBezTo>
                <a:cubicBezTo>
                  <a:pt x="550" y="2137"/>
                  <a:pt x="543" y="2150"/>
                  <a:pt x="543" y="2150"/>
                </a:cubicBezTo>
                <a:cubicBezTo>
                  <a:pt x="525" y="2220"/>
                  <a:pt x="450" y="2276"/>
                  <a:pt x="409" y="2333"/>
                </a:cubicBezTo>
                <a:cubicBezTo>
                  <a:pt x="375" y="2378"/>
                  <a:pt x="344" y="2427"/>
                  <a:pt x="311" y="2473"/>
                </a:cubicBezTo>
                <a:cubicBezTo>
                  <a:pt x="285" y="2508"/>
                  <a:pt x="269" y="2551"/>
                  <a:pt x="238" y="2583"/>
                </a:cubicBezTo>
                <a:cubicBezTo>
                  <a:pt x="214" y="2606"/>
                  <a:pt x="197" y="2622"/>
                  <a:pt x="177" y="2650"/>
                </a:cubicBezTo>
                <a:cubicBezTo>
                  <a:pt x="124" y="2723"/>
                  <a:pt x="86" y="2802"/>
                  <a:pt x="36" y="2876"/>
                </a:cubicBezTo>
                <a:cubicBezTo>
                  <a:pt x="22" y="2923"/>
                  <a:pt x="9" y="2968"/>
                  <a:pt x="0" y="3017"/>
                </a:cubicBezTo>
                <a:cubicBezTo>
                  <a:pt x="2" y="3053"/>
                  <a:pt x="1" y="3090"/>
                  <a:pt x="6" y="3127"/>
                </a:cubicBezTo>
                <a:cubicBezTo>
                  <a:pt x="10" y="3161"/>
                  <a:pt x="37" y="3188"/>
                  <a:pt x="54" y="3218"/>
                </a:cubicBezTo>
                <a:cubicBezTo>
                  <a:pt x="113" y="3325"/>
                  <a:pt x="187" y="3412"/>
                  <a:pt x="293" y="3475"/>
                </a:cubicBezTo>
                <a:cubicBezTo>
                  <a:pt x="330" y="3497"/>
                  <a:pt x="365" y="3521"/>
                  <a:pt x="409" y="3530"/>
                </a:cubicBezTo>
                <a:cubicBezTo>
                  <a:pt x="466" y="3552"/>
                  <a:pt x="530" y="3559"/>
                  <a:pt x="592" y="3566"/>
                </a:cubicBezTo>
                <a:cubicBezTo>
                  <a:pt x="669" y="3560"/>
                  <a:pt x="731" y="3541"/>
                  <a:pt x="806" y="3524"/>
                </a:cubicBezTo>
                <a:cubicBezTo>
                  <a:pt x="840" y="3506"/>
                  <a:pt x="878" y="3480"/>
                  <a:pt x="916" y="3469"/>
                </a:cubicBezTo>
                <a:cubicBezTo>
                  <a:pt x="944" y="3449"/>
                  <a:pt x="972" y="3427"/>
                  <a:pt x="1001" y="3408"/>
                </a:cubicBezTo>
                <a:cubicBezTo>
                  <a:pt x="1027" y="3366"/>
                  <a:pt x="1068" y="3336"/>
                  <a:pt x="1099" y="3298"/>
                </a:cubicBezTo>
                <a:cubicBezTo>
                  <a:pt x="1160" y="3219"/>
                  <a:pt x="1212" y="3132"/>
                  <a:pt x="1294" y="3072"/>
                </a:cubicBezTo>
                <a:cubicBezTo>
                  <a:pt x="1347" y="2987"/>
                  <a:pt x="1468" y="2904"/>
                  <a:pt x="1557" y="2858"/>
                </a:cubicBezTo>
                <a:cubicBezTo>
                  <a:pt x="1589" y="2841"/>
                  <a:pt x="1631" y="2812"/>
                  <a:pt x="1667" y="2803"/>
                </a:cubicBezTo>
                <a:cubicBezTo>
                  <a:pt x="1686" y="2797"/>
                  <a:pt x="1728" y="2791"/>
                  <a:pt x="1728" y="2791"/>
                </a:cubicBezTo>
                <a:cubicBezTo>
                  <a:pt x="1764" y="2796"/>
                  <a:pt x="1795" y="2806"/>
                  <a:pt x="1831" y="2815"/>
                </a:cubicBezTo>
                <a:cubicBezTo>
                  <a:pt x="1836" y="2820"/>
                  <a:pt x="1866" y="2838"/>
                  <a:pt x="1868" y="2840"/>
                </a:cubicBezTo>
                <a:cubicBezTo>
                  <a:pt x="1874" y="2846"/>
                  <a:pt x="1875" y="2856"/>
                  <a:pt x="1880" y="2864"/>
                </a:cubicBezTo>
                <a:cubicBezTo>
                  <a:pt x="1904" y="2903"/>
                  <a:pt x="1930" y="2940"/>
                  <a:pt x="1954" y="2980"/>
                </a:cubicBezTo>
                <a:cubicBezTo>
                  <a:pt x="1962" y="2995"/>
                  <a:pt x="1978" y="3006"/>
                  <a:pt x="1984" y="3023"/>
                </a:cubicBezTo>
                <a:cubicBezTo>
                  <a:pt x="1990" y="3041"/>
                  <a:pt x="1999" y="3060"/>
                  <a:pt x="2009" y="3078"/>
                </a:cubicBezTo>
                <a:cubicBezTo>
                  <a:pt x="2016" y="3090"/>
                  <a:pt x="2033" y="3115"/>
                  <a:pt x="2033" y="3115"/>
                </a:cubicBezTo>
                <a:cubicBezTo>
                  <a:pt x="2041" y="3148"/>
                  <a:pt x="2061" y="3159"/>
                  <a:pt x="2076" y="3188"/>
                </a:cubicBezTo>
                <a:cubicBezTo>
                  <a:pt x="2086" y="3208"/>
                  <a:pt x="2076" y="3205"/>
                  <a:pt x="2094" y="3224"/>
                </a:cubicBezTo>
                <a:cubicBezTo>
                  <a:pt x="2129" y="3260"/>
                  <a:pt x="2096" y="3216"/>
                  <a:pt x="2125" y="3249"/>
                </a:cubicBezTo>
                <a:cubicBezTo>
                  <a:pt x="2143" y="3270"/>
                  <a:pt x="2145" y="3282"/>
                  <a:pt x="2173" y="3292"/>
                </a:cubicBezTo>
                <a:cubicBezTo>
                  <a:pt x="2216" y="3331"/>
                  <a:pt x="2262" y="3341"/>
                  <a:pt x="2320" y="3347"/>
                </a:cubicBezTo>
                <a:cubicBezTo>
                  <a:pt x="2330" y="3346"/>
                  <a:pt x="2434" y="3343"/>
                  <a:pt x="2467" y="3334"/>
                </a:cubicBezTo>
                <a:cubicBezTo>
                  <a:pt x="2473" y="3331"/>
                  <a:pt x="2478" y="3324"/>
                  <a:pt x="2485" y="3322"/>
                </a:cubicBezTo>
                <a:cubicBezTo>
                  <a:pt x="2494" y="3318"/>
                  <a:pt x="2505" y="3318"/>
                  <a:pt x="2515" y="3316"/>
                </a:cubicBezTo>
                <a:cubicBezTo>
                  <a:pt x="2597" y="3264"/>
                  <a:pt x="2640" y="3171"/>
                  <a:pt x="2705" y="3102"/>
                </a:cubicBezTo>
                <a:cubicBezTo>
                  <a:pt x="2712" y="3079"/>
                  <a:pt x="2725" y="3062"/>
                  <a:pt x="2735" y="3041"/>
                </a:cubicBezTo>
                <a:cubicBezTo>
                  <a:pt x="2742" y="3024"/>
                  <a:pt x="2760" y="2992"/>
                  <a:pt x="2760" y="2992"/>
                </a:cubicBezTo>
                <a:cubicBezTo>
                  <a:pt x="2770" y="2948"/>
                  <a:pt x="2792" y="2904"/>
                  <a:pt x="2809" y="2864"/>
                </a:cubicBezTo>
                <a:cubicBezTo>
                  <a:pt x="2813" y="2854"/>
                  <a:pt x="2821" y="2834"/>
                  <a:pt x="2821" y="2834"/>
                </a:cubicBezTo>
                <a:cubicBezTo>
                  <a:pt x="2831" y="2779"/>
                  <a:pt x="2848" y="2719"/>
                  <a:pt x="2870" y="2669"/>
                </a:cubicBezTo>
                <a:cubicBezTo>
                  <a:pt x="2881" y="2610"/>
                  <a:pt x="2889" y="2553"/>
                  <a:pt x="2912" y="2498"/>
                </a:cubicBezTo>
                <a:cubicBezTo>
                  <a:pt x="2941" y="2343"/>
                  <a:pt x="3046" y="2288"/>
                  <a:pt x="3181" y="2235"/>
                </a:cubicBezTo>
                <a:cubicBezTo>
                  <a:pt x="3382" y="2241"/>
                  <a:pt x="3324" y="2228"/>
                  <a:pt x="3438" y="2272"/>
                </a:cubicBezTo>
                <a:cubicBezTo>
                  <a:pt x="3520" y="2354"/>
                  <a:pt x="3547" y="2471"/>
                  <a:pt x="3566" y="2583"/>
                </a:cubicBezTo>
                <a:cubicBezTo>
                  <a:pt x="3568" y="2630"/>
                  <a:pt x="3570" y="2676"/>
                  <a:pt x="3572" y="2724"/>
                </a:cubicBezTo>
                <a:cubicBezTo>
                  <a:pt x="3577" y="2965"/>
                  <a:pt x="3528" y="3316"/>
                  <a:pt x="3792" y="3450"/>
                </a:cubicBezTo>
                <a:cubicBezTo>
                  <a:pt x="3831" y="3470"/>
                  <a:pt x="3826" y="3483"/>
                  <a:pt x="3883" y="3493"/>
                </a:cubicBezTo>
                <a:cubicBezTo>
                  <a:pt x="3930" y="3500"/>
                  <a:pt x="3975" y="3507"/>
                  <a:pt x="4024" y="3512"/>
                </a:cubicBezTo>
                <a:cubicBezTo>
                  <a:pt x="4029" y="3511"/>
                  <a:pt x="4129" y="3510"/>
                  <a:pt x="4164" y="3499"/>
                </a:cubicBezTo>
                <a:cubicBezTo>
                  <a:pt x="4191" y="3490"/>
                  <a:pt x="4215" y="3475"/>
                  <a:pt x="4244" y="3469"/>
                </a:cubicBezTo>
                <a:cubicBezTo>
                  <a:pt x="4292" y="3430"/>
                  <a:pt x="4356" y="3407"/>
                  <a:pt x="4408" y="3371"/>
                </a:cubicBezTo>
                <a:cubicBezTo>
                  <a:pt x="4462" y="3333"/>
                  <a:pt x="4519" y="3282"/>
                  <a:pt x="4561" y="3231"/>
                </a:cubicBezTo>
                <a:cubicBezTo>
                  <a:pt x="4584" y="3202"/>
                  <a:pt x="4598" y="3172"/>
                  <a:pt x="4622" y="3145"/>
                </a:cubicBezTo>
                <a:cubicBezTo>
                  <a:pt x="4655" y="3104"/>
                  <a:pt x="4678" y="3057"/>
                  <a:pt x="4702" y="3011"/>
                </a:cubicBezTo>
                <a:cubicBezTo>
                  <a:pt x="4716" y="2983"/>
                  <a:pt x="4738" y="2925"/>
                  <a:pt x="4738" y="2925"/>
                </a:cubicBezTo>
                <a:cubicBezTo>
                  <a:pt x="4740" y="2904"/>
                  <a:pt x="4741" y="2884"/>
                  <a:pt x="4744" y="2864"/>
                </a:cubicBezTo>
                <a:cubicBezTo>
                  <a:pt x="4745" y="2853"/>
                  <a:pt x="4748" y="2844"/>
                  <a:pt x="4750" y="2834"/>
                </a:cubicBezTo>
                <a:cubicBezTo>
                  <a:pt x="4755" y="2791"/>
                  <a:pt x="4763" y="2705"/>
                  <a:pt x="4763" y="2705"/>
                </a:cubicBezTo>
                <a:cubicBezTo>
                  <a:pt x="4761" y="2605"/>
                  <a:pt x="4761" y="2505"/>
                  <a:pt x="4757" y="2406"/>
                </a:cubicBezTo>
                <a:cubicBezTo>
                  <a:pt x="4755" y="2364"/>
                  <a:pt x="4707" y="2254"/>
                  <a:pt x="4689" y="2211"/>
                </a:cubicBezTo>
                <a:cubicBezTo>
                  <a:pt x="4676" y="2108"/>
                  <a:pt x="4652" y="2006"/>
                  <a:pt x="4634" y="1905"/>
                </a:cubicBezTo>
                <a:cubicBezTo>
                  <a:pt x="4622" y="1842"/>
                  <a:pt x="4619" y="1777"/>
                  <a:pt x="4604" y="1716"/>
                </a:cubicBezTo>
                <a:cubicBezTo>
                  <a:pt x="4589" y="1558"/>
                  <a:pt x="4595" y="1465"/>
                  <a:pt x="4702" y="1350"/>
                </a:cubicBezTo>
                <a:cubicBezTo>
                  <a:pt x="4736" y="1313"/>
                  <a:pt x="4764" y="1271"/>
                  <a:pt x="4799" y="1234"/>
                </a:cubicBezTo>
                <a:cubicBezTo>
                  <a:pt x="4810" y="1221"/>
                  <a:pt x="4836" y="1197"/>
                  <a:pt x="4836" y="1197"/>
                </a:cubicBezTo>
                <a:cubicBezTo>
                  <a:pt x="4860" y="1145"/>
                  <a:pt x="4890" y="1095"/>
                  <a:pt x="4915" y="1044"/>
                </a:cubicBezTo>
                <a:cubicBezTo>
                  <a:pt x="4921" y="1013"/>
                  <a:pt x="4927" y="983"/>
                  <a:pt x="4934" y="953"/>
                </a:cubicBezTo>
                <a:cubicBezTo>
                  <a:pt x="4932" y="921"/>
                  <a:pt x="4933" y="802"/>
                  <a:pt x="4915" y="757"/>
                </a:cubicBezTo>
                <a:cubicBezTo>
                  <a:pt x="4813" y="504"/>
                  <a:pt x="4601" y="277"/>
                  <a:pt x="4347" y="171"/>
                </a:cubicBezTo>
                <a:cubicBezTo>
                  <a:pt x="4264" y="136"/>
                  <a:pt x="4181" y="123"/>
                  <a:pt x="4097" y="98"/>
                </a:cubicBezTo>
                <a:cubicBezTo>
                  <a:pt x="3999" y="68"/>
                  <a:pt x="3911" y="52"/>
                  <a:pt x="3810" y="43"/>
                </a:cubicBezTo>
                <a:cubicBezTo>
                  <a:pt x="3670" y="13"/>
                  <a:pt x="3524" y="5"/>
                  <a:pt x="3383" y="0"/>
                </a:cubicBezTo>
                <a:cubicBezTo>
                  <a:pt x="3260" y="2"/>
                  <a:pt x="3138" y="2"/>
                  <a:pt x="3016" y="6"/>
                </a:cubicBezTo>
                <a:cubicBezTo>
                  <a:pt x="2933" y="8"/>
                  <a:pt x="2852" y="43"/>
                  <a:pt x="2772" y="61"/>
                </a:cubicBezTo>
                <a:cubicBezTo>
                  <a:pt x="2637" y="90"/>
                  <a:pt x="2495" y="115"/>
                  <a:pt x="2369" y="171"/>
                </a:cubicBezTo>
                <a:cubicBezTo>
                  <a:pt x="2277" y="210"/>
                  <a:pt x="2173" y="254"/>
                  <a:pt x="2106" y="330"/>
                </a:cubicBezTo>
                <a:cubicBezTo>
                  <a:pt x="2089" y="348"/>
                  <a:pt x="2071" y="364"/>
                  <a:pt x="2057" y="385"/>
                </a:cubicBezTo>
                <a:cubicBezTo>
                  <a:pt x="2043" y="404"/>
                  <a:pt x="2021" y="446"/>
                  <a:pt x="2021" y="446"/>
                </a:cubicBezTo>
                <a:cubicBezTo>
                  <a:pt x="2004" y="513"/>
                  <a:pt x="1997" y="521"/>
                  <a:pt x="2015" y="611"/>
                </a:cubicBezTo>
                <a:cubicBezTo>
                  <a:pt x="2017" y="625"/>
                  <a:pt x="2031" y="634"/>
                  <a:pt x="2039" y="647"/>
                </a:cubicBezTo>
                <a:cubicBezTo>
                  <a:pt x="2061" y="681"/>
                  <a:pt x="2100" y="727"/>
                  <a:pt x="2137" y="745"/>
                </a:cubicBezTo>
                <a:cubicBezTo>
                  <a:pt x="2199" y="807"/>
                  <a:pt x="2283" y="842"/>
                  <a:pt x="2363" y="879"/>
                </a:cubicBezTo>
                <a:cubicBezTo>
                  <a:pt x="2457" y="921"/>
                  <a:pt x="2546" y="953"/>
                  <a:pt x="2650" y="965"/>
                </a:cubicBezTo>
                <a:cubicBezTo>
                  <a:pt x="2764" y="963"/>
                  <a:pt x="2878" y="963"/>
                  <a:pt x="2992" y="959"/>
                </a:cubicBezTo>
                <a:cubicBezTo>
                  <a:pt x="3038" y="957"/>
                  <a:pt x="3085" y="951"/>
                  <a:pt x="3132" y="947"/>
                </a:cubicBezTo>
                <a:cubicBezTo>
                  <a:pt x="3156" y="944"/>
                  <a:pt x="3205" y="940"/>
                  <a:pt x="3205" y="940"/>
                </a:cubicBezTo>
                <a:cubicBezTo>
                  <a:pt x="3428" y="948"/>
                  <a:pt x="3331" y="934"/>
                  <a:pt x="3486" y="965"/>
                </a:cubicBezTo>
                <a:cubicBezTo>
                  <a:pt x="3512" y="970"/>
                  <a:pt x="3566" y="983"/>
                  <a:pt x="3566" y="983"/>
                </a:cubicBezTo>
                <a:cubicBezTo>
                  <a:pt x="3643" y="1021"/>
                  <a:pt x="3536" y="970"/>
                  <a:pt x="3615" y="1001"/>
                </a:cubicBezTo>
                <a:cubicBezTo>
                  <a:pt x="3644" y="1012"/>
                  <a:pt x="3672" y="1033"/>
                  <a:pt x="3700" y="1050"/>
                </a:cubicBezTo>
                <a:cubicBezTo>
                  <a:pt x="3720" y="1062"/>
                  <a:pt x="3731" y="1079"/>
                  <a:pt x="3755" y="1087"/>
                </a:cubicBezTo>
                <a:cubicBezTo>
                  <a:pt x="3839" y="1171"/>
                  <a:pt x="3940" y="1310"/>
                  <a:pt x="3969" y="1429"/>
                </a:cubicBezTo>
                <a:cubicBezTo>
                  <a:pt x="3982" y="1482"/>
                  <a:pt x="3988" y="1539"/>
                  <a:pt x="3999" y="1594"/>
                </a:cubicBezTo>
                <a:cubicBezTo>
                  <a:pt x="4020" y="1702"/>
                  <a:pt x="4036" y="1812"/>
                  <a:pt x="4036" y="1924"/>
                </a:cubicBezTo>
              </a:path>
            </a:pathLst>
          </a:custGeom>
          <a:noFill/>
          <a:ln w="38160">
            <a:solidFill>
              <a:srgbClr val="8bccb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0. Worm Probl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33520" y="1980720"/>
            <a:ext cx="80769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the smallest convex set that contains a copy of every continuous curve of length 1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33520" y="3581280"/>
            <a:ext cx="3047760" cy="26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it this polygon found by Gerriets and Poole with area .286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4114800" y="3733920"/>
            <a:ext cx="4394160" cy="23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1. Symmetric Venn Diagra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9246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3200" spc="-1" strike="noStrike">
                <a:solidFill>
                  <a:srgbClr val="993300"/>
                </a:solidFill>
                <a:latin typeface="Times New Roman"/>
              </a:rPr>
              <a:t>Venn diagra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collection of n curves that divides the plane into 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regions, no two of which are inside exactly the same curv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3200" spc="-1" strike="noStrike">
                <a:solidFill>
                  <a:srgbClr val="993300"/>
                </a:solidFill>
                <a:latin typeface="Times New Roman"/>
              </a:rPr>
              <a:t>symmetric Venn diagra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SVD) is a collection of n congruent curves rotated about some point that forms a Venn diagra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1. Symmetric Venn Diagra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5105520" y="2819520"/>
            <a:ext cx="3733560" cy="368604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1219320" y="3733920"/>
            <a:ext cx="2590560" cy="247968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457200" y="1828800"/>
            <a:ext cx="723888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VDs can only exist for n prim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5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re are SVDs for n=3 and n=5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1. Symmetric Venn Diagra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32004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s are known for n=2, 3, 5, 7, and 11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4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es an example exist for n=13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85800" y="1828800"/>
            <a:ext cx="2895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re is a SVD for n=7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3886200" y="1600200"/>
            <a:ext cx="484344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2. Squares on Closed Cur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es every closed curve contain the vertices of a squar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57200" y="3200400"/>
            <a:ext cx="419112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is known for boundaries of convex shapes, and piecewise differentiable curves without cusp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4648320" y="2819520"/>
            <a:ext cx="4038480" cy="313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3. Equichordal Poi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point P is an </a:t>
            </a:r>
            <a:r>
              <a:rPr b="0" lang="en-US" sz="3200" spc="-1" strike="noStrike">
                <a:solidFill>
                  <a:srgbClr val="993300"/>
                </a:solidFill>
                <a:latin typeface="Times New Roman"/>
              </a:rPr>
              <a:t>equichordal poi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a shape S if every chord of S that passes through P has the same lengt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85800" y="3733920"/>
            <a:ext cx="44956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enter of a circle is an equichordal poi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85800" y="5029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a convex shape have more than one equichordal poin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5715000" y="3200400"/>
            <a:ext cx="167652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4. Chromatic Number of the Pla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716292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the smallest number of colors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with which we can color the plane so that no two points of the same color are distance 1 apar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914400" y="4267080"/>
            <a:ext cx="426708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vertices of a unit equilateral triangle require 3 different colors, so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≥3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5562720" y="4191120"/>
            <a:ext cx="2438280" cy="211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/>
          </p:nvPr>
        </p:nvSpPr>
        <p:spPr>
          <a:xfrm>
            <a:off x="838080" y="2971440"/>
            <a:ext cx="3276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vertices of the Moser Spindle require 4 colors, so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≥4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4495680" y="1905120"/>
            <a:ext cx="3732480" cy="4267080"/>
          </a:xfrm>
          <a:prstGeom prst="rect">
            <a:avLst/>
          </a:prstGeom>
          <a:ln w="0">
            <a:noFill/>
          </a:ln>
        </p:spPr>
      </p:pic>
      <p:sp>
        <p:nvSpPr>
          <p:cNvPr id="266" name="PlaceHolder 2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4. Chromatic Number of the Pla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/>
          </p:nvPr>
        </p:nvSpPr>
        <p:spPr>
          <a:xfrm>
            <a:off x="761760" y="2514600"/>
            <a:ext cx="2971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plane can be colored with 7 colors to avoid unit pairs having the same color, so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≤7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4. Chromatic Number of the Pla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1"/>
          <a:stretch/>
        </p:blipFill>
        <p:spPr>
          <a:xfrm>
            <a:off x="4038480" y="1828800"/>
            <a:ext cx="432144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. Overlapping Polyg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62120" y="1676160"/>
            <a:ext cx="761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A and B be congruent overlapping rectangles with perimeters 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B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the best possible upper bound f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ngth(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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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 ------------------ 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ngth(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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6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known that 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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≤ 4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6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4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it true that 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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≤ 3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4876920" y="3429000"/>
            <a:ext cx="3886200" cy="26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5. Conic Sections Through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y Five Points of a Cur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well known that given any 5 points in the plane, there is a unique (possibly degenerate) conic section passing through those poi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 closed curve (that is not an ellipse) with the property that any 5 points chosen from it determine an ellips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about |x|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.00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+ |y|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.00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1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. Klee, Some Unsolved Problems in Plane Geometry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ath Mag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1979) 131-145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. Croft, K. Falconer, and R. Guy, Unsolved Problems in Geometry, Springer Verlag, New York, 1991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ric Weisstein’s World of Mathematics, http://mathworld.wolfram.c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Geometry Junkyard, http://www.ics.uci.edu/~eppstein/junky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. Overlapping Polyg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2120" y="1676160"/>
            <a:ext cx="761976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A and B are congruent overlapping triangles with smallest angle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with perimeters 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B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4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jecture: The best bound is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ngth(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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 ------------------ ≤ csc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2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ngth(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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. Kabon Triangle Probl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792504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many disjoint triangles can be created with n lin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equence K(n) starts 0, 0, 1, 2, 5, 7, .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8229600" cy="22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. Kabon Triangle Probl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685800" y="2362320"/>
            <a:ext cx="7924680" cy="301608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79250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equence continues …11, 15, 20,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09480" y="5638680"/>
            <a:ext cx="79250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K(10)?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23T18:59:54Z</dcterms:created>
  <dc:creator>Authorized User</dc:creator>
  <dc:description/>
  <dc:language>en-US</dc:language>
  <cp:lastModifiedBy>Erich Friedman</cp:lastModifiedBy>
  <dcterms:modified xsi:type="dcterms:W3CDTF">2008-02-18T04:27:11Z</dcterms:modified>
  <cp:revision>41</cp:revision>
  <dc:subject/>
  <dc:title>Unsolved Problems in Planar Geometry</dc:title>
</cp:coreProperties>
</file>