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ct" ContentType="image/x-pict"/>
  <Override PartName="/ppt/media/image55.pct" ContentType="image/x-pict"/>
  <Override PartName="/ppt/media/image54.pct" ContentType="image/x-pict"/>
  <Override PartName="/ppt/media/image53.pct" ContentType="image/x-pict"/>
  <Override PartName="/ppt/media/image52.pct" ContentType="image/x-pict"/>
  <Override PartName="/ppt/media/image51.pct" ContentType="image/x-pict"/>
  <Override PartName="/ppt/media/image50.pct" ContentType="image/x-pict"/>
  <Override PartName="/ppt/media/image46.pct" ContentType="image/x-pict"/>
  <Override PartName="/ppt/media/image45.pct" ContentType="image/x-pict"/>
  <Override PartName="/ppt/media/image44.pct" ContentType="image/x-pict"/>
  <Override PartName="/ppt/media/image43.pct" ContentType="image/x-pict"/>
  <Override PartName="/ppt/media/image42.pct" ContentType="image/x-pict"/>
  <Override PartName="/ppt/media/image41.pct" ContentType="image/x-pict"/>
  <Override PartName="/ppt/media/image40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13.pct" ContentType="image/x-pict"/>
  <Override PartName="/ppt/media/image1.pct" ContentType="image/x-pict"/>
  <Override PartName="/ppt/media/image20.pct" ContentType="image/x-pict"/>
  <Override PartName="/ppt/media/image57.pct" ContentType="image/x-pict"/>
  <Override PartName="/ppt/media/image21.pct" ContentType="image/x-pict"/>
  <Override PartName="/ppt/media/image58.pct" ContentType="image/x-pict"/>
  <Override PartName="/ppt/media/image22.pct" ContentType="image/x-pict"/>
  <Override PartName="/ppt/media/image59.pct" ContentType="image/x-pict"/>
  <Override PartName="/ppt/media/image23.pct" ContentType="image/x-pict"/>
  <Override PartName="/ppt/media/image60.pct" ContentType="image/x-pict"/>
  <Override PartName="/ppt/media/image24.pct" ContentType="image/x-pict"/>
  <Override PartName="/ppt/media/image61.pct" ContentType="image/x-pict"/>
  <Override PartName="/ppt/media/image25.pct" ContentType="image/x-pict"/>
  <Override PartName="/ppt/media/image62.pct" ContentType="image/x-pict"/>
  <Override PartName="/ppt/media/image63.pct" ContentType="image/x-pict"/>
  <Override PartName="/ppt/media/image64.pct" ContentType="image/x-pict"/>
  <Override PartName="/ppt/media/image65.pct" ContentType="image/x-pict"/>
  <Override PartName="/ppt/media/image78.pct" ContentType="image/x-pict"/>
  <Override PartName="/ppt/media/image31.pct" ContentType="image/x-pict"/>
  <Override PartName="/ppt/media/image68.pct" ContentType="image/x-pict"/>
  <Override PartName="/ppt/media/image66.pct" ContentType="image/x-pict"/>
  <Override PartName="/ppt/media/image77.pct" ContentType="image/x-pict"/>
  <Override PartName="/ppt/media/image76.pct" ContentType="image/x-pict"/>
  <Override PartName="/ppt/media/image75.pct" ContentType="image/x-pict"/>
  <Override PartName="/ppt/media/image74.pct" ContentType="image/x-pict"/>
  <Override PartName="/ppt/media/image73.pct" ContentType="image/x-pict"/>
  <Override PartName="/ppt/media/image72.pct" ContentType="image/x-pict"/>
  <Override PartName="/ppt/media/image71.pct" ContentType="image/x-pict"/>
  <Override PartName="/ppt/media/image29.pct" ContentType="image/x-pict"/>
  <Override PartName="/ppt/media/image69.pct" ContentType="image/x-pict"/>
  <Override PartName="/ppt/media/image32.pct" ContentType="image/x-pict"/>
  <Override PartName="/ppt/media/image70.pct" ContentType="image/x-pict"/>
  <Override PartName="/ppt/media/image28.pct" ContentType="image/x-pict"/>
  <Override PartName="/ppt/media/image67.pct" ContentType="image/x-pict"/>
  <Override PartName="/ppt/media/image2.pct" ContentType="image/x-pict"/>
  <Override PartName="/ppt/media/image14.pct" ContentType="image/x-pict"/>
  <Override PartName="/ppt/media/image26.pct" ContentType="image/x-pict"/>
  <Override PartName="/ppt/media/image15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16.pct" ContentType="image/x-pict"/>
  <Override PartName="/ppt/media/image4.pct" ContentType="image/x-pict"/>
  <Override PartName="/ppt/media/image34.pct" ContentType="image/x-pict"/>
  <Override PartName="/ppt/media/image17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18.pct" ContentType="image/x-pict"/>
  <Override PartName="/ppt/media/image6.pct" ContentType="image/x-pict"/>
  <Override PartName="/ppt/media/image36.pct" ContentType="image/x-pict"/>
  <Override PartName="/ppt/media/image11.pct" ContentType="image/x-pict"/>
  <Override PartName="/ppt/media/image48.pct" ContentType="image/x-pict"/>
  <Override PartName="/ppt/media/image19.pct" ContentType="image/x-pict"/>
  <Override PartName="/ppt/media/image7.pct" ContentType="image/x-pict"/>
  <Override PartName="/ppt/media/image37.pct" ContentType="image/x-pict"/>
  <Override PartName="/ppt/media/image12.pct" ContentType="image/x-pict"/>
  <Override PartName="/ppt/media/image49.pct" ContentType="image/x-pict"/>
  <Override PartName="/ppt/media/image8.pct" ContentType="image/x-pict"/>
  <Override PartName="/ppt/media/image38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6BA-E3A2-423B-AA04-60636922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AEC1-1C9F-46B0-A344-3E8CE4A2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6FE-3D12-44CC-BE1E-899698CA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985-71C6-4499-910E-03B26B5D1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628-B22F-4F8A-B206-1DEBBA17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0DFD-3B3C-42B6-9E75-86712EB1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E20-E385-435E-8D31-12ACF0A0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767-64B9-4DB5-B39C-D81FEE64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7E7-808D-412D-9CD5-89999BE5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EC62-7133-4E7B-A8DC-9AB202BC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650-A268-466D-AFA6-B5C7A0DD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3EB2-C7E3-48F5-85A8-B6A1026F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BC1A-D84F-4772-A7C5-52AC0A8D0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image" Target="../media/image21.pct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12.pct"/><Relationship Id="rId3" Type="http://schemas.openxmlformats.org/officeDocument/2006/relationships/image" Target="../media/image24.pct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image" Target="../media/image36.pct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38.pct"/><Relationship Id="rId3" Type="http://schemas.openxmlformats.org/officeDocument/2006/relationships/image" Target="../media/image39.pct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image" Target="../media/image41.pct"/><Relationship Id="rId3" Type="http://schemas.openxmlformats.org/officeDocument/2006/relationships/image" Target="../media/image42.pct"/><Relationship Id="rId4" Type="http://schemas.openxmlformats.org/officeDocument/2006/relationships/image" Target="../media/image43.pct"/><Relationship Id="rId5" Type="http://schemas.openxmlformats.org/officeDocument/2006/relationships/image" Target="../media/image44.pct"/><Relationship Id="rId6" Type="http://schemas.openxmlformats.org/officeDocument/2006/relationships/image" Target="../media/image45.pct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image" Target="../media/image47.pct"/><Relationship Id="rId3" Type="http://schemas.openxmlformats.org/officeDocument/2006/relationships/image" Target="../media/image48.pct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49.pct"/><Relationship Id="rId4" Type="http://schemas.openxmlformats.org/officeDocument/2006/relationships/image" Target="../media/image50.pct"/><Relationship Id="rId5" Type="http://schemas.openxmlformats.org/officeDocument/2006/relationships/image" Target="../media/image51.pct"/><Relationship Id="rId6" Type="http://schemas.openxmlformats.org/officeDocument/2006/relationships/image" Target="../media/image52.pct"/><Relationship Id="rId7" Type="http://schemas.openxmlformats.org/officeDocument/2006/relationships/image" Target="../media/image53.pct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image" Target="../media/image55.pct"/><Relationship Id="rId3" Type="http://schemas.openxmlformats.org/officeDocument/2006/relationships/image" Target="../media/image56.pct"/><Relationship Id="rId4" Type="http://schemas.openxmlformats.org/officeDocument/2006/relationships/image" Target="../media/image57.pct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pct"/><Relationship Id="rId2" Type="http://schemas.openxmlformats.org/officeDocument/2006/relationships/image" Target="../media/image59.pct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pct"/><Relationship Id="rId2" Type="http://schemas.openxmlformats.org/officeDocument/2006/relationships/image" Target="../media/image62.pct"/><Relationship Id="rId3" Type="http://schemas.openxmlformats.org/officeDocument/2006/relationships/image" Target="../media/image63.pct"/><Relationship Id="rId4" Type="http://schemas.openxmlformats.org/officeDocument/2006/relationships/image" Target="../media/image64.pct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5.pct"/><Relationship Id="rId2" Type="http://schemas.openxmlformats.org/officeDocument/2006/relationships/image" Target="../media/image66.pct"/><Relationship Id="rId3" Type="http://schemas.openxmlformats.org/officeDocument/2006/relationships/image" Target="../media/image67.pct"/><Relationship Id="rId4" Type="http://schemas.openxmlformats.org/officeDocument/2006/relationships/image" Target="../media/image68.pct"/><Relationship Id="rId5" Type="http://schemas.openxmlformats.org/officeDocument/2006/relationships/image" Target="../media/image69.pct"/><Relationship Id="rId6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image" Target="../media/image70.pct"/><Relationship Id="rId4" Type="http://schemas.openxmlformats.org/officeDocument/2006/relationships/image" Target="../media/image71.pct"/><Relationship Id="rId5" Type="http://schemas.openxmlformats.org/officeDocument/2006/relationships/image" Target="../media/image72.pct"/><Relationship Id="rId6" Type="http://schemas.openxmlformats.org/officeDocument/2006/relationships/image" Target="../media/image73.pct"/><Relationship Id="rId7" Type="http://schemas.openxmlformats.org/officeDocument/2006/relationships/image" Target="../media/image74.pct"/><Relationship Id="rId8" Type="http://schemas.openxmlformats.org/officeDocument/2006/relationships/oleObject" Target="../embeddings/oleObject2.bin"/><Relationship Id="rId9" Type="http://schemas.openxmlformats.org/officeDocument/2006/relationships/image" Target="../media/image8.pct"/><Relationship Id="rId10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5.pct"/><Relationship Id="rId2" Type="http://schemas.openxmlformats.org/officeDocument/2006/relationships/image" Target="../media/image76.pct"/><Relationship Id="rId3" Type="http://schemas.openxmlformats.org/officeDocument/2006/relationships/image" Target="../media/image77.pct"/><Relationship Id="rId4" Type="http://schemas.openxmlformats.org/officeDocument/2006/relationships/image" Target="../media/image78.pct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2.pct"/><Relationship Id="rId3" Type="http://schemas.openxmlformats.org/officeDocument/2006/relationships/image" Target="../media/image1.pct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19920" y="4419720"/>
            <a:ext cx="2590560" cy="1933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81680" y="1447920"/>
            <a:ext cx="2057400" cy="1460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6320" y="3200400"/>
            <a:ext cx="288432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7467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ptiles, Partridges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Golden Bee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iling Shape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ith Similar Copi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ruary 21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riedma@stetson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Square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657600"/>
            <a:ext cx="38862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re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er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ilings of a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ectang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876920" y="38098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8098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143000" y="1295280"/>
            <a:ext cx="2971800" cy="4658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of perfect squar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given or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    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            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             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           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           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         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6          44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15238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How many perfect squares of order 27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52480" y="3733920"/>
            <a:ext cx="5562720" cy="2786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2895480"/>
            <a:ext cx="8381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a 2x1 rectangle is 8 (Jepsen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erfect tilings of all rectangles since we can stretch a perfect tiling of squ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Is the order of a 3x1 rectangle equal to 11?  (Jepsen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5120" y="5638680"/>
            <a:ext cx="5333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at are the orders of other rectang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853416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Perfect Tilings from 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shape S has a perfect tiling using n copies, and a perfect tiling using m copies, it has a perfect tiling using n+m-1 cop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n n-tiling of S, and replace the smallest tile with an m-tiling of 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971800" cy="234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4191120"/>
            <a:ext cx="29718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2514600"/>
            <a:ext cx="38862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Do al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riang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have perfec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il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971800" y="2590920"/>
          <a:ext cx="9223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90920"/>
                    <a:ext cx="92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685960" cy="4114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5943600" cy="3287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80880" y="3808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52680" y="1600200"/>
            <a:ext cx="37339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perfect tilings for most triangles, into either 6 or 8 smaller tri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perfect tiling of equilateral tri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smallest triangle on the botto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must touch a smaller triang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riangle must touch an even smaller one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nly finitely many triangles.  Q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7417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Cu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perfect tiling of cub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smallest cube S on the botto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not touch another side (see figure below, lef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s S must be surrounded by larger cubes (righ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mallest cube on top of S also cannot touch a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only finitely many cubes.  Q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62485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87440" y="571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29200" y="4648320"/>
            <a:ext cx="2514600" cy="1976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792760" y="5562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3429000" cy="1908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3152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also perfect tilings known for some trapezoids. (Friedman, Reid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38080" y="4800600"/>
            <a:ext cx="3581640" cy="18050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00600" y="4952880"/>
            <a:ext cx="3962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trapezoids have perfect til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of 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029200" y="2590920"/>
            <a:ext cx="32004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3505320" cy="2281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4120" y="3886200"/>
            <a:ext cx="3200400" cy="2509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880" y="579132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re is one more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 with Small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4267080" cy="2066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4920" y="1371600"/>
            <a:ext cx="4114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hapes exist that have perfect tilings of order 2 or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Tiling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4290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1295280"/>
            <a:ext cx="3429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shape also has order 2. (Scherer, 198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5334120"/>
            <a:ext cx="5105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at other shapes have perfect til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olden B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12408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alled the “golden bee”, sinc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 is in the shape of a “b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267080" cy="3656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1981080" cy="1406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562720" y="5334120"/>
            <a:ext cx="3352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What about 3-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ridge Tiling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2743200"/>
            <a:ext cx="388620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400" y="6094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(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2(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n(n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[ n(n+1)/2 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ans 1 square of side 1, 2 squares of side 2, up to n squares of side n have the same total area as a square of side n(n+1)/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se smaller squares can be packed into the larger square, it is called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ridge ti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value of n&gt;1 that works is called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artridge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047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2362320"/>
            <a:ext cx="40384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at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he partrid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number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 squa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74320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1447920" y="5105520"/>
            <a:ext cx="62481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pi     b) 6     c) 8     d) 12     e) 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43000"/>
            <a:ext cx="34290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solution found was n=12.  (Wainwright, 199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4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ridge number of a square is 8, and there are 2332 solutions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143000"/>
            <a:ext cx="32763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olutions for 8 &lt; n &lt; 3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solutions for all values of 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60000"/>
              </a:lnSpc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retching, there are partridge tilings of all rectang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848720" cy="3924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28800" y="1371600"/>
            <a:ext cx="5715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2x1 rectangle has partridge number 7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371600"/>
            <a:ext cx="3200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3x1 rectangle has partridge number 6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5638680" cy="1892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7772400" cy="1952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981080" y="3581280"/>
            <a:ext cx="5486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4x1 rectangle has partridge number 7.  (Hamlyn,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Rect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44792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3x2 rectangle and a 4x3 rectangle both have partridge number 7. (Hamlyn, 200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6971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4135320" cy="31100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800600" y="4724280"/>
            <a:ext cx="4343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other rectangles have partridge number &lt; 8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2286000"/>
            <a:ext cx="47246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rtridg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f an equilater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riang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36232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90720" y="5105520"/>
            <a:ext cx="7010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7     b) 9     c) 11     d) 21     e) infi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343400" cy="4206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28600" y="2133720"/>
            <a:ext cx="43434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tangle can be tiled with unequal squares. (Moron, 19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114800"/>
            <a:ext cx="43434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method of producing such tilings. (Tutte, Smith, Stone, Brooks, 1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6095880" cy="5283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1600200"/>
            <a:ext cx="4419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quilateral triangles have partridge number 9. (Cutler, 199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3581280"/>
            <a:ext cx="28954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hearing, all triangles have partridge number at most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2286000"/>
            <a:ext cx="472464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at is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artridg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f a 30-60-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ight triang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9092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1828800" y="5105520"/>
            <a:ext cx="58672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4     b) 5     c) 6     d) 7     e)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4038480"/>
            <a:ext cx="4495680" cy="2603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343400" y="304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990720" y="2895480"/>
            <a:ext cx="44193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60-90 triangles have partridge number 4! (Hamly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iang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152388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-45-90 triangles have partridge number 8. (Hamly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5029200"/>
            <a:ext cx="4419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other triangles have partridge number &lt; 9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2193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pezoid made from 3 equilateral triangles has partridge number 5. (Hamly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9880" y="4800600"/>
            <a:ext cx="5334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pezoid made from 3/4 of a square has partridge number 6. (Friedman, 200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038480" y="2438280"/>
            <a:ext cx="472464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ridge Tilings of Other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371600"/>
            <a:ext cx="5333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apezoid with bases 3 and 6 and height 8 has partridge number 4! (Reid, 19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15000" y="1143000"/>
            <a:ext cx="3137040" cy="41911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3429000"/>
            <a:ext cx="4647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Does any non-convex shape have a partridge til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4864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Does any shape have partridge number 2, 3, or more than 9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ptiles and Irreptil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873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71440" y="4568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0" y="9144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p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hape that can be tiled with smaller congruent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reptile is the smallest number of congruent tiles needed to ti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3200400" cy="1606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029200" y="4191120"/>
            <a:ext cx="3505320" cy="2336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80880" y="36576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llelograms and triangles are reptiles of order (no more than)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044800" cy="3060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1780920" cy="2666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095880" y="4267080"/>
            <a:ext cx="2819520" cy="1233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457200" y="3505320"/>
            <a:ext cx="3352680" cy="1944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ptiles of Order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571500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other shapes, besides linear transformations of these, are reptiles of order 4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3352680" y="1447920"/>
            <a:ext cx="2108160" cy="2108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4495680" y="3048120"/>
            <a:ext cx="1227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6858000" cy="3429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657600" cy="2446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3657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1523880"/>
            <a:ext cx="426708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ich on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hapes i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 repti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43200" y="1676520"/>
          <a:ext cx="9223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676520"/>
                    <a:ext cx="92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914400" y="4267080"/>
            <a:ext cx="73152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        b)           c)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914400" y="502920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5257800" y="502920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362320" y="5029200"/>
            <a:ext cx="1139760" cy="1139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3809880" y="502920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6705720" y="5029200"/>
            <a:ext cx="15238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a planar digraph where every edge point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weights for the edges s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tal distance from vertex to vertex is path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low into a vertex is equal to the flow out of the ve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se are just Kirchoff’s Laws if each edge has unit resistance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281628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Repti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id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3048120" cy="2255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257800" y="3200400"/>
            <a:ext cx="3200400" cy="31892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5257800" y="1219320"/>
            <a:ext cx="3048120" cy="1509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685800" y="3886200"/>
            <a:ext cx="33526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592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809880" y="1600200"/>
            <a:ext cx="4572000" cy="26496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iamond Reptile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id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shapes are repti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is the order of a given repti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Are there polyomino reptiles which cannot tile a squ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about 3-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66680" y="2286000"/>
            <a:ext cx="69343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Is there a shape that is no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 reptile that can be ti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ith similar (not necessari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congruent) copies of itsel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219320" y="24382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6096240" cy="45640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019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rrept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shape that can be tiled with similar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reptiles are irreptiles, but not all irreptiles are reptiles, like the shap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272040" cy="3271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3657600" cy="27464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5331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omino Irrepti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Reid, 199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2903760" cy="21798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5029200" cy="20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1917720" cy="9781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971800" y="4495680"/>
            <a:ext cx="5778360" cy="1943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33520" y="2057400"/>
            <a:ext cx="5778360" cy="1943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7162920" y="685800"/>
            <a:ext cx="1460520" cy="43308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800" y="533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pezoid Irrepti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cherer, 19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371600"/>
            <a:ext cx="41911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ich on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he foll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hapes is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n irreptil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09480" y="1523880"/>
          <a:ext cx="92232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914400" y="3962520"/>
            <a:ext cx="7238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a)          b)           c)           d)             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380880" y="5257800"/>
            <a:ext cx="1981440" cy="1290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6858000" y="4800600"/>
            <a:ext cx="1589040" cy="1828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5"/>
          <a:stretch/>
        </p:blipFill>
        <p:spPr>
          <a:xfrm flipH="1">
            <a:off x="5028840" y="4648320"/>
            <a:ext cx="1676520" cy="1119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2057400" y="4724280"/>
            <a:ext cx="1981080" cy="858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3429000" y="5638680"/>
            <a:ext cx="1371600" cy="951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952880" y="1371600"/>
            <a:ext cx="373392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Which tw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f the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hapes ha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order 5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105520" y="1523880"/>
          <a:ext cx="922320" cy="1981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05520" y="1523880"/>
                    <a:ext cx="92232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3429000" cy="223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495680" cy="30002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Irreptile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cherer, 19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2514600" y="3809880"/>
            <a:ext cx="6248520" cy="2703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380880" y="3505320"/>
            <a:ext cx="2318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shapes are irrepti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is the order of a given sha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ich orders are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pen Problem: What about 3-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440" y="2437920"/>
            <a:ext cx="1981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=a+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=b+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=e+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+h=g+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295416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2438280"/>
            <a:ext cx="2057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d+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+e=f+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+f=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g=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480060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ize with e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143000"/>
            <a:ext cx="81532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] “Second Book of Mathematical Puzzles &amp; Diversions”, Martin Gardner, 19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 “Dissections of p:q Rectangles”, Charles Jepsen,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3] “Tiling with Similar Polyominoes”, Mike Reid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4] “A Puzzling Journey to the Reptiles and Related Animals”, Karl Scherer, 19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5] “Packing a Partridge in a Square Tree II, III, and IV”,   Robert Wainwright, 1994, 1996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400800" y="449568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09480" y="5029200"/>
            <a:ext cx="2210040" cy="1569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733920" y="4952880"/>
            <a:ext cx="20574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121932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1] http://www.meden.demon.co.uk/Fractals/golde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2] http://clarkjag.idx.com.au/PolyP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Reptile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3] http://mathworld.wolfram.com/PerfectSquareDissection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4] http://www.stetson.edu/~efriedma/mathmagic/0802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5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math.uwaterloo.ca/navigation/ideas/articles/ honsberger2/index.s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6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gamepuzzles.com/friedman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400800" y="4267080"/>
            <a:ext cx="227952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33520" y="5029200"/>
            <a:ext cx="2209680" cy="1569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3657600" y="4952880"/>
            <a:ext cx="20574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2862000" cy="4648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ling Rectangl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Unequal Squ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46483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rfect til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is a tiling of that shape with finitely many similar but non-congruent copies of the same sha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8954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shape is the smallest number of copies needed in a perfect til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4267080"/>
            <a:ext cx="3429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Are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perf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tiling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squa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971800" y="4419720"/>
          <a:ext cx="9223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419720"/>
                    <a:ext cx="92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Square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371600"/>
            <a:ext cx="8686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ly using trial and error,  a perfect square tiling with 69 squares was found. (Smith, Stone, Brooks, 1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perfect tiling to be published contained 55 squares.  (Sprague, 193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many years, the smallest possible order was thought to be 24. (Bristol, 1950’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ect Square Til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600200"/>
            <a:ext cx="3124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eventually the smallest order of a perfect square tiling was shown to be 21. (Duijvestijn, 197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18:57:12Z</dcterms:created>
  <dc:creator>Authorized User</dc:creator>
  <dc:description/>
  <dc:language>en-US</dc:language>
  <cp:lastModifiedBy>Authorized User</cp:lastModifiedBy>
  <cp:lastPrinted>2003-02-20T15:42:12Z</cp:lastPrinted>
  <dcterms:modified xsi:type="dcterms:W3CDTF">2003-02-20T15:51:30Z</dcterms:modified>
  <cp:revision>67</cp:revision>
  <dc:subject/>
  <dc:title>Reptiles, Partridges, and Bees: Tiling Shapes with Similar Copies</dc:title>
</cp:coreProperties>
</file>