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ct" ContentType="image/x-pict"/>
  <Override PartName="/ppt/media/image55.pct" ContentType="image/x-pict"/>
  <Override PartName="/ppt/media/image54.pct" ContentType="image/x-pict"/>
  <Override PartName="/ppt/media/image53.pct" ContentType="image/x-pict"/>
  <Override PartName="/ppt/media/image52.pct" ContentType="image/x-pict"/>
  <Override PartName="/ppt/media/image51.pct" ContentType="image/x-pict"/>
  <Override PartName="/ppt/media/image50.pct" ContentType="image/x-pict"/>
  <Override PartName="/ppt/media/image46.pct" ContentType="image/x-pict"/>
  <Override PartName="/ppt/media/image45.pct" ContentType="image/x-pict"/>
  <Override PartName="/ppt/media/image44.pct" ContentType="image/x-pict"/>
  <Override PartName="/ppt/media/image43.pct" ContentType="image/x-pict"/>
  <Override PartName="/ppt/media/image42.pct" ContentType="image/x-pict"/>
  <Override PartName="/ppt/media/image41.pct" ContentType="image/x-pict"/>
  <Override PartName="/ppt/media/image40.pct" ContentType="image/x-pict"/>
  <Override PartName="/ppt/media/image30.pct" ContentType="image/x-pict"/>
  <Override PartName="/ppt/media/image39.pct" ContentType="image/x-pict"/>
  <Override PartName="/ppt/media/image9.pct" ContentType="image/x-pict"/>
  <Override PartName="/ppt/media/image13.pct" ContentType="image/x-pict"/>
  <Override PartName="/ppt/media/image1.pct" ContentType="image/x-pict"/>
  <Override PartName="/ppt/media/image20.pct" ContentType="image/x-pict"/>
  <Override PartName="/ppt/media/image57.pct" ContentType="image/x-pict"/>
  <Override PartName="/ppt/media/image21.pct" ContentType="image/x-pict"/>
  <Override PartName="/ppt/media/image58.pct" ContentType="image/x-pict"/>
  <Override PartName="/ppt/media/image22.pct" ContentType="image/x-pict"/>
  <Override PartName="/ppt/media/image59.pct" ContentType="image/x-pict"/>
  <Override PartName="/ppt/media/image23.pct" ContentType="image/x-pict"/>
  <Override PartName="/ppt/media/image60.pct" ContentType="image/x-pict"/>
  <Override PartName="/ppt/media/image24.pct" ContentType="image/x-pict"/>
  <Override PartName="/ppt/media/image61.pct" ContentType="image/x-pict"/>
  <Override PartName="/ppt/media/image25.pct" ContentType="image/x-pict"/>
  <Override PartName="/ppt/media/image62.pct" ContentType="image/x-pict"/>
  <Override PartName="/ppt/media/image63.pct" ContentType="image/x-pict"/>
  <Override PartName="/ppt/media/image64.pct" ContentType="image/x-pict"/>
  <Override PartName="/ppt/media/image65.pct" ContentType="image/x-pict"/>
  <Override PartName="/ppt/media/image78.pct" ContentType="image/x-pict"/>
  <Override PartName="/ppt/media/image31.pct" ContentType="image/x-pict"/>
  <Override PartName="/ppt/media/image68.pct" ContentType="image/x-pict"/>
  <Override PartName="/ppt/media/image66.pct" ContentType="image/x-pict"/>
  <Override PartName="/ppt/media/image77.pct" ContentType="image/x-pict"/>
  <Override PartName="/ppt/media/image76.pct" ContentType="image/x-pict"/>
  <Override PartName="/ppt/media/image75.pct" ContentType="image/x-pict"/>
  <Override PartName="/ppt/media/image74.pct" ContentType="image/x-pict"/>
  <Override PartName="/ppt/media/image73.pct" ContentType="image/x-pict"/>
  <Override PartName="/ppt/media/image72.pct" ContentType="image/x-pict"/>
  <Override PartName="/ppt/media/image71.pct" ContentType="image/x-pict"/>
  <Override PartName="/ppt/media/image29.pct" ContentType="image/x-pict"/>
  <Override PartName="/ppt/media/image69.pct" ContentType="image/x-pict"/>
  <Override PartName="/ppt/media/image32.pct" ContentType="image/x-pict"/>
  <Override PartName="/ppt/media/image70.pct" ContentType="image/x-pict"/>
  <Override PartName="/ppt/media/image28.pct" ContentType="image/x-pict"/>
  <Override PartName="/ppt/media/image67.pct" ContentType="image/x-pict"/>
  <Override PartName="/ppt/media/image2.pct" ContentType="image/x-pict"/>
  <Override PartName="/ppt/media/image14.pct" ContentType="image/x-pict"/>
  <Override PartName="/ppt/media/image26.pct" ContentType="image/x-pict"/>
  <Override PartName="/ppt/media/image15.pct" ContentType="image/x-pict"/>
  <Override PartName="/ppt/media/image3.pct" ContentType="image/x-pict"/>
  <Override PartName="/ppt/media/image33.pct" ContentType="image/x-pict"/>
  <Override PartName="/ppt/media/image27.pct" ContentType="image/x-pict"/>
  <Override PartName="/ppt/media/image16.pct" ContentType="image/x-pict"/>
  <Override PartName="/ppt/media/image4.pct" ContentType="image/x-pict"/>
  <Override PartName="/ppt/media/image34.pct" ContentType="image/x-pict"/>
  <Override PartName="/ppt/media/image17.pct" ContentType="image/x-pict"/>
  <Override PartName="/ppt/media/image5.pct" ContentType="image/x-pict"/>
  <Override PartName="/ppt/media/image35.pct" ContentType="image/x-pict"/>
  <Override PartName="/ppt/media/image10.pct" ContentType="image/x-pict"/>
  <Override PartName="/ppt/media/image47.pct" ContentType="image/x-pict"/>
  <Override PartName="/ppt/media/image18.pct" ContentType="image/x-pict"/>
  <Override PartName="/ppt/media/image6.pct" ContentType="image/x-pict"/>
  <Override PartName="/ppt/media/image36.pct" ContentType="image/x-pict"/>
  <Override PartName="/ppt/media/image11.pct" ContentType="image/x-pict"/>
  <Override PartName="/ppt/media/image48.pct" ContentType="image/x-pict"/>
  <Override PartName="/ppt/media/image19.pct" ContentType="image/x-pict"/>
  <Override PartName="/ppt/media/image7.pct" ContentType="image/x-pict"/>
  <Override PartName="/ppt/media/image37.pct" ContentType="image/x-pict"/>
  <Override PartName="/ppt/media/image12.pct" ContentType="image/x-pict"/>
  <Override PartName="/ppt/media/image49.pct" ContentType="image/x-pict"/>
  <Override PartName="/ppt/media/image8.pct" ContentType="image/x-pict"/>
  <Override PartName="/ppt/media/image38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DC79-06BB-4261-B8E9-8FD82565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B3AB-912B-4250-9168-2C561B53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FBF-03C5-4BA1-B99F-A1FF2958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1851-E6C2-4B48-8E80-C316AB0D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7270-AEDA-426B-87BF-33B39E57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EB3-5306-417A-9817-9C90A76D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3C1-FF3B-4535-A9A9-A6968F29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76EE-45D3-4A3F-81BB-6BEE29C8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C56E-45E2-4D52-B0D9-42FCD666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8A5-36D3-4958-A297-D2BE19F2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BFCD-CC3C-40DD-AC20-9E9021AD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1161-DF52-473C-929E-97D578CA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92C3-B3C5-4C54-9019-90A0E3399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ct"/><Relationship Id="rId3" Type="http://schemas.openxmlformats.org/officeDocument/2006/relationships/image" Target="../media/image22.pct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12.pct"/><Relationship Id="rId3" Type="http://schemas.openxmlformats.org/officeDocument/2006/relationships/image" Target="../media/image24.pct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image" Target="../media/image29.pct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image" Target="../media/image31.pct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image" Target="../media/image34.pct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image" Target="../media/image36.pct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38.pct"/><Relationship Id="rId3" Type="http://schemas.openxmlformats.org/officeDocument/2006/relationships/image" Target="../media/image39.pct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ct"/><Relationship Id="rId2" Type="http://schemas.openxmlformats.org/officeDocument/2006/relationships/image" Target="../media/image41.pct"/><Relationship Id="rId3" Type="http://schemas.openxmlformats.org/officeDocument/2006/relationships/image" Target="../media/image42.pct"/><Relationship Id="rId4" Type="http://schemas.openxmlformats.org/officeDocument/2006/relationships/image" Target="../media/image43.pct"/><Relationship Id="rId5" Type="http://schemas.openxmlformats.org/officeDocument/2006/relationships/image" Target="../media/image44.pct"/><Relationship Id="rId6" Type="http://schemas.openxmlformats.org/officeDocument/2006/relationships/image" Target="../media/image45.pct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ct"/><Relationship Id="rId2" Type="http://schemas.openxmlformats.org/officeDocument/2006/relationships/image" Target="../media/image47.pct"/><Relationship Id="rId3" Type="http://schemas.openxmlformats.org/officeDocument/2006/relationships/image" Target="../media/image48.pct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image" Target="../media/image49.pct"/><Relationship Id="rId4" Type="http://schemas.openxmlformats.org/officeDocument/2006/relationships/image" Target="../media/image50.pct"/><Relationship Id="rId5" Type="http://schemas.openxmlformats.org/officeDocument/2006/relationships/image" Target="../media/image51.pct"/><Relationship Id="rId6" Type="http://schemas.openxmlformats.org/officeDocument/2006/relationships/image" Target="../media/image52.pct"/><Relationship Id="rId7" Type="http://schemas.openxmlformats.org/officeDocument/2006/relationships/image" Target="../media/image53.pct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image" Target="../media/image55.pct"/><Relationship Id="rId3" Type="http://schemas.openxmlformats.org/officeDocument/2006/relationships/image" Target="../media/image56.pct"/><Relationship Id="rId4" Type="http://schemas.openxmlformats.org/officeDocument/2006/relationships/image" Target="../media/image57.pct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8.pct"/><Relationship Id="rId2" Type="http://schemas.openxmlformats.org/officeDocument/2006/relationships/image" Target="../media/image59.pct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0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pct"/><Relationship Id="rId2" Type="http://schemas.openxmlformats.org/officeDocument/2006/relationships/image" Target="../media/image62.pct"/><Relationship Id="rId3" Type="http://schemas.openxmlformats.org/officeDocument/2006/relationships/image" Target="../media/image63.pct"/><Relationship Id="rId4" Type="http://schemas.openxmlformats.org/officeDocument/2006/relationships/image" Target="../media/image64.pct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5.pct"/><Relationship Id="rId2" Type="http://schemas.openxmlformats.org/officeDocument/2006/relationships/image" Target="../media/image66.pct"/><Relationship Id="rId3" Type="http://schemas.openxmlformats.org/officeDocument/2006/relationships/image" Target="../media/image67.pct"/><Relationship Id="rId4" Type="http://schemas.openxmlformats.org/officeDocument/2006/relationships/image" Target="../media/image68.pct"/><Relationship Id="rId5" Type="http://schemas.openxmlformats.org/officeDocument/2006/relationships/image" Target="../media/image69.pct"/><Relationship Id="rId6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image" Target="../media/image70.pct"/><Relationship Id="rId4" Type="http://schemas.openxmlformats.org/officeDocument/2006/relationships/image" Target="../media/image71.pct"/><Relationship Id="rId5" Type="http://schemas.openxmlformats.org/officeDocument/2006/relationships/image" Target="../media/image72.pct"/><Relationship Id="rId6" Type="http://schemas.openxmlformats.org/officeDocument/2006/relationships/image" Target="../media/image73.pct"/><Relationship Id="rId7" Type="http://schemas.openxmlformats.org/officeDocument/2006/relationships/image" Target="../media/image74.pct"/><Relationship Id="rId8" Type="http://schemas.openxmlformats.org/officeDocument/2006/relationships/oleObject" Target="../embeddings/oleObject2.bin"/><Relationship Id="rId9" Type="http://schemas.openxmlformats.org/officeDocument/2006/relationships/image" Target="../media/image8.pct"/><Relationship Id="rId10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5.pct"/><Relationship Id="rId2" Type="http://schemas.openxmlformats.org/officeDocument/2006/relationships/image" Target="../media/image76.pct"/><Relationship Id="rId3" Type="http://schemas.openxmlformats.org/officeDocument/2006/relationships/image" Target="../media/image77.pct"/><Relationship Id="rId4" Type="http://schemas.openxmlformats.org/officeDocument/2006/relationships/image" Target="../media/image78.pct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19920" y="4419720"/>
            <a:ext cx="2590560" cy="1933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781680" y="1447920"/>
            <a:ext cx="2057400" cy="1460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6320" y="3200400"/>
            <a:ext cx="2884320" cy="2895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467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ptiles, Partridges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olden Bee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iling Shape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Similar Cop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h Fried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tso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bruary 21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riedma@stetson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Square Til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657600"/>
            <a:ext cx="38862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re t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erf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ilings of al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rectang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876920" y="3809880"/>
          <a:ext cx="922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809880"/>
                    <a:ext cx="922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143000" y="1295280"/>
            <a:ext cx="2971800" cy="4658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perfect squar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iven or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    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         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            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          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           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          1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6          4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15238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How many perfect squares of order 27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of Rect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52480" y="3733920"/>
            <a:ext cx="5562720" cy="2786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28954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der of a 2x1 rectangle is 8 (Jepsen, 199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447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perfect tilings of all rectangles since we can stretch a perfect tiling of squ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of Rect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Is the order of a 3x1 rectangle equal to 11?  (Jepsen, 199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5638680"/>
            <a:ext cx="5333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at are the orders of other rectang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85341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Perfect Tilings from 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shape S has a perfect tiling using n copies, and a perfect tiling using m copies, it has a perfect tiling using n+m-1 cop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an n-tiling of S, and replace the smallest tile with an m-tiling of 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2971800" cy="234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29200" y="4191120"/>
            <a:ext cx="29718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of Tri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2514600"/>
            <a:ext cx="38862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Do al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riangl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have perf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iling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971800" y="2590920"/>
          <a:ext cx="9223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590920"/>
                    <a:ext cx="9223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685960" cy="4114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5943600" cy="3287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80880" y="3808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of Tri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52680" y="1600200"/>
            <a:ext cx="3733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perfect tilings for most triangles, into either 6 or 8 smaller triang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of Tri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perfect tiling of equilateral triang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smallest triangle on the botto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must touch a smaller tri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riangle must touch an even smaller one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only finitely many triangles.  Q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4724280"/>
            <a:ext cx="7417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of Cu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perfect tiling of cub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smallest cube S on the botto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annot touch another side (see figure below, lef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 S must be surrounded by larger cubes (righ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mallest cube on top of S also cannot touch a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only finitely many cubes.  Q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6248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tom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7440" y="571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029200" y="4648320"/>
            <a:ext cx="2514600" cy="1976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792760" y="5562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3429000" cy="1908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also perfect tilings known for some trapezoids. (Friedman, Reid, 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38080" y="4800600"/>
            <a:ext cx="3581640" cy="1805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800600" y="4952880"/>
            <a:ext cx="3962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ich trapezoids have perfect til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of Trapez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029200" y="2590920"/>
            <a:ext cx="32004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3505320" cy="2281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4120" y="3886200"/>
            <a:ext cx="3200400" cy="2509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0880" y="5791320"/>
            <a:ext cx="6934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re is one more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with Small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419720" y="1219320"/>
            <a:ext cx="4267080" cy="2066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4920" y="1371600"/>
            <a:ext cx="4114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hapes exist that have perfect tilings of order 2 or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erfect Tiling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34290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1295280"/>
            <a:ext cx="3429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hape also has order 2. (Scherer, 198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5334120"/>
            <a:ext cx="5105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at other shapes have perfect til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lden B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124080"/>
            <a:ext cx="40384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alled the “golden bee”, sinc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it is in the shape of a “b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267080" cy="3656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1981080" cy="1406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62720" y="5334120"/>
            <a:ext cx="3352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at about 3-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rtridge Tiling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43200" y="2743200"/>
            <a:ext cx="38862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(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(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. .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n(n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 n(n+1)/2 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eans 1 square of side 1, 2 squares of side 2, up to n squares of side n have the same total area as a square of side n(n+1)/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se smaller squares can be packed into the larger square, it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artridge ti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value of n&gt;1 that works is called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artridge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90476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2362320"/>
            <a:ext cx="40384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What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he partrid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number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 squa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743200" y="2438280"/>
          <a:ext cx="922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922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447920" y="5105520"/>
            <a:ext cx="62481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)  pi     b) 6     c) 8     d) 12     e) 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143000"/>
            <a:ext cx="3429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solution found was n=12.  (Wainwright, 199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4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tridge number of a square is 8, and there are 2332 solutions. (Cutler, 199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143000"/>
            <a:ext cx="32763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olutions for 8 &lt; n &lt; 3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solutions for all values of 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60000"/>
              </a:lnSpc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tretching, there are partridge tilings of all rectang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Rect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848720" cy="3924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28800" y="1371600"/>
            <a:ext cx="5715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2x1 rectangle has partridge number 7. (Cutler, 199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Rect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371600"/>
            <a:ext cx="3200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3x1 rectangle has partridge number 6. (Cutler, 199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5638680" cy="1892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7772400" cy="1952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81080" y="3581280"/>
            <a:ext cx="5486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4x1 rectangle has partridge number 7.  (Hamlyn, 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Rect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447920"/>
            <a:ext cx="4343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3x2 rectangle and a 4x3 rectangle both have partridge number 7. (Hamlyn, 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4038840" cy="2697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4135320" cy="3110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800600" y="4724280"/>
            <a:ext cx="4343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at other rectangles have partridge number &lt; 8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Tri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2286000"/>
            <a:ext cx="472464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What i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artridg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of an equilate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riang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362320" y="2438280"/>
          <a:ext cx="922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438280"/>
                    <a:ext cx="922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990720" y="5105520"/>
            <a:ext cx="70102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)  7     b) 9     c) 11     d) 21     e) infi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ling Rectang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Unequal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343400" cy="4206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2133720"/>
            <a:ext cx="4343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tangle can be tiled with unequal squares. (Moron, 192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43434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method of producing such tilings. (Tutte, Smith, Stone, Brooks, 193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Tri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6095880" cy="5283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3520" y="1600200"/>
            <a:ext cx="4419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lateral triangles have partridge number 9. (Cutler, 199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3581280"/>
            <a:ext cx="2895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hearing, all triangles have partridge number at most 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Tri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2286000"/>
            <a:ext cx="472464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What i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artridg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of a 30-60-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right triang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90920" y="2438280"/>
          <a:ext cx="922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438280"/>
                    <a:ext cx="922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828800" y="5105520"/>
            <a:ext cx="58672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)  4     b) 5     c) 6     d) 7     e)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4495680" cy="2603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90720" y="2895480"/>
            <a:ext cx="4419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-60-90 triangles have partridge number 4! (Hamlyn, 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Tri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523880"/>
            <a:ext cx="60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-45-90 triangles have partridge number 8. (Hamlyn, 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5029200"/>
            <a:ext cx="4419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at other triangles have partridge number &lt; 9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Trapez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2193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pezoid made from 3 equilateral triangles has partridge number 5. (Hamlyn, 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4800600"/>
            <a:ext cx="5334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pezoid made from 3/4 of a square has partridge number 6. (Friedman, 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038480" y="2438280"/>
            <a:ext cx="472464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Other Sh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1371600"/>
            <a:ext cx="5333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pezoid with bases 3 and 6 and height 8 has partridge number 4! (Reid, 19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715000" y="1143000"/>
            <a:ext cx="3137040" cy="4191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04920" y="3429000"/>
            <a:ext cx="4647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Does any non-convex shape have a partridge til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48640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Does any shape have partridge number 2, 3, or more than 9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eptiles and Irreptil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3873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71440" y="45684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0" y="914400"/>
            <a:ext cx="2050920" cy="20574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pt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hape that can be tiled with smaller congruent copies of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reptile is the smallest number of congruent tiles needed to t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990720" y="4876920"/>
            <a:ext cx="3200400" cy="1606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029200" y="4191120"/>
            <a:ext cx="3505320" cy="2336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80880" y="365760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ograms and triangles are reptiles of order (no more than)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044800" cy="3060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1780920" cy="2666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095880" y="4267080"/>
            <a:ext cx="2819520" cy="1233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57200" y="3505320"/>
            <a:ext cx="3352680" cy="19447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ptiles of Ord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57150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at other shapes, besides linear transformations of these, are reptiles of order 4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3352680" y="1447920"/>
            <a:ext cx="2108160" cy="2108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4495680" y="3048120"/>
            <a:ext cx="12272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omino 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6858000" cy="3429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657600" cy="2446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85800" y="1371600"/>
            <a:ext cx="3657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omino 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1523880"/>
            <a:ext cx="42670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Which on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he foll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hapes i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 repti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743200" y="1676520"/>
          <a:ext cx="9223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676520"/>
                    <a:ext cx="9223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914400" y="4267080"/>
            <a:ext cx="73152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)          b)           c)           d)             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914400" y="5029200"/>
            <a:ext cx="1139760" cy="11397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5257800" y="5029200"/>
            <a:ext cx="1139760" cy="1139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2362320" y="5029200"/>
            <a:ext cx="1139760" cy="11397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3809880" y="502920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6705720" y="5029200"/>
            <a:ext cx="15238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a planar digraph where every edge points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weights for the edges s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tal distance from vertex to vertex is path indepen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low into a vertex is equal to the flow out of the vert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se are just Kirchoff’s Laws if each edge has unit resistance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281628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ling Rectang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Unequal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omino Repti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id, 199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3048120" cy="2255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257800" y="3200400"/>
            <a:ext cx="3200400" cy="3189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5257800" y="1219320"/>
            <a:ext cx="3048120" cy="1509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685800" y="3886200"/>
            <a:ext cx="33526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8458200" cy="3592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809880" y="1600200"/>
            <a:ext cx="4572000" cy="26496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iamond Repti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id, 199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ich shapes are repti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at is the order of a given repti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Are there polyomino reptiles which cannot tile a squ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at about 3-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2286000"/>
            <a:ext cx="69343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Is there a shape that is no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 reptile that can be ti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with similar (not necessari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congruent) copies of itself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219320" y="2438280"/>
          <a:ext cx="922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38280"/>
                    <a:ext cx="922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6096240" cy="45640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6019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rrept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hape that can be tiled with similar copies of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reptiles are irreptiles, but not all irreptiles are reptiles, like the shape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272040" cy="32716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105520" y="1066680"/>
            <a:ext cx="3657600" cy="27464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omino Irreptil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id, 199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2903760" cy="21798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380880" y="4419720"/>
            <a:ext cx="502920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1917720" cy="9781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971800" y="4495680"/>
            <a:ext cx="5778360" cy="1943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33520" y="44956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5778360" cy="1943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7162920" y="685800"/>
            <a:ext cx="1460520" cy="43308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pezoid Irreptil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cherer, 198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371600"/>
            <a:ext cx="41911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Which on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he foll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hapes is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n irrepti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09480" y="1523880"/>
          <a:ext cx="922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922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914400" y="3962520"/>
            <a:ext cx="72388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)          b)           c)           d)             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380880" y="5257800"/>
            <a:ext cx="1981440" cy="1290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6858000" y="4800600"/>
            <a:ext cx="1589040" cy="1828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 flipH="1">
            <a:off x="5028840" y="4648320"/>
            <a:ext cx="1676520" cy="1119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2057400" y="4724280"/>
            <a:ext cx="1981080" cy="858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3429000" y="5638680"/>
            <a:ext cx="1371600" cy="951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952880" y="1371600"/>
            <a:ext cx="37339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Which tw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of the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hapes ha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order 5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105520" y="1523880"/>
          <a:ext cx="922320" cy="1981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05520" y="1523880"/>
                    <a:ext cx="922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3429000" cy="2232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4495680" cy="30002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Irreptil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cherer, 198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2514600" y="3809880"/>
            <a:ext cx="6248520" cy="27036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380880" y="3505320"/>
            <a:ext cx="2318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ich shapes are irrepti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at is the order of a given sha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ich orders are possi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at about 3-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440" y="2437920"/>
            <a:ext cx="198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=a+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=b+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=e+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+h=g+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2954160" cy="4800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8120" y="2438280"/>
            <a:ext cx="2057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d+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+e=f+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+f=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+g=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4800600"/>
            <a:ext cx="4191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ize with e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ling Rectang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Unequal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1430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] “Second Book of Mathematical Puzzles &amp; Diversions”, Martin Gardner, 19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2] “Dissections of p:q Rectangles”, Charles Jepsen,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3] “Tiling with Similar Polyominoes”, Mike Reid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4] “A Puzzling Journey to the Reptiles and Related Animals”, Karl Scherer, 19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5] “Packing a Partridge in a Square Tree II, III, and IV”,   Robert Wainwright, 1994, 1996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400800" y="4495680"/>
            <a:ext cx="2127240" cy="2133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09480" y="5029200"/>
            <a:ext cx="2210040" cy="1569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3733920" y="4952880"/>
            <a:ext cx="205740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520" y="121932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] http://www.meden.demon.co.uk/Fractals/golde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2] http://clarkjag.idx.com.au/PolyP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Reptile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3] http://mathworld.wolfram.com/PerfectSquareDissectio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4] http://www.stetson.edu/~efriedma/mathmagic/0802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5]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math.uwaterloo.ca/navigation/ideas/articles/ honsberger2/index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6]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gamepuzzles.com/friedman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400800" y="4267080"/>
            <a:ext cx="2279520" cy="2286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33520" y="5029200"/>
            <a:ext cx="2209680" cy="1569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3657600" y="4952880"/>
            <a:ext cx="205740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2862000" cy="4648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ling Rectang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Unequal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038480" y="1752480"/>
            <a:ext cx="46483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erfect ti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shape is a tiling of that shape with finitely many similar but non-congruent copies of the same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8954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shape is the smallest number of copies needed in a perfect ti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4267080"/>
            <a:ext cx="34290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re t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erf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iling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quar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971800" y="4419720"/>
          <a:ext cx="9223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419720"/>
                    <a:ext cx="9223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Square Til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ly using trial and error,  a perfect square tiling with 69 squares was found. (Smith, Stone, Brooks, 193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perfect tiling to be published contained 55 squares.  (Sprague, 193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many years, the smallest possible order was thought to be 24. (Bristol, 1950’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Square Til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600200"/>
            <a:ext cx="3124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eventually the smallest order of a perfect square tiling was shown to be 21. (Duijvestijn, 197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29000" y="11430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7:12Z</dcterms:created>
  <dc:creator>Authorized User</dc:creator>
  <dc:description/>
  <dc:language>en-US</dc:language>
  <cp:lastModifiedBy>Authorized User</cp:lastModifiedBy>
  <cp:lastPrinted>2003-02-20T15:42:12Z</cp:lastPrinted>
  <dcterms:modified xsi:type="dcterms:W3CDTF">2003-02-20T15:51:30Z</dcterms:modified>
  <cp:revision>67</cp:revision>
  <dc:subject/>
  <dc:title>Reptiles, Partridges, and Bees: Tiling Shapes with Similar Copies</dc:title>
</cp:coreProperties>
</file>