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13.pct" ContentType="image/x-pict"/>
  <Override PartName="/ppt/media/image1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25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78.pct" ContentType="image/x-pict"/>
  <Override PartName="/ppt/media/image31.pct" ContentType="image/x-pict"/>
  <Override PartName="/ppt/media/image68.pct" ContentType="image/x-pict"/>
  <Override PartName="/ppt/media/image66.pct" ContentType="image/x-pict"/>
  <Override PartName="/ppt/media/image77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71.pct" ContentType="image/x-pict"/>
  <Override PartName="/ppt/media/image29.pct" ContentType="image/x-pict"/>
  <Override PartName="/ppt/media/image69.pct" ContentType="image/x-pict"/>
  <Override PartName="/ppt/media/image32.pct" ContentType="image/x-pict"/>
  <Override PartName="/ppt/media/image70.pct" ContentType="image/x-pict"/>
  <Override PartName="/ppt/media/image28.pct" ContentType="image/x-pict"/>
  <Override PartName="/ppt/media/image67.pct" ContentType="image/x-pict"/>
  <Override PartName="/ppt/media/image2.pct" ContentType="image/x-pict"/>
  <Override PartName="/ppt/media/image14.pct" ContentType="image/x-pict"/>
  <Override PartName="/ppt/media/image26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18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8.pct" ContentType="image/x-pict"/>
  <Override PartName="/ppt/media/image38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D4A-AAED-4171-97A6-6430818A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E40-ACFA-4CA9-BF9A-8770FF11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067-CCD7-43ED-B297-F7BAD99F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583-1142-47E0-9AAB-ACAC6D3C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CF4-6328-4218-9EC2-EAB78E7D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3C3-1FE8-4FAA-9488-46F2102F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D34-897A-4B8E-AC3E-0F6F3625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ACA-18A8-4DB0-9126-3A9CCDBB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94D-AC3C-4235-963C-7BBF2EEB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96D-6DFC-4EBE-ADEA-2537685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F4D-7550-45CA-953E-7D25E7B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86F-678B-499D-BC75-F499A62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56F-FAC4-4522-9803-5C13369F7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12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8.pct"/><Relationship Id="rId3" Type="http://schemas.openxmlformats.org/officeDocument/2006/relationships/image" Target="../media/image39.pct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image" Target="../media/image41.pct"/><Relationship Id="rId3" Type="http://schemas.openxmlformats.org/officeDocument/2006/relationships/image" Target="../media/image42.pct"/><Relationship Id="rId4" Type="http://schemas.openxmlformats.org/officeDocument/2006/relationships/image" Target="../media/image43.pct"/><Relationship Id="rId5" Type="http://schemas.openxmlformats.org/officeDocument/2006/relationships/image" Target="../media/image44.pct"/><Relationship Id="rId6" Type="http://schemas.openxmlformats.org/officeDocument/2006/relationships/image" Target="../media/image45.pct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49.pct"/><Relationship Id="rId4" Type="http://schemas.openxmlformats.org/officeDocument/2006/relationships/image" Target="../media/image50.pct"/><Relationship Id="rId5" Type="http://schemas.openxmlformats.org/officeDocument/2006/relationships/image" Target="../media/image51.pct"/><Relationship Id="rId6" Type="http://schemas.openxmlformats.org/officeDocument/2006/relationships/image" Target="../media/image52.pct"/><Relationship Id="rId7" Type="http://schemas.openxmlformats.org/officeDocument/2006/relationships/image" Target="../media/image53.pct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55.pct"/><Relationship Id="rId3" Type="http://schemas.openxmlformats.org/officeDocument/2006/relationships/image" Target="../media/image56.pct"/><Relationship Id="rId4" Type="http://schemas.openxmlformats.org/officeDocument/2006/relationships/image" Target="../media/image57.pct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image" Target="../media/image62.pct"/><Relationship Id="rId3" Type="http://schemas.openxmlformats.org/officeDocument/2006/relationships/image" Target="../media/image63.pct"/><Relationship Id="rId4" Type="http://schemas.openxmlformats.org/officeDocument/2006/relationships/image" Target="../media/image64.pct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image" Target="../media/image66.pct"/><Relationship Id="rId3" Type="http://schemas.openxmlformats.org/officeDocument/2006/relationships/image" Target="../media/image67.pct"/><Relationship Id="rId4" Type="http://schemas.openxmlformats.org/officeDocument/2006/relationships/image" Target="../media/image68.pct"/><Relationship Id="rId5" Type="http://schemas.openxmlformats.org/officeDocument/2006/relationships/image" Target="../media/image69.pct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70.pct"/><Relationship Id="rId4" Type="http://schemas.openxmlformats.org/officeDocument/2006/relationships/image" Target="../media/image71.pct"/><Relationship Id="rId5" Type="http://schemas.openxmlformats.org/officeDocument/2006/relationships/image" Target="../media/image72.pct"/><Relationship Id="rId6" Type="http://schemas.openxmlformats.org/officeDocument/2006/relationships/image" Target="../media/image73.pct"/><Relationship Id="rId7" Type="http://schemas.openxmlformats.org/officeDocument/2006/relationships/image" Target="../media/image74.pct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ct"/><Relationship Id="rId10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pct"/><Relationship Id="rId2" Type="http://schemas.openxmlformats.org/officeDocument/2006/relationships/image" Target="../media/image76.pct"/><Relationship Id="rId3" Type="http://schemas.openxmlformats.org/officeDocument/2006/relationships/image" Target="../media/image77.pct"/><Relationship Id="rId4" Type="http://schemas.openxmlformats.org/officeDocument/2006/relationships/image" Target="../media/image78.pct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4419720"/>
            <a:ext cx="2590560" cy="1933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2057400" cy="146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320" y="3200400"/>
            <a:ext cx="288432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467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ptiles, Partridge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olden Bee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ing Shape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Similar Cop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2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riedma@stetson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657600"/>
            <a:ext cx="38862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 of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ctang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76920" y="38098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9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43000" y="1295280"/>
            <a:ext cx="2971800" cy="4658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erfect squar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iven o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   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       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        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         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          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         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          4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How many perfect squares of order 2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5562720" cy="2786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a 2x1 rectangle is 8 (Jepse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erfect tilings of all rectangles since we can stretch a perfect tiling of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Is the order of a 3x1 rectangle equal to 11?  (Jepse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5638680"/>
            <a:ext cx="5333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are the orders of other rectang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5341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erfect Tilings from 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hape S has a perfect tiling using n copies, and a perfect tiling using m copies, it has a perfect tiling using n+m-1 cop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n n-tiling of S, and replace the smallest tile with an m-tiling of 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97180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2971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514600"/>
            <a:ext cx="38862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Do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iang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have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71800" y="25909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909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68596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5943600" cy="328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erfect tilings for most triangles, into either 6 or 8 smaller tri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erfect tiling of equilateral tri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mallest triangle on the bot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ust touch a smaller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riangle must touch an even smaller on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finitely many triangles.  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7417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Cu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erfect tiling of cub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mallest cube S on the bot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not touch another side (see figure below,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S must be surrounded by larger cubes (righ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cube on top of S also cannot touch a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finitely many cubes.  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248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7440" y="571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2514600" cy="19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92760" y="5562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3429000" cy="1908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lso perfect tilings known for some trapezoids. (Friedman, Reid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3581640" cy="180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00600" y="495288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trapezoids have perfect til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029200" y="2590920"/>
            <a:ext cx="32004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3505320" cy="2281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3200400" cy="250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57913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 is one mor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with Small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4267080" cy="206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1371600"/>
            <a:ext cx="4114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hapes exist that have perfect tilings of order 2 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Tiling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295280"/>
            <a:ext cx="3429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also has order 2. (Scherer, 198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5105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other shapes have perfect til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lden B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1240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alled the “golden bee”, sinc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 is in the shape of a “b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267080" cy="365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81080" cy="1406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62720" y="5334120"/>
            <a:ext cx="3352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ridge Tiling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8862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(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n(n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 n(n+1)/2 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1 square of side 1, 2 squares of side 2, up to n squares of side n have the same total area as a square of side n(n+1)/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se smaller squares can be packed into the larger square, it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ridge ti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value of n&gt;1 that works is calle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ridge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362320"/>
            <a:ext cx="40384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partrid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umber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squ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4320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447920" y="5105520"/>
            <a:ext cx="62481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pi     b) 6     c) 8     d) 12     e) 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3429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olution found was n=12.  (Wainwright, 19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ridge number of a square is 8, and there are 2332 solutions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143000"/>
            <a:ext cx="3276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olutions for 8 &lt; n &lt; 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solutions for all values of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retching, there are partridge tilings of all rect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392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28800" y="1371600"/>
            <a:ext cx="5715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x1 rectangle has partridge number 7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371600"/>
            <a:ext cx="3200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3x1 rectangle has partridge number 6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638680" cy="1892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7772400" cy="1952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3581280"/>
            <a:ext cx="5486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4x1 rectangle has partridge number 7.  (Hamlyn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479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3x2 rectangle and a 4x3 rectangle both have partridge number 7. (Hamlyn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697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135320" cy="3110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00600" y="47242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rectangles have partridge number &lt; 8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2286000"/>
            <a:ext cx="47246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ridg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an equilate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iang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90720" y="5105520"/>
            <a:ext cx="7010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7     b) 9     c) 11     d) 21     e)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133720"/>
            <a:ext cx="4343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tangle can be tiled with unequal squares. (Moron, 19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4343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method of producing such tilings. (Tutte, Smith, Stone, Brooks, 1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6095880" cy="528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1600200"/>
            <a:ext cx="4419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ateral triangles have partridge number 9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581280"/>
            <a:ext cx="2895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hearing, all triangles have partridge number at most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286000"/>
            <a:ext cx="47246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ridg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a 30-60-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ight triang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909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828800" y="5105520"/>
            <a:ext cx="5867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4     b) 5     c) 6     d) 7     e)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4495680" cy="2603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90720" y="2895480"/>
            <a:ext cx="4419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60-90 triangles have partridge number 4!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52388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-45-90 triangles have partridge number 8.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5029200"/>
            <a:ext cx="4419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triangles have partridge number &lt; 9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219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made from 3 equilateral triangles has partridge number 5.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800600"/>
            <a:ext cx="5334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made from 3/4 of a square has partridge number 6. (Friedma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472464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Other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5333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with bases 3 and 6 and height 8 has partridge number 4! (Reid, 19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137040" cy="4191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3429000"/>
            <a:ext cx="4647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Does any non-convex shape have a partridge til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4864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Does any shape have partridge number 2, 3, or more than 9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ptiles and Irrepti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73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maller congruent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ptile is the smallest number of congruent tiles needed to 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3200400" cy="160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029200" y="41911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880" y="36576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ograms and triangles are reptiles of order (no more than)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44800" cy="306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80920" cy="2666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95880" y="4267080"/>
            <a:ext cx="2819520" cy="1233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3352680" cy="1944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ptiles of Ord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shapes, besides linear transformations of these, are reptiles of order 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108160" cy="2108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495680" y="3048120"/>
            <a:ext cx="122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6858000" cy="3429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657600" cy="244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657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523880"/>
            <a:ext cx="42670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on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i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repti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16765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765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914400" y="4267080"/>
            <a:ext cx="7315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        b)           c)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25780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36232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809880" y="502920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6705720" y="5029200"/>
            <a:ext cx="15238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planar digraph where every edge point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weights for the edges s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distance from vertex to vertex is path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into a vertex is equal to the flow out of the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se are just Kirchoff’s Laws if each edge has unit resistanc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1628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048120" cy="2255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3200400"/>
            <a:ext cx="3200400" cy="3189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3048120" cy="150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3352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592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809880" y="1600200"/>
            <a:ext cx="4572000" cy="26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iamond Repti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shapes are repti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is the order of a given repti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Are there polyomino reptiles which cannot tile a squ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286000"/>
            <a:ext cx="69343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s there a shape that is no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reptile that can be t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ith similar (not necessari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ongruent) copies of it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096240" cy="45640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r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imilar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eptiles are irreptiles, but not all irreptiles are reptiles, like the shap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272040" cy="3271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3657600" cy="2746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90376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5029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917720" cy="978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971800" y="4495680"/>
            <a:ext cx="5778360" cy="194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5778360" cy="1943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162920" y="685800"/>
            <a:ext cx="1460520" cy="4330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pezoid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cherer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371600"/>
            <a:ext cx="41911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on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n irrepti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09480" y="15238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914400" y="3962520"/>
            <a:ext cx="7238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        b)           c)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1981440" cy="1290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858000" y="4800600"/>
            <a:ext cx="158904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 flipH="1">
            <a:off x="5028840" y="4648320"/>
            <a:ext cx="1676520" cy="1119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2057400" y="4724280"/>
            <a:ext cx="1981080" cy="85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429000" y="5638680"/>
            <a:ext cx="1371600" cy="951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952880" y="1371600"/>
            <a:ext cx="3733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the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ha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rder 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105520" y="1523880"/>
          <a:ext cx="922320" cy="198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1523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42900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495680" cy="3000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cherer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6248520" cy="2703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2318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shapes are irrepti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is the order of a given sha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orders are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2437920"/>
            <a:ext cx="198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=a+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b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e+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+h=g+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95416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2438280"/>
            <a:ext cx="2057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d+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e=f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+f=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g=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8006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with e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1430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“Second Book of Mathematical Puzzles &amp; Diversions”, Martin Gardner, 19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“Dissections of p:q Rectangles”, Charles Jepsen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] “Tiling with Similar Polyominoes”, Mike Reid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] “A Puzzling Journey to the Reptiles and Related Animals”, Karl Scherer, 19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 “Packing a Partridge in a Square Tree II, III, and IV”,   Robert Wainwright, 1994, 1996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9480" y="5029200"/>
            <a:ext cx="2210040" cy="156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121932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http://www.meden.demon.co.uk/Fractals/gold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http://clarkjag.idx.com.au/PolyP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Reptile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] http://mathworld.wolfram.com/PerfectSquareDisse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] http://www.stetson.edu/~efriedma/mathmagic/080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ath.uwaterloo.ca/navigation/ideas/articles/ honsberger2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6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mepuzzles.com/friedma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400800" y="4267080"/>
            <a:ext cx="227952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2209680" cy="1569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657600" y="49528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862000" cy="464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6483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fect ti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a tiling of that shape with finitely many similar but non-congruent copies of the same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8954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the smallest number of copies needed in a perfect ti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267080"/>
            <a:ext cx="3429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qua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971800" y="44197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197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using trial and error,  a perfect square tiling with 69 squares was found. (Smith, Stone, Brooks, 1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perfect tiling to be published contained 55 squares.  (Sprague, 19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y years, the smallest possible order was thought to be 24. (Bristol, 1950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600200"/>
            <a:ext cx="3124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eventually the smallest order of a perfect square tiling was shown to be 21. (Duijvestijn, 197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7:12Z</dcterms:created>
  <dc:creator>Authorized User</dc:creator>
  <dc:description/>
  <dc:language>en-US</dc:language>
  <cp:lastModifiedBy>Authorized User</cp:lastModifiedBy>
  <cp:lastPrinted>2003-02-20T15:42:12Z</cp:lastPrinted>
  <dcterms:modified xsi:type="dcterms:W3CDTF">2003-02-20T15:51:30Z</dcterms:modified>
  <cp:revision>67</cp:revision>
  <dc:subject/>
  <dc:title>Reptiles, Partridges, and Bees: Tiling Shapes with Similar Copies</dc:title>
</cp:coreProperties>
</file>