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12D-A3CF-4DAA-AE7F-987E33A3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16E-F3D2-4B5E-8219-B42E4AA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98C-665D-4C8A-A28F-58F7F2EA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F90-9909-4BE1-8F14-6B800C36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BCF-D70B-4D8D-A4E2-DE834CD7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715-7E7B-4EDB-9275-29E138D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827-4D30-4FF9-A1FD-C374B05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EAD-C407-454A-8FC1-DB8E503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7B1-8B7D-46A8-B68D-BEABC25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FB6-499E-4F27-86EE-FE79F28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9F3-A510-49C1-9E88-B4A7983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AB1-B7B8-40A2-B173-FC86071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E566-5E7F-490E-B1CA-2AB7B7276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2209680" cy="148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895480" cy="180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6002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209680" cy="196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90720" y="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34016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90560" y="3200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rich Fried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tson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2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114800" y="5181480"/>
            <a:ext cx="4724280" cy="162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piral Galaxies Puzzles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re NP-comple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848720" cy="95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ce a TRUE or FALSE signal in a wire, we can end the wire at an appropriat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305920" cy="96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6002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T gate is a wire that contains a pair of circles that are only 2 units awa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59092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7315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ing Wires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02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ting a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295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left, we use three consecutive circles each a distance of 2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135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73392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up, we use three consecutive circles each raised 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822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400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in the H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952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the puzzle rectangular, we put a circle in every grid square that is not a part of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given circuit, we can find a Spiral Galaxies puzzle that can be solved if and only if there is a set of inputs to the circuit that make the output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atisfiability problem for circuits is known to be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pping we gave is poly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whether or not a given Spiral Galaxies puzzle has a solution is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 T. C. Biedl, E. D. Demaine, M. L. Demaine, R. Fleischer, L. Jacobsen, and J. I. Munro, "The Complexity of Clickomania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]  J. Culberson, "Sokoban is PSPACE complete."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Internet Conf. Fun with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8), N. S. E. Lodi, L. Pagli, Ed., Carelton Scientific, 65-7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3]  E. D. Demaine and M. Hoffman, "Pushing blocks is NP-complete for non-crossing solution paths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13th Canad. Conf. Comput. Geo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1), 65-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4]  E. Friedman, "Corra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]  E. Friedman, "Cubic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2001 Fl. Sectional MAA meeting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Kerr ,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6]  E. Friedman, ”Pear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7]  M.R. Garey and D.S. John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s and Intractibility: A Guide to the Theory of NP-Complete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W.H. Freeman, 197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8]  R. Kaye, "Minesweeper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thematical Intelligenc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 9-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9]  Nikoli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0]  D. Ratner and M. Warmuth, "Finding a shortest solution for the n x n extension of the 15-puzzle is intractable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. Symb. Com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0) 111-13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1]  S. Takahiro, "The Complexities of Puzzles, Cross Sum, and Their ASP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2]  Y. Takayuki, "On the NP-completeness of the Slither Link Puzzle".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PSJ SIGNotes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]  N. Ueda and T. Nagao, "NP-completeness Results for Nonogram via Parsimonious Reduction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zzles consist of grid of squares and some cir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is to divide a puzzle into connected groups of squa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ontain one circle, which must be a center of rotational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3244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and 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which are decidable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in which a “proof” for a yes answer can be checked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a subset of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 whether P=NP is one of the most important open questions in computer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lem is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-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 NP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ence of a polynomial time algorithm to solve it implies the existence of a polynomial time algorithm for all problems in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complete problem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nough to check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est suc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NP-complete problem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Colorability: Can the vertices of a graph G be colored with 3 colors so that every pair of adjacent vertices has different col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iltonicity: Does a graph G have a circuit that visits each vertex exactly o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: Can we divide N numbers in K sets so that each set has sum less than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re there inputs to a Boolean circuit with AND/OR/NOT gates that make the outputs TR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NP-comp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Result of this talk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38280"/>
            <a:ext cx="8382240" cy="1067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question of whether or not a given Spi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alaxies puzzle has a solution is NP-complet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657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e this, we will build arbitrary Boolean circuits in the Spiral Galaxies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wires" carry truth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junctions" in wires simulate logica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atisfiability is NP-complete, Spiral Galaxies puzzles are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that can have either truth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end a wire that forces i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split the signal in a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allow wires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s a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 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les of height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circle every 3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re carries the value TRUE if the solution involves 3x2 rectangles and FALSE if the solution involves alternating 5x2 and 1x2 rectang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153280" cy="95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configurations with two local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696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1:50:45Z</dcterms:created>
  <dc:creator>Erich Friedman</dc:creator>
  <dc:description/>
  <dc:language>en-US</dc:language>
  <cp:lastModifiedBy>Authorized User</cp:lastModifiedBy>
  <dcterms:modified xsi:type="dcterms:W3CDTF">2002-09-29T14:10:36Z</dcterms:modified>
  <cp:revision>32</cp:revision>
  <dc:subject/>
  <dc:title>The Game of Cubic is NP-complete</dc:title>
</cp:coreProperties>
</file>