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19.pct" ContentType="image/x-pict"/>
  <Override PartName="/ppt/media/image1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48C1-4EC0-43DD-B9C3-C164BEF61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325C-D38C-456B-89D6-2E065375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597B-B0D3-4225-8FEE-00867922E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0B22-D728-4F41-B464-970DF94EA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ED20-0E2A-4281-94C2-81E28C84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DC03-65D9-48E5-9B99-BF8A87D9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0CB1-CE59-4244-96A6-2C152B67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66E4-F80A-4C30-8DD5-0CC143FD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FB8A-49D0-48BB-98E3-693A5E82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B5F5-7E1F-4398-8840-4CB79A4C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73F5-BC06-4F30-A7B6-B31569A1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7379-7E6C-43C8-8993-BB556157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FED1-B76E-43D4-83A6-1DAFF86FE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image" Target="../media/image5.pct"/><Relationship Id="rId6" Type="http://schemas.openxmlformats.org/officeDocument/2006/relationships/image" Target="../media/image6.pct"/><Relationship Id="rId7" Type="http://schemas.openxmlformats.org/officeDocument/2006/relationships/image" Target="../media/image7.pct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image" Target="../media/image18.pct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114800" y="0"/>
            <a:ext cx="2209680" cy="1484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248520" y="3124080"/>
            <a:ext cx="2895480" cy="1806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238880" y="0"/>
            <a:ext cx="1600200" cy="1500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2438280"/>
            <a:ext cx="2209680" cy="1965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990720" y="0"/>
            <a:ext cx="1828800" cy="1400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0" y="4340160"/>
            <a:ext cx="3429000" cy="2517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2590560" y="3200040"/>
            <a:ext cx="3886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rich Friedm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etson Univers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ctober 2, 200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4114800" y="5181480"/>
            <a:ext cx="4724280" cy="1629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Spiral Galaxies Puzzles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are NP-complet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ing Wi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4343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cing a TRUE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4343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cing a FALSE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09480" y="3200400"/>
            <a:ext cx="7848720" cy="9572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85800" y="167652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orce a TRUE or FALSE signal in a wire, we can end the wire at an appropriate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 G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3200400"/>
            <a:ext cx="8305920" cy="969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85800" y="16002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OT gate is a wire that contains a pair of circles that are only 2 units away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2590920"/>
            <a:ext cx="1447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G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73152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 G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467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ting Wires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590920" y="1828800"/>
            <a:ext cx="4025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litting a Sig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84872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45720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ing Wi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295280"/>
            <a:ext cx="8839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hift a wire one unit left, we use three consecutive circles each a distance of 2.5 units from the previous 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7239240" cy="1351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04920" y="3733920"/>
            <a:ext cx="83055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hift a wire one unit up, we use three consecutive circles each raised .5 units from the previous 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4800600"/>
            <a:ext cx="822960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8305920" cy="4002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85800" y="45720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ling in the Ho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295280"/>
            <a:ext cx="7924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ke the puzzle rectangular, we put a circle in every grid square that is not a part of the circu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ny given circuit, we can find a Spiral Galaxies puzzle that can be solved if and only if there is a set of inputs to the circuit that make the output TR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atisfiability problem for circuits is known to be NP-comple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pping we gave is polynom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fore whether or not a given Spiral Galaxies puzzle has a solution is also NP-comple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1]  T. C. Biedl, E. D. Demaine, M. L. Demaine, R. Fleischer, L. Jacobsen, and J. I. Munro, "The Complexity of Clickomania".  prepri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2]  J. Culberson, "Sokoban is PSPACE complete."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oc. Internet Conf. Fun with Algorithm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1998), N. S. E. Lodi, L. Pagli, Ed., Carelton Scientific, 65-7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3]  E. D. Demaine and M. Hoffman, "Pushing blocks is NP-complete for non-crossing solution paths".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oc. 13th Canad. Conf. Comput. Geom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2001), 65-6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4]  E. Friedman, "Corral Puzzles are NP-complete". prepri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5]  E. Friedman, "Cubic is NP-complete"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oc. 2001 Fl. Sectional MAA meeting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vid Kerr ,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6]  E. Friedman, ”Pearl Puzzles are NP-complete". prepri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7]  M.R. Garey and D.S. Johnson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omputers and Intractibility: A Guide to the Theory of NP-Completenes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 W.H. Freeman, 197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8]  R. Kaye, "Minesweeper is NP-complete".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thematical Intelligenc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2000) 9-1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9]  Nikoli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200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10]  D. Ratner and M. Warmuth, "Finding a shortest solution for the n x n extension of the 15-puzzle is intractable".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J. Symb. Comp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1990) 111-137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11]  S. Takahiro, "The Complexities of Puzzles, Cross Sum, and Their ASPs".  prepri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12]  Y. Takayuki, "On the NP-completeness of the Slither Link Puzzle".  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IPSJ SIGNotes Algorithm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2000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13]  N. Ueda and T. Nagao, "NP-completeness Results for Nonogram via Parsimonious Reductions".  prepri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al Galaxies Puzz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zzles consist of grid of squares and some circ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bject is to divide a puzzle into connected groups of squar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contain one circle, which must be a center of rotational symme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71600" y="3657600"/>
            <a:ext cx="632448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 and N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et of all yes/no problems which are decidable in polynomial tim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N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et of all yes/no problems in which a “proof” for a yes answer can be checked in polynomial tim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is a subset of N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question whether P=NP is one of the most important open questions in computer sci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P-Complet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blem is 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NP-comple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in NP,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xistence of a polynomial time algorithm to solve it implies the existence of a polynomial time algorithm for all problems in N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P-complete problem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enough to check in polynomial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ardest such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 of NP-Complet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 of NP-complete problem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-Colorability: Can the vertices of a graph G be colored with 3 colors so that every pair of adjacent vertices has different colo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miltonicity: Does a graph G have a circuit that visits each vertex exactly o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 Packing: Can we divide N numbers in K sets so that each set has sum less than 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Satisfiabil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re there inputs to a Boolean circuit with AND/OR/NOT gates that make the outputs TRU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ral Galaxies Puzzl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re NP-comple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in Result of this talk i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438280"/>
            <a:ext cx="8382240" cy="1067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The question of whether or not a given Spir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Galaxies puzzle has a solution is NP-complete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3657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rove this, we will build arbitrary Boolean circuits in the Spiral Galaxies univer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wires" carry truth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junctions" in wires simulate logical g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Satisfiability is NP-complete, Spiral Galaxies puzzles are also NP-comple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n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e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 that can have either truth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y to end a wire that forces it to be 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g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g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y to split the signal in a w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y to allow wires to cr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s and Sig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0769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res a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les of height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a circle every 3 un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ire carries the value TRUE if the solution involves 3x2 rectangles and FALSE if the solution involves alternating 5x2 and 1x2 rectang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3520" y="4648320"/>
            <a:ext cx="8153280" cy="954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219320" y="5715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RUE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5715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ALSE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6002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 are configurations with two local solu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4343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RU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10080" y="4343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ALS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769608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3T01:50:45Z</dcterms:created>
  <dc:creator>Erich Friedman</dc:creator>
  <dc:description/>
  <dc:language>en-US</dc:language>
  <cp:lastModifiedBy>Authorized User</cp:lastModifiedBy>
  <dcterms:modified xsi:type="dcterms:W3CDTF">2002-09-29T14:10:36Z</dcterms:modified>
  <cp:revision>32</cp:revision>
  <dc:subject/>
  <dc:title>The Game of Cubic is NP-complete</dc:title>
</cp:coreProperties>
</file>