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4EE-FB31-4089-8B55-608A1500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754-70E9-457E-B4D7-0D30CEE0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BEF-4864-4564-BEE8-C77919B4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1AD-4A26-4A29-8DA6-5770CAD2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FD5-33E5-4EEE-8EAB-78FCF4FD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A1D-642A-4083-80B9-3DF2D066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2BB-5E3A-4E13-96B4-A3599EE7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ED4-FA2A-492C-AC86-B96DA59A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5B1-F43C-4AEF-A0C9-8C2E4593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857-43DD-440B-BFB8-EA9F19DE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B61-B8DA-42E1-BA4F-E5C82249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6CC-D7AC-4CD5-B4A4-6686C705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EBB7-DF1E-423A-B037-C6F535584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2209680" cy="1484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895480" cy="180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38880" y="0"/>
            <a:ext cx="160020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2209680" cy="196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90720" y="0"/>
            <a:ext cx="1828800" cy="140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340160"/>
            <a:ext cx="3429000" cy="2517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90560" y="3200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rich Fried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tson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tober 2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114800" y="5181480"/>
            <a:ext cx="4724280" cy="1629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piral Galaxies Puzzles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re NP-comple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ng W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343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a TRU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343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a FALS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848720" cy="95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16765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rce a TRUE or FALSE signal in a wire, we can end the wire at an appropriat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305920" cy="96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16002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T gate is a wire that contains a pair of circles that are only 2 units awa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590920"/>
            <a:ext cx="144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7315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ing Wires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02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tting a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8487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457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W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2952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ift a wire one unit left, we use three consecutive circles each a distance of 2.5 units from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239240" cy="1351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733920"/>
            <a:ext cx="830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ift a wire one unit up, we use three consecutive circles each raised .5 units from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822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305920" cy="400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457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in the H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952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the puzzle rectangular, we put a circle in every grid square that is not a part of the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given circuit, we can find a Spiral Galaxies puzzle that can be solved if and only if there is a set of inputs to the circuit that make the output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atisfiability problem for circuits is known to be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pping we gave is poly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whether or not a given Spiral Galaxies puzzle has a solution is also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 T. C. Biedl, E. D. Demaine, M. L. Demaine, R. Fleischer, L. Jacobsen, and J. I. Munro, "The Complexity of Clickomania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2]  J. Culberson, "Sokoban is PSPACE complete."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Internet Conf. Fun with Algorith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998), N. S. E. Lodi, L. Pagli, Ed., Carelton Scientific, 65-7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3]  E. D. Demaine and M. Hoffman, "Pushing blocks is NP-complete for non-crossing solution paths"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13th Canad. Conf. Comput. Geo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1), 65-6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4]  E. Friedman, "Corral Puzzles are NP-complete".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5]  E. Friedman, "Cubic is NP-complete"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2001 Fl. Sectional MAA meeting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Kerr ,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6]  E. Friedman, ”Pearl Puzzles are NP-complete".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7]  M.R. Garey and D.S. John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s and Intractibility: A Guide to the Theory of NP-Completen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W.H. Freeman, 197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8]  R. Kaye, "Minesweeper is NP-complete"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thematical Intelligenc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 9-1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9]  Nikoli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0]  D. Ratner and M. Warmuth, "Finding a shortest solution for the n x n extension of the 15-puzzle is intractable"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. Symb. Com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990) 111-13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1]  S. Takahiro, "The Complexities of Puzzles, Cross Sum, and Their ASPs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2]  Y. Takayuki, "On the NP-completeness of the Slither Link Puzzle".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PSJ SIGNotes Algorith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3]  N. Ueda and T. Nagao, "NP-completeness Results for Nonogram via Parsimonious Reductions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al Galaxies Puzz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zzles consist of grid of squares and some circ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ject is to divide a puzzle into connected groups of squa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ontain one circle, which must be a center of rotational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3244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and N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yes/no problems which are decidable in polynomial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yes/no problems in which a “proof” for a yes answer can be checked in polynomial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a subset of 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estion whether P=NP is one of the most important open questions in computer 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-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lem is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NP-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n NP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istence of a polynomial time algorithm to solve it implies the existence of a polynomial time algorithm for all problems in 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complete problem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enough to check in polynomi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est such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NP-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NP-complete problem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Colorability: Can the vertices of a graph G be colored with 3 colors so that every pair of adjacent vertices has different col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iltonicity: Does a graph G have a circuit that visits each vertex exactly o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 Packing: Can we divide N numbers in K sets so that each set has sum less than 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re there inputs to a Boolean circuit with AND/OR/NOT gates that make the outputs TR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al Galaxies Puzz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re NP-comp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Result of this talk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38280"/>
            <a:ext cx="8382240" cy="1067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question of whether or not a given Spi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Galaxies puzzle has a solution is NP-complete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657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e this, we will build arbitrary Boolean circuits in the Spiral Galaxies uni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wires" carry truth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junctions" in wires simulate logica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atisfiability is NP-complete, Spiral Galaxies puzzles are also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that can have either truth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end a wire that forces i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split the signal in a w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allow wires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s and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s 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les of height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 circle every 3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re carries the value TRUE if the solution involves 3x2 rectangles and FALSE if the solution involves alternating 5x2 and 1x2 rectang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153280" cy="95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193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U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LS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configurations with two local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U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LS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696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01:50:45Z</dcterms:created>
  <dc:creator>Erich Friedman</dc:creator>
  <dc:description/>
  <dc:language>en-US</dc:language>
  <cp:lastModifiedBy>Authorized User</cp:lastModifiedBy>
  <dcterms:modified xsi:type="dcterms:W3CDTF">2002-09-29T14:10:36Z</dcterms:modified>
  <cp:revision>32</cp:revision>
  <dc:subject/>
  <dc:title>The Game of Cubic is NP-complete</dc:title>
</cp:coreProperties>
</file>