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17.pct" ContentType="image/x-pict"/>
  <Override PartName="/ppt/media/image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media/image13.png" ContentType="image/png"/>
  <Override PartName="/ppt/media/image22.pct" ContentType="image/x-pict"/>
  <Override PartName="/ppt/media/image9.png" ContentType="image/png"/>
  <Override PartName="/ppt/media/image23.png" ContentType="image/png"/>
  <Override PartName="/ppt/media/image31.pct" ContentType="image/x-pict"/>
  <Override PartName="/ppt/media/image4.png" ContentType="image/png"/>
  <Override PartName="/ppt/media/image30.pct" ContentType="image/x-pict"/>
  <Override PartName="/ppt/media/image6.png" ContentType="image/png"/>
  <Override PartName="/ppt/media/image3.pct" ContentType="image/x-pict"/>
  <Override PartName="/ppt/media/image26.pct" ContentType="image/x-pict"/>
  <Override PartName="/ppt/media/image2.png" ContentType="image/png"/>
  <Override PartName="/ppt/media/image1.png" ContentType="image/png"/>
  <Override PartName="/ppt/media/image24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5.pct" ContentType="image/x-pict"/>
  <Override PartName="/ppt/media/image2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71B-0421-465C-903E-D473E1DC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043-55D4-4740-94CE-104DA1C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1F7-3A88-4F14-8D7B-B7A7F339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D97-1BCD-4982-8A3A-7D42AB5E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2A4-AAE8-4272-958D-3C1A6A5E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676-E138-4033-B7D7-9C80F993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DBB-A703-4138-8817-13CACF5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BDC-942F-434C-AD5A-8FC7688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503-9F19-4A6E-B7B0-10530AB3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12F-216F-4820-842A-9396ECC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DC6-FD74-4F37-BF95-F00A6E2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711-C2DF-4316-A46D-20DF387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7052-A5DF-43BC-A8AB-5B3972A39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ct"/><Relationship Id="rId11" Type="http://schemas.openxmlformats.org/officeDocument/2006/relationships/image" Target="../media/image11.pct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ozen Unsolved Probl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160" y="3733560"/>
            <a:ext cx="3429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/17/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47780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1600200" cy="132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160020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86400" y="380880"/>
            <a:ext cx="146520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238880" y="304920"/>
            <a:ext cx="148284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57200" y="3124080"/>
            <a:ext cx="2209680" cy="128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400800" y="3048120"/>
            <a:ext cx="2209680" cy="122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80880" y="4572000"/>
            <a:ext cx="221004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676520" y="5638680"/>
            <a:ext cx="1752480" cy="95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086600" y="4572000"/>
            <a:ext cx="167652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486400" y="5334120"/>
            <a:ext cx="1523880" cy="12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3733920" y="5181480"/>
            <a:ext cx="152388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 dimensions, the answers ar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“hexagonal as possibl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3818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 dimensions, the answers for n≤56 ar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aus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the centers in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382240" cy="105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3434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=3 and n≥57, the answers are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=4, the answers are sausages for n up to somewhere between 50,000 and 100,000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usage Conjecture: (F. Tóth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imensions 5 and higher, the optimal configuration is always a sau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8862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 Betke, M. Henk, and J. Wills proved the sausage conjecture for d≥42 in 199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814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conjecture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of color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which we can color the plane so that no two points of the same color are distance 1 a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191120"/>
            <a:ext cx="7162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just 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hromatic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graph whose vertices are in the plane and two vertices are connected if they are unit distance from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atic number of this unit distance graph (which is called the Moser spindle) is 4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93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ne can be colored with 7 colors to avoid unit pairs having the same color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≤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46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ts of points of a given color have to be measurabl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ts have to be closed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Kissing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 dimensions, 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kissing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(d) is the maximum number of disjoint unit spheres that can touch a given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26708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(2)=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(3)=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25401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Kissing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Conway and N. Sloane proved  K(5)=40, K(6)=72, and K(7)=126 in 19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Odlyzko and N. Sloane proved K(8)=240, and K(24)=196,560  in 197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ther dimensions are still un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K(9)=30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erfect cub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ctangular box whose sides, face diagonals, and space diagonals are all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0" y="3886200"/>
            <a:ext cx="47242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-dimensions, defin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L(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the largest integer n for which a cube can not be cut into n cubes.  What is L(d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(2)=5, a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4876920"/>
            <a:ext cx="78487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known whether a perfect cuboid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near misses are kn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240   b=117   c=4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67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4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672   b=153   c=10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80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5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8720   b=√211773121    c = 7800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3711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0280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6511 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49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a perfect cuboid, it has been shown that the smallest side must be at leas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,294,967,29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is no perfect cub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which values of n is it possible to cut a rectangle into n equal non-rectangular par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riangles, we can do this for all eve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3915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er to do for odd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olutions for n=11 and n=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114800" cy="223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3505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619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ally, there is no solution for n=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known for all other n except n=3, 5, 7, and 9, which remain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rue in higher dimension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are no solutions for thes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be congruent overlapping rectangles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best possible bound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114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fairly easy to prove 1/4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1/3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ratio defined for triang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the best bounds for a triangle with smallest angl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        si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csc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 dimensions, is the best upper bound on the ratio of (d-1)-dimensional surface area equal to 2d-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urse, for circles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1/3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ve n points in the plane, they determine 1+2+3+…+(n-1)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arrange n points in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general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one distance occurs once, one distance occurs twice, … and one distance occurs n-1 ti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eneral position means no 3 points on a line and no 4 points on a circl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asy to accomplish for small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for n=4 i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4572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Hickerson showed L(3) = 4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5904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124080"/>
            <a:ext cx="4419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partition to be found was the division into 54 smaller cubes, a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4100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s into 49 and 51 cubes are also challen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2895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only known for n≤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tion (by I. Pilásti) for n=8 i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67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olution for n=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olution for all integers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dös offered $500 for a proof of “yes” and $50 for a proof of “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has been done on the same problem in higher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is a solution for n=9, but not for larg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 in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K(n) starts                        0, 0, 1, 2, 5, 7, 11, 15, 21, .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al arrangements for n≤9 are shown on the next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 in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K(10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does K(n) gr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 Tamura proved that K(n) ≤ n(n-2)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is bound can be im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iling of the plane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lated onto itself with two non-parallel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5613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tile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a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y tile the plane, but not in a periodic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581280"/>
            <a:ext cx="3581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ough a square can tile the plane in a non-periodic way, it is not aperiod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66, Berger produced the first set of 20,426 aperiodic tiles, which he soon lowered to 104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68, D. Knuth discovered 92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ly thereafter, R. Robinson reduced this to 35 tiles, R. Penrose found a set of 34 tiles, and R. Ammann lowered to 16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1, R. Robinson found this set of 6 aperiodic tiles based on notched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553440" cy="201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6324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4, R. Penrose found this set of 2 colored aperiodic tiles, now called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8001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286000"/>
            <a:ext cx="7086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(4)≤853  and  L(5)≤189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bound known (due to Erdös) is L(d)&lt;(e-1)(2d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(d) is probably o(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oring can be dispensed with if we notch these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2012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391520" cy="4287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part of a tiling using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ingle tile which is aperiod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set of 3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eaning no notches) aperiodic tiles.  Are there 2? 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 dimensions, R. Ammann has found 2 aperiodic polyhedra, and L. Danzer has found 4 aperiodic tetrahed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single aperiodic tile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Heesch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lanar shape is the number of times it can be completely surrounded by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shape to the right has Heesch numbe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517920" cy="3175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8080" y="525780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largest finite Heesch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xagon with two external notches and 3 internal notches has Heesch number 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6609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2057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st known Heesch number i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5956560" cy="6019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                    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2743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are higher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. Klee, Some Unsolved Problems in Plane Geometr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h Ma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979) 131-1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 Croft, K. Falconer, and R. Guy, Unsolved Problems in Geometry, Springer Verlag, New York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Weisstein’s World of Mathematics, http://mathworld.wolfram.com/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ometry Junkyard, http://www.ics.uci.edu/~eppstein/junkyard/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olygon S constructed with mirrors as sides, and given a point P in the interior of 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as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inside of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complet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by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source at 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41911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for every S and P, the answer is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unterexample is known, but no one has a pro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is easier problem is open: Does every polygon S have any point P where a light source would illuminate the interi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on-polygonal regions, the conjecture is false, as shown by the exampl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68316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3733920"/>
            <a:ext cx="3809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 and bottom are elliptical arcs with foci shown, connected with some circular ar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continuously differentiable regions where an arbitrarily large number of light sources are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 region requiring an infinite number of light sources, you need one non-differentiable point (J. Rau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conjecture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19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n non-overlapping d-dimensional spheres be arranged to minimize the volume of their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 h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e convex hull is the set of all points on a line segment between points in two different sphere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8:51:38Z</dcterms:created>
  <dc:creator>Authorized User</dc:creator>
  <dc:description/>
  <dc:language>en-US</dc:language>
  <cp:lastModifiedBy>Authorized User</cp:lastModifiedBy>
  <dcterms:modified xsi:type="dcterms:W3CDTF">2003-09-07T15:07:50Z</dcterms:modified>
  <cp:revision>39</cp:revision>
  <dc:subject/>
  <dc:title>A Dozen Unsolved Problems in Geometry</dc:title>
</cp:coreProperties>
</file>