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8.pct" ContentType="image/x-pict"/>
  <Override PartName="/ppt/media/image17.pct" ContentType="image/x-pict"/>
  <Override PartName="/ppt/media/image5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ct" ContentType="image/x-pict"/>
  <Override PartName="/ppt/media/image13.png" ContentType="image/png"/>
  <Override PartName="/ppt/media/image22.pct" ContentType="image/x-pict"/>
  <Override PartName="/ppt/media/image9.png" ContentType="image/png"/>
  <Override PartName="/ppt/media/image23.png" ContentType="image/png"/>
  <Override PartName="/ppt/media/image31.pct" ContentType="image/x-pict"/>
  <Override PartName="/ppt/media/image4.png" ContentType="image/png"/>
  <Override PartName="/ppt/media/image30.pct" ContentType="image/x-pict"/>
  <Override PartName="/ppt/media/image6.png" ContentType="image/png"/>
  <Override PartName="/ppt/media/image3.pct" ContentType="image/x-pict"/>
  <Override PartName="/ppt/media/image26.pct" ContentType="image/x-pict"/>
  <Override PartName="/ppt/media/image2.png" ContentType="image/png"/>
  <Override PartName="/ppt/media/image1.png" ContentType="image/png"/>
  <Override PartName="/ppt/media/image24.png" ContentType="image/png"/>
  <Override PartName="/ppt/media/image11.pct" ContentType="image/x-pict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5.pct" ContentType="image/x-pict"/>
  <Override PartName="/ppt/media/image2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C1E-799A-4FC2-9EE7-16A40850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1F9-279A-4F50-9B53-C5FB888D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920-B9F1-46B3-A8C1-653672185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175-9D9F-4738-837E-1A03DF5BA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771B-BB15-4F50-9E01-60BBB7B6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533-743A-47C7-916A-44846A11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575-ED3A-4BE9-9408-686CDF3E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0F2-BBB6-428A-AEA4-0B02F4C8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037-52F2-4139-B8FE-6BDFCAA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8A2-F31A-4F8D-8A85-D1B476F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915-58D2-42D5-BB43-64709AA5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4AC-9632-4403-9F8C-680D0A48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866F8-A2E1-46F3-806C-5BD6FA69A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ct"/><Relationship Id="rId11" Type="http://schemas.openxmlformats.org/officeDocument/2006/relationships/image" Target="../media/image11.pct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Dozen Unsolved Problem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19160" y="3733560"/>
            <a:ext cx="3429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h Fried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tso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/17/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47780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81080" y="762120"/>
            <a:ext cx="1600200" cy="132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533520"/>
            <a:ext cx="1600200" cy="960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486400" y="380880"/>
            <a:ext cx="1465200" cy="1676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238880" y="304920"/>
            <a:ext cx="1482840" cy="16761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457200" y="3124080"/>
            <a:ext cx="2209680" cy="1281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400800" y="3048120"/>
            <a:ext cx="2209680" cy="122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80880" y="4572000"/>
            <a:ext cx="221004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676520" y="5638680"/>
            <a:ext cx="1752480" cy="954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7086600" y="4572000"/>
            <a:ext cx="1676520" cy="1512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5486400" y="5334120"/>
            <a:ext cx="1523880" cy="1204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3733920" y="5181480"/>
            <a:ext cx="1523880" cy="14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2 dimensions, the answers ar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us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r “hexagonal as possible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3818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 dimensions, the answers for n≤56 ar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aus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ith the centers in a straigh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8382240" cy="105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343400"/>
            <a:ext cx="8001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=3 and n≥57, the answers are clu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=4, the answers are sausages for n up to somewhere between 50,000 and 100,000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ausage Conjecture: (F. Tóth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imensions 5 and higher, the optimal configuration is always a sau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88620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 Betke, M. Henk, and J. Wills proved the sausage conjecture for d≥42 in 199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8148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conjecture i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smallest number of color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th which we can color the plane so that no two points of the same color are distance 1 a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4191120"/>
            <a:ext cx="71629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just 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hromatic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graph whose vertices are in the plane and two vertices are connected if they are unit distance from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0481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romatic number of this unit distance graph (which is called the Moser spindle) is 4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393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lane can be colored with 7 colors to avoid unit pairs having the same color, s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≤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4468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he Chromatic Numb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the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7720" y="22856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ts of points of a given color have to be measurable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ts have to be closed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≥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Kissing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543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 dimensions, 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kissing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(d) is the maximum number of disjoint unit spheres that can touch a given sp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26708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(2)= 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(3)=1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743200" cy="24955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95880" y="3657600"/>
            <a:ext cx="254016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Kissing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20570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. Conway and N. Sloane proved  K(5)=40, K(6)=72, and K(7)=126 in 199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Odlyzko and N. Sloane proved K(8)=240, and K(24)=196,560  in 197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ther dimensions are still un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K(9)=30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erfect Cub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perfect cuboi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ectangular box whose sides, face diagonals, and space diagonals are all inte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0" y="3886200"/>
            <a:ext cx="472428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 Hadwig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-dimensions, defin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L(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be the largest integer n for which a cube can not be cut into n cubes.  What is L(d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(2)=5, as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9480" y="4876920"/>
            <a:ext cx="78487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erfect Cub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not known whether a perfect cuboid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near misses are know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240   b=117   c=44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67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44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=672   b=153   c=104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80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85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18720   b=√211773121    c = 7800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3711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0280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6511   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49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erfect Cub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a perfect cuboid, it has been shown that the smallest side must be at least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,294,967,29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is no perfect cubo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which values of n is it possible to cut a rectangle into n equal non-rectangular par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triangles, we can do this for all eve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39152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harder to do for odd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are solutions for n=11 and n=1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33520" y="4038480"/>
            <a:ext cx="4114800" cy="2238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3505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Cutting Rectangles i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uent Non-Rectangular Pa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619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vially, there is no solution for n=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known for all other n except n=3, 5, 7, and 9, which remain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rue in higher dimension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are no solutions for thes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Overlapping Congruent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A and B be congruent overlapping rectangles with perimeters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best possible bound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 ------------------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gth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4114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Overlapping Congruent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fairly easy to prove 1/4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1/3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ratio defined for triang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the best bounds for a triangle with smallest angl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        sin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csc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Overlapping Congruent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4678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 dimensions, is the best upper bound on the ratio of (d-1)-dimensional surface area equal to 2d-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course, for circles,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1/3 ≤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467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have n points in the plane, they determine 1+2+3+…+(n-1) di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arrange n points in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general pos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 that one distance occurs once, one distance occurs twice, … and one distance occurs n-1 tim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General position means no 3 points on a line and no 4 points on a circl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easy to accomplish for small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xample for n=4 is shown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4572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18284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Hickerson showed L(3) = 47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105520" y="1828800"/>
            <a:ext cx="365904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3124080"/>
            <a:ext cx="44197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partition to be found was the division into 54 smaller cubes, as shown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54100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tions into 49 and 51 cubes are also challen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 Hadwig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28954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s are only known for n≤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olution (by I. Pilásti) for n=8 is shown to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1676520"/>
            <a:ext cx="46782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Distances Between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olution for n=9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olution for all integers 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dös offered $500 for a proof of “yes” and $50 for a proof of “n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has been done on the same problem in higher dim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is a solution for n=9, but not for large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The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isjoint triangles can be created with n lines in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quence K(n) starts                        0, 0, 1, 2, 5, 7, 11, 15, 21, .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ptimal arrangements for n≤9 are shown on the next sl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The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disjoint triangles can be created with n lines in the pla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15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The Kabon Triang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K(10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fast does K(n) gr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. Tamura proved that K(n) ≤ n(n-2)/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is bound can be impro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iling of the plane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perio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it can be translated onto itself with two non-parallel transl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52480" y="3657600"/>
            <a:ext cx="5613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t of tiles is called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aperiod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they tile the plane, but not in a periodic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3581280"/>
            <a:ext cx="3581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ough a square can tile the plane in a non-periodic way, it is not aperiod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4114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66, Berger produced the first set of 20,426 aperiodic tiles, which he soon lowered to 104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68, D. Knuth discovered 92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ly thereafter, R. Robinson reduced this to 35 tiles, R. Penrose found a set of 34 tiles, and R. Ammann lowered to 16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71, R. Robinson found this set of 6 aperiodic tiles based on notched squ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95280" y="4495680"/>
            <a:ext cx="6553440" cy="2016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7920" y="2743200"/>
            <a:ext cx="632448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74, R. Penrose found this set of 2 colored aperiodic tiles, now called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80010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2286000"/>
            <a:ext cx="7086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(4)≤853  and  L(5)≤189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2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bound known (due to Erdös) is L(d)&lt;(e-1)(2d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L(d) is probably o(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The Hadwiger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loring can be dispensed with if we notch these pie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62012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7391520" cy="42876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part of a tiling using Penrose Ti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Aperiodic 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single tile which is aperiodi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a set of 3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onv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meaning no notches) aperiodic tiles.  Are there 2? 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3 dimensions, R. Ammann has found 2 aperiodic polyhedra, and L. Danzer has found 4 aperiodic tetrahed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No single aperiodic tile exi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Heesch’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Heesch numb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planar shape is the number of times it can be completely surrounded by copies of itsel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335268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, the shape to the right has Heesch numbe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517920" cy="3175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38080" y="525780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the largest finite Heesch numb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Heesch’s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2590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exagon with two external notches and 3 internal notches has Heesch number 4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466092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2057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ighest known Heesch number i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95480" y="533520"/>
            <a:ext cx="5956560" cy="60195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09120" y="3049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Heesch’s                     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876920"/>
            <a:ext cx="2743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re are higher 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. Klee, Some Unsolved Problems in Plane Geometry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th Ma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1979) 131-14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 Croft, K. Falconer, and R. Guy, Unsolved Problems in Geometry, Springer Verlag, New York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Weisstein’s World of Mathematics, http://mathworld.wolfram.com/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ometry Junkyard, http://www.ics.uci.edu/~eppstein/junkyard/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polygon S constructed with mirrors as sides, and given a point P in the interior of 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as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inside of 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 complete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luminated by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source at 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41911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conjectured that for every S and P, the answer is 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unterexample is known, but no one has a proo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this easier problem is open: Does every polygon S have any point P where a light source would illuminate the interi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non-polygonal regions, the conjecture is false, as shown by the exampl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3683160" cy="3048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914400" y="3733920"/>
            <a:ext cx="38098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op and bottom are elliptical arcs with foci shown, connected with some circular ar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The Polyg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mination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continuously differentiable regions where an arbitrarily large number of light sources are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 region requiring an infinite number of light sources, you need one non-differentiable point (J. Rau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art 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The conjecture is tr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The Penny Packing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197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n non-overlapping d-dimensional spheres be arranged to minimize the volume of their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onvex hu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he convex hull is the set of all points on a line segment between points in two different spheres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3T18:51:38Z</dcterms:created>
  <dc:creator>Authorized User</dc:creator>
  <dc:description/>
  <dc:language>en-US</dc:language>
  <cp:lastModifiedBy>Authorized User</cp:lastModifiedBy>
  <dcterms:modified xsi:type="dcterms:W3CDTF">2003-09-07T15:07:50Z</dcterms:modified>
  <cp:revision>39</cp:revision>
  <dc:subject/>
  <dc:title>A Dozen Unsolved Problems in Geometry</dc:title>
</cp:coreProperties>
</file>