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ct" ContentType="image/x-pict"/>
  <Override PartName="/ppt/media/image28.pct" ContentType="image/x-pict"/>
  <Override PartName="/ppt/media/image17.pct" ContentType="image/x-pict"/>
  <Override PartName="/ppt/media/image5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ct" ContentType="image/x-pict"/>
  <Override PartName="/ppt/media/image13.png" ContentType="image/png"/>
  <Override PartName="/ppt/media/image22.pct" ContentType="image/x-pict"/>
  <Override PartName="/ppt/media/image9.png" ContentType="image/png"/>
  <Override PartName="/ppt/media/image23.png" ContentType="image/png"/>
  <Override PartName="/ppt/media/image31.pct" ContentType="image/x-pict"/>
  <Override PartName="/ppt/media/image4.png" ContentType="image/png"/>
  <Override PartName="/ppt/media/image30.pct" ContentType="image/x-pict"/>
  <Override PartName="/ppt/media/image6.png" ContentType="image/png"/>
  <Override PartName="/ppt/media/image3.pct" ContentType="image/x-pict"/>
  <Override PartName="/ppt/media/image26.pct" ContentType="image/x-pict"/>
  <Override PartName="/ppt/media/image2.png" ContentType="image/png"/>
  <Override PartName="/ppt/media/image1.png" ContentType="image/png"/>
  <Override PartName="/ppt/media/image24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5.pct" ContentType="image/x-pict"/>
  <Override PartName="/ppt/media/image27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5CC-8104-479A-8EA7-0531E779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4079-3DBF-4C52-905F-EF71B37E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F823-8552-4623-8496-DF8886DD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B5A5-6C41-464E-8162-FC65E077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56C0-E396-4C54-B33D-F33CD522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341-867F-45BB-AA30-AF3296D6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69E6-082A-4E5A-B2B6-C3264E8F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EBA-919B-4E32-BB92-182B6320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7CED-71D2-49B1-8771-8E84D7CB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8FC-FB9C-48D7-991A-0920C2CE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3F4-D1AF-4B9C-A6D8-DBE8D406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1F7-97CB-4027-8D1C-DF7A25DF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0D12-2B3C-42BD-B391-28B6DFF2B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ct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ct"/><Relationship Id="rId11" Type="http://schemas.openxmlformats.org/officeDocument/2006/relationships/image" Target="../media/image11.pct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image" Target="../media/image26.pct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ozen Unsolved Probl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19160" y="3733560"/>
            <a:ext cx="3429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h Fried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tso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/17/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47780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81080" y="762120"/>
            <a:ext cx="1600200" cy="1323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733920" y="533520"/>
            <a:ext cx="1600200" cy="960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486400" y="380880"/>
            <a:ext cx="1465200" cy="16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238880" y="304920"/>
            <a:ext cx="1482840" cy="1676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57200" y="3124080"/>
            <a:ext cx="2209680" cy="1281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400800" y="3048120"/>
            <a:ext cx="2209680" cy="1226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80880" y="4572000"/>
            <a:ext cx="2210040" cy="1487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1676520" y="5638680"/>
            <a:ext cx="1752480" cy="954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7086600" y="4572000"/>
            <a:ext cx="1676520" cy="151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5486400" y="5334120"/>
            <a:ext cx="1523880" cy="120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3733920" y="5181480"/>
            <a:ext cx="152388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The Penny Pack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2 dimensions, the answers ar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lus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“hexagonal as possibl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83818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The Penny Pack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3 dimensions, the answers for n≤56 ar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ausa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ith the centers in a straight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8382240" cy="1054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434340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d=3 and n≥57, the answers are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d=4, the answers are sausages for n up to somewhere between 50,000 and 100,000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The Penny Pack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ausage Conjecture: (F. Tóth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imensions 5 and higher, the optimal configuration is always a sau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8862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 Betke, M. Henk, and J. Wills proved the sausage conjecture for d≥42 in 199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518148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conjecture is tr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he Chromatic Numb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number of color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which we can color the plane so that no two points of the same color are distance 1 ap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4191120"/>
            <a:ext cx="71629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just th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hromatic 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graph whose vertices are in the plane and two vertices are connected if they are unit distance from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he Chromatic Numb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048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romatic number of this unit distance graph (which is called the Moser spindle) is 4, s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≥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3932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he Chromatic Numb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2971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lane can be colored with 7 colors to avoid unit pairs having the same color, s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≤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468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he Chromatic Numb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ets of points of a given color have to be measurable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≥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ets have to be closed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≥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Kissing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543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 dimensions, th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kissing 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(d) is the maximum number of disjoint unit spheres that can touch a given 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267080"/>
            <a:ext cx="2133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(2)= 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(3)=1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2743200" cy="2495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5880" y="3657600"/>
            <a:ext cx="25401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Kissing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205704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 Conway and N. Sloane proved  K(5)=40, K(6)=72, and K(7)=126 in 199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Odlyzko and N. Sloane proved K(8)=240, and K(24)=196,560  in 197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ther dimensions are still unsol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K(9)=30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Perfect Cub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perfect cub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ctangular box whose sides, face diagonals, and space diagonals are all inte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0" y="3886200"/>
            <a:ext cx="472428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The Hadwiger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3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-dimensions, defin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L(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be the largest integer n for which a cube can not be cut into n cubes.  What is L(d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(2)=5, as shown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4876920"/>
            <a:ext cx="78487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Perfect Cub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not known whether a perfect cuboid ex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near misses are know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=240   b=117   c=44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67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44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=672   b=153   c=104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80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85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18720   b=√211773121    c = 7800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3711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0280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6511 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49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Perfect Cub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a perfect cuboid, it has been shown that the smallest side must be at least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,294,967,29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re is no perfect cubo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Cutting Rectangles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gruent Non-Rectangular P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which values of n is it possible to cut a rectangle into n equal non-rectangular par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riangles, we can do this for all even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3915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Cutting Rectangles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gruent Non-Rectangular P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925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harder to do for odd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are solutions for n=11 and n=1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4114800" cy="2238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029200" y="4267080"/>
            <a:ext cx="35053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Cutting Rectangles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gruent Non-Rectangular P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76197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vially, there is no solution for n=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s are known for all other n except n=3, 5, 7, and 9, which remain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rue in higher dimension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re are no solutions for these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Overlapping Congruent Sh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197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A and B be congruent overlapping rectangles with perimeters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best possible bound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------------------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4114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Overlapping Congruent Sh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4678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fairly easy to prove 1/4 ≤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njectured that 1/3 ≤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ratio defined for triang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njectured that the best bounds for a triangle with smallest angl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        sin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2) ≤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csc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Overlapping Congruent Sh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4678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 dimensions, is the best upper bound on the ratio of (d-1)-dimensional surface area equal to 2d-1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course, for circles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1/3 ≤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 Distances Betwee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have n points in the plane, they determine 1+2+3+…+(n-1) di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arrange n points in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 general 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that one distance occurs once, one distance occurs twice, … and one distance occurs n-1 tim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General position means no 3 points on a line and no 4 points on a circle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 Distances Betwee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4678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easy to accomplish for small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 for n=4 is shown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7400" y="3886200"/>
            <a:ext cx="45720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Hickerson showed L(3) = 4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659040" cy="396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3124080"/>
            <a:ext cx="4419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st partition to be found was the division into 54 smaller cubes, as shown to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54100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s into 49 and 51 cubes are also challeng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The Hadwiger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 Distances Betwee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2895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s are only known for n≤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lution (by I. Pilásti) for n=8 is shown to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86200" y="1676520"/>
            <a:ext cx="4678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 Distances Betwee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solution for n=9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solution for all integers 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dös offered $500 for a proof of “yes” and $50 for a proof of “n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little has been done on the same problem in higher dimen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re is a solution for n=9, but not for large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The Kabon Triangl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disjoint triangles can be created with n lines in the pla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quence K(n) starts                        0, 0, 1, 2, 5, 7, 11, 15, 21, .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timal arrangements for n≤9 are shown on the next sl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The Kabon Triangl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disjoint triangles can be created with n lines in the pla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15364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The Kabon Triangl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315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K(10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fast does K(n) gr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 Tamura proved that K(n) ≤ n(n-2)/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is bound can be impr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iling of the plane is called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period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can be translated onto itself with two non-parallel trans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52480" y="3657600"/>
            <a:ext cx="56134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of tiles is called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aperiod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y tile the plane, but not in a periodic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581280"/>
            <a:ext cx="3581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though a square can tile the plane in a non-periodic way, it is not aperiod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41148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66, Berger produced the first set of 20,426 aperiodic tiles, which he soon lowered to 104 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68, D. Knuth discovered 92 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ly thereafter, R. Robinson reduced this to 35 tiles, R. Penrose found a set of 34 tiles, and R. Ammann lowered to 16 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71, R. Robinson found this set of 6 aperiodic tiles based on notched squ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95280" y="4495680"/>
            <a:ext cx="6553440" cy="2016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447920" y="2743200"/>
            <a:ext cx="632448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74, R. Penrose found this set of 2 colored aperiodic tiles, now called Penrose 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80010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2286000"/>
            <a:ext cx="7086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(4)≤853  and  L(5)≤189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bound known (due to Erdös) is L(d)&lt;(e-1)(2d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(d) is probably o(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The Hadwiger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loring can be dispensed with if we notch these pie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62012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7391520" cy="42876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part of a tiling using Penrose 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single tile which is aperiodi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set of 3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onv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eaning no notches) aperiodic tiles.  Are there 2?  1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3 dimensions, R. Ammann has found 2 aperiodic polyhedra, and L. Danzer has found 4 aperiodic tetrahed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o single aperiodic tile ex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. Heesch’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Heesch 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planar shape is the number of times it can be completely surrounded by copies of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335268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the shape to the right has Heesch numbe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517920" cy="3175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38080" y="525780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the largest finite Heesch num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. Heesch’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2590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exagon with two external notches and 3 internal notches has Heesch number 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038480" y="1371600"/>
            <a:ext cx="46609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2057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ighest known Heesch number is 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895480" y="533520"/>
            <a:ext cx="5956560" cy="60195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. Heesch’s                     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876920"/>
            <a:ext cx="2743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re are higher 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. Klee, Some Unsolved Problems in Plane Geometr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h Ma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979) 131-14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. Croft, K. Falconer, and R. Guy, Unsolved Problems in Geometry, Springer Verlag, New York, 199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Weisstein’s World of Mathematics, http://mathworld.wolfram.com/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ometry Junkyard, http://www.ics.uci.edu/~eppstein/junkyard/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The Polyg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lumin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polygon S constructed with mirrors as sides, and given a point P in the interior of 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as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inside of 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 complete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minated by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source at 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95680" y="3733920"/>
            <a:ext cx="419112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The Polyg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lumin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njectured that for every S and P, the answer is y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ounterexample is known, but no one has a pro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this easier problem is open: Does every polygon S have any point P where a light source would illuminate the interi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The Polyg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lumin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non-polygonal regions, the conjecture is false, as shown by the example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3683160" cy="3048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14400" y="3733920"/>
            <a:ext cx="38098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p and bottom are elliptical arcs with foci shown, connected with some circular ar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The Polyg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lumin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continuously differentiable regions where an arbitrarily large number of light sources are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et a region requiring an infinite number of light sources, you need one non-differentiable point (J. Rauc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conjecture is tr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The Penny Pack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197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n non-overlapping d-dimensional spheres be arranged to minimize the volume of their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onvex h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he convex hull is the set of all points on a line segment between points in two different sphere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8:51:38Z</dcterms:created>
  <dc:creator>Authorized User</dc:creator>
  <dc:description/>
  <dc:language>en-US</dc:language>
  <cp:lastModifiedBy>Authorized User</cp:lastModifiedBy>
  <dcterms:modified xsi:type="dcterms:W3CDTF">2003-09-07T15:07:50Z</dcterms:modified>
  <cp:revision>39</cp:revision>
  <dc:subject/>
  <dc:title>A Dozen Unsolved Problems in Geometry</dc:title>
</cp:coreProperties>
</file>