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258-2599-4936-8F4D-7215E62E8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2DD8-E392-4549-955A-98024890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F0DF-4CBA-4B65-AB6F-632785ED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2DFD-8A01-4D5B-A9FD-0CEC973CE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D90B-63D4-460F-A2D9-D120F5CC8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EDD-99BB-4024-A31F-48F76EE3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9B77-06E3-4813-AC41-4EE4A1CD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A631-C671-44FE-9664-3C79B0A7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4C4C-C0CE-49DA-ACE3-A6B2E36AF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DDF9-44BD-4743-AF82-A98CC034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04FE-BA46-4C93-AC47-61BDAB53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B2B3-5C58-4389-9DF4-98AEFADCC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2F89-E714-4636-B35A-11B534073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A3E2-0A12-475C-B6B2-27F8C7A2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D5B-E67C-47D5-9C57-E514B974F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EF37-D745-4123-A120-0B6651EEE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825-D6D5-49AB-B8B5-D75C5B3B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15F7-45F8-4B72-95F9-AE876FA9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DBE4-3E87-4EB0-9AB4-11FB324B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568A-C5D1-4E03-BCA0-57B2E1DCA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0143-ABEE-4184-A39E-6E4A789A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5E51-737F-4D95-B01B-298DC297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8B01-30C3-4F1C-AD8F-C7D3CDBC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F926-4C47-455D-A3D2-4194BBAB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3" descr="benji.jpg"/>
          <p:cNvPicPr/>
          <p:nvPr/>
        </p:nvPicPr>
        <p:blipFill>
          <a:blip r:embed="rId1"/>
          <a:stretch/>
        </p:blipFill>
        <p:spPr>
          <a:xfrm>
            <a:off x="3124080" y="1371600"/>
            <a:ext cx="28958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marley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3" descr="wishbone.jpg"/>
          <p:cNvPicPr/>
          <p:nvPr/>
        </p:nvPicPr>
        <p:blipFill>
          <a:blip r:embed="rId1"/>
          <a:stretch/>
        </p:blipFill>
        <p:spPr>
          <a:xfrm>
            <a:off x="1854360" y="1371600"/>
            <a:ext cx="5435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Lassi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toto.jpg"/>
          <p:cNvPicPr/>
          <p:nvPr/>
        </p:nvPicPr>
        <p:blipFill>
          <a:blip r:embed="rId1"/>
          <a:stretch/>
        </p:blipFill>
        <p:spPr>
          <a:xfrm>
            <a:off x="1959120" y="1371600"/>
            <a:ext cx="5225760" cy="34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EETHO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beethove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506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  TIN  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30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rin tin tin.jpg"/>
          <p:cNvPicPr/>
          <p:nvPr/>
        </p:nvPicPr>
        <p:blipFill>
          <a:blip r:embed="rId1"/>
          <a:stretch/>
        </p:blipFill>
        <p:spPr>
          <a:xfrm>
            <a:off x="1747800" y="1295280"/>
            <a:ext cx="564840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4651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46512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hooch.jpg"/>
          <p:cNvPicPr/>
          <p:nvPr/>
        </p:nvPicPr>
        <p:blipFill>
          <a:blip r:embed="rId1"/>
          <a:stretch/>
        </p:blipFill>
        <p:spPr>
          <a:xfrm>
            <a:off x="1295280" y="1333440"/>
            <a:ext cx="65707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457200" y="5056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Y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474840" y="735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old yeller.jpg"/>
          <p:cNvPicPr/>
          <p:nvPr/>
        </p:nvPicPr>
        <p:blipFill>
          <a:blip r:embed="rId1"/>
          <a:stretch/>
        </p:blipFill>
        <p:spPr>
          <a:xfrm>
            <a:off x="1427040" y="1295280"/>
            <a:ext cx="632484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FAMOUS DOGS OF FIL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457200" y="5046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–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57200" y="744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winn-dixie.jpg"/>
          <p:cNvPicPr/>
          <p:nvPr/>
        </p:nvPicPr>
        <p:blipFill>
          <a:blip r:embed="rId1"/>
          <a:stretch/>
        </p:blipFill>
        <p:spPr>
          <a:xfrm>
            <a:off x="2890800" y="1371600"/>
            <a:ext cx="33624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benji.jpg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marley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457200" y="5010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434880" y="762120"/>
            <a:ext cx="82296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wishbone.jpg"/>
          <p:cNvPicPr/>
          <p:nvPr/>
        </p:nvPicPr>
        <p:blipFill>
          <a:blip r:embed="rId1"/>
          <a:stretch/>
        </p:blipFill>
        <p:spPr>
          <a:xfrm>
            <a:off x="2108160" y="1447920"/>
            <a:ext cx="4927680" cy="35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3" descr="Lassi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toto.jpg"/>
          <p:cNvPicPr/>
          <p:nvPr/>
        </p:nvPicPr>
        <p:blipFill>
          <a:blip r:embed="rId1"/>
          <a:stretch/>
        </p:blipFill>
        <p:spPr>
          <a:xfrm>
            <a:off x="1828800" y="1295280"/>
            <a:ext cx="5226120" cy="34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3" descr="beethove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3" descr="rin tin tin.jpg"/>
          <p:cNvPicPr/>
          <p:nvPr/>
        </p:nvPicPr>
        <p:blipFill>
          <a:blip r:embed="rId1"/>
          <a:stretch/>
        </p:blipFill>
        <p:spPr>
          <a:xfrm>
            <a:off x="1747800" y="1371600"/>
            <a:ext cx="564840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3" descr="hooch.jpg"/>
          <p:cNvPicPr/>
          <p:nvPr/>
        </p:nvPicPr>
        <p:blipFill>
          <a:blip r:embed="rId1"/>
          <a:stretch/>
        </p:blipFill>
        <p:spPr>
          <a:xfrm>
            <a:off x="1285920" y="1371600"/>
            <a:ext cx="65707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4" descr="old yeller.jpg"/>
          <p:cNvPicPr/>
          <p:nvPr/>
        </p:nvPicPr>
        <p:blipFill>
          <a:blip r:embed="rId1"/>
          <a:stretch/>
        </p:blipFill>
        <p:spPr>
          <a:xfrm>
            <a:off x="1409760" y="1371600"/>
            <a:ext cx="632448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4" descr="winn-dixie.jpg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38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4:17:04Z</dcterms:created>
  <dc:creator>Jennifer Budzinski</dc:creator>
  <dc:description/>
  <dc:language>en-US</dc:language>
  <cp:lastModifiedBy>Erich Friedman</cp:lastModifiedBy>
  <dcterms:modified xsi:type="dcterms:W3CDTF">2020-09-04T14:50:27Z</dcterms:modified>
  <cp:revision>277</cp:revision>
  <dc:subject/>
  <dc:title>Slide 1</dc:title>
</cp:coreProperties>
</file>