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B69D-7C18-4F1D-A56F-20930DED1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5592-B2F6-4943-89A5-87C7112C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D110-A75E-4FDC-81E4-71C8D5A5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A5D6-0230-4E4E-99E5-F9E546FB4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E08-146F-4E42-B70A-B1833D8B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5879-932E-4FC0-9F01-C2BA9D4AD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649B-538B-4D3A-83A4-B4619B204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5B01-C377-4FD1-8472-F0011DCC4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7A7-518D-4BDE-BB9F-9922F6F5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CE7-1886-4FCC-85AB-C0E65F3CA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874C-7337-4FDF-84C1-401F77D0E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3E21-BE2F-44FD-A539-B50EEF98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2906-6ABB-44C6-963C-A7EC6C1EC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D45-FA8B-459C-9F0D-4BE68A5C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D2C1-10F0-40C5-B383-9C72C51A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8A07-C69F-44AF-8881-2E4D39B4B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506-2A79-4BEA-8012-07E834C73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99F4-1AD7-4D54-A793-57FAB2D15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0609-F839-47AC-99DC-1A2F3021E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400D-EF0C-4495-91BB-68EA1C97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C59C-38A4-41FF-9CE9-50500B6B2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8679-9BB9-48D1-B08E-5343D7F0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DAB2-0F01-44C5-AFE7-C945C8D0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126C-400B-4CDA-8C00-9DDD505E5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3" descr="benji.jpg"/>
          <p:cNvPicPr/>
          <p:nvPr/>
        </p:nvPicPr>
        <p:blipFill>
          <a:blip r:embed="rId1"/>
          <a:stretch/>
        </p:blipFill>
        <p:spPr>
          <a:xfrm>
            <a:off x="3124080" y="1371600"/>
            <a:ext cx="28958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marley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3" descr="wishbone.jpg"/>
          <p:cNvPicPr/>
          <p:nvPr/>
        </p:nvPicPr>
        <p:blipFill>
          <a:blip r:embed="rId1"/>
          <a:stretch/>
        </p:blipFill>
        <p:spPr>
          <a:xfrm>
            <a:off x="1854360" y="1371600"/>
            <a:ext cx="5435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Lassi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toto.jpg"/>
          <p:cNvPicPr/>
          <p:nvPr/>
        </p:nvPicPr>
        <p:blipFill>
          <a:blip r:embed="rId1"/>
          <a:stretch/>
        </p:blipFill>
        <p:spPr>
          <a:xfrm>
            <a:off x="1959120" y="1371600"/>
            <a:ext cx="5225760" cy="34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EETHO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beethove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506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  TIN  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57200" y="730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rin tin tin.jpg"/>
          <p:cNvPicPr/>
          <p:nvPr/>
        </p:nvPicPr>
        <p:blipFill>
          <a:blip r:embed="rId1"/>
          <a:stretch/>
        </p:blipFill>
        <p:spPr>
          <a:xfrm>
            <a:off x="1747800" y="1295280"/>
            <a:ext cx="564840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46512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46512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hooch.jpg"/>
          <p:cNvPicPr/>
          <p:nvPr/>
        </p:nvPicPr>
        <p:blipFill>
          <a:blip r:embed="rId1"/>
          <a:stretch/>
        </p:blipFill>
        <p:spPr>
          <a:xfrm>
            <a:off x="1295280" y="1333440"/>
            <a:ext cx="65707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457200" y="5056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Y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474840" y="735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old yeller.jpg"/>
          <p:cNvPicPr/>
          <p:nvPr/>
        </p:nvPicPr>
        <p:blipFill>
          <a:blip r:embed="rId1"/>
          <a:stretch/>
        </p:blipFill>
        <p:spPr>
          <a:xfrm>
            <a:off x="1427040" y="1295280"/>
            <a:ext cx="6324840" cy="36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FAMOUS DOGS OF FIL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457200" y="5046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–DIX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57200" y="744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winn-dixie.jpg"/>
          <p:cNvPicPr/>
          <p:nvPr/>
        </p:nvPicPr>
        <p:blipFill>
          <a:blip r:embed="rId1"/>
          <a:stretch/>
        </p:blipFill>
        <p:spPr>
          <a:xfrm>
            <a:off x="2890800" y="1371600"/>
            <a:ext cx="33624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benji.jpg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marley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457200" y="5010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H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434880" y="762120"/>
            <a:ext cx="82296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wishbone.jpg"/>
          <p:cNvPicPr/>
          <p:nvPr/>
        </p:nvPicPr>
        <p:blipFill>
          <a:blip r:embed="rId1"/>
          <a:stretch/>
        </p:blipFill>
        <p:spPr>
          <a:xfrm>
            <a:off x="2108160" y="1447920"/>
            <a:ext cx="4927680" cy="35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3" descr="Lassi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toto.jpg"/>
          <p:cNvPicPr/>
          <p:nvPr/>
        </p:nvPicPr>
        <p:blipFill>
          <a:blip r:embed="rId1"/>
          <a:stretch/>
        </p:blipFill>
        <p:spPr>
          <a:xfrm>
            <a:off x="1828800" y="1295280"/>
            <a:ext cx="5226120" cy="34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3" descr="beethove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3" descr="rin tin tin.jpg"/>
          <p:cNvPicPr/>
          <p:nvPr/>
        </p:nvPicPr>
        <p:blipFill>
          <a:blip r:embed="rId1"/>
          <a:stretch/>
        </p:blipFill>
        <p:spPr>
          <a:xfrm>
            <a:off x="1747800" y="1371600"/>
            <a:ext cx="564840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3" descr="hooch.jpg"/>
          <p:cNvPicPr/>
          <p:nvPr/>
        </p:nvPicPr>
        <p:blipFill>
          <a:blip r:embed="rId1"/>
          <a:stretch/>
        </p:blipFill>
        <p:spPr>
          <a:xfrm>
            <a:off x="1285920" y="1371600"/>
            <a:ext cx="65707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4" descr="old yeller.jpg"/>
          <p:cNvPicPr/>
          <p:nvPr/>
        </p:nvPicPr>
        <p:blipFill>
          <a:blip r:embed="rId1"/>
          <a:stretch/>
        </p:blipFill>
        <p:spPr>
          <a:xfrm>
            <a:off x="1409760" y="1371600"/>
            <a:ext cx="632448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4" descr="winn-dixie.jpg"/>
          <p:cNvPicPr/>
          <p:nvPr/>
        </p:nvPicPr>
        <p:blipFill>
          <a:blip r:embed="rId1"/>
          <a:stretch/>
        </p:blipFill>
        <p:spPr>
          <a:xfrm>
            <a:off x="2743200" y="1371600"/>
            <a:ext cx="3657600" cy="38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4:17:04Z</dcterms:created>
  <dc:creator>Jennifer Budzinski</dc:creator>
  <dc:description/>
  <dc:language>en-US</dc:language>
  <cp:lastModifiedBy>Erich Friedman</cp:lastModifiedBy>
  <dcterms:modified xsi:type="dcterms:W3CDTF">2020-09-04T14:50:27Z</dcterms:modified>
  <cp:revision>277</cp:revision>
  <dc:subject/>
  <dc:title>Slide 1</dc:title>
</cp:coreProperties>
</file>