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003E-DC18-4A26-A393-51D9553BA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617A-FC11-46B3-8D49-555B3D776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2D38-8DDA-4CF2-8F5E-1D1D52421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899C-A76B-4041-9BC5-C56707746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F934-FBF0-4549-BEEB-30C9D38F2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3661-A478-43E5-828E-B8F696450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0714-9652-4EF0-A593-0B9CD7FCC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321E-2580-480C-A4FD-2E6E1931B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3D73-4EB1-4631-A15D-4D7322660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AC99-EBD9-4295-9311-43B4A6210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BA83-E63F-4199-93E6-D8CFAAA8A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2473-58F7-4A2E-B2F0-448A5FCB5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0E75-5E70-4BA1-A45C-FA2686FDD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6303-FE8A-4CA1-9337-101041E85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5736-B609-4520-887D-5ED7BB025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36C3-0DCB-4FE3-8870-59873931D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9188-4C9E-46BC-955E-522DF89C6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A388-87A6-4328-A29E-B3AE312C7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CA2A-775E-48D2-80E8-E497DE6A6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FF6C-3BC2-4501-B661-57E1F7D78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6637-9E48-48B7-8B3B-9E5C9BE43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9BBD-CF9A-4CCB-B820-F3D897551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64B7-7CA6-4A57-BB41-9D3176462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9FFE-89A1-484C-868A-33A43DF6E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3" descr="benji.jpg"/>
          <p:cNvPicPr/>
          <p:nvPr/>
        </p:nvPicPr>
        <p:blipFill>
          <a:blip r:embed="rId1"/>
          <a:stretch/>
        </p:blipFill>
        <p:spPr>
          <a:xfrm>
            <a:off x="3124080" y="1371600"/>
            <a:ext cx="289584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Picture 3" descr="marley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3" descr="wishbone.jpg"/>
          <p:cNvPicPr/>
          <p:nvPr/>
        </p:nvPicPr>
        <p:blipFill>
          <a:blip r:embed="rId1"/>
          <a:stretch/>
        </p:blipFill>
        <p:spPr>
          <a:xfrm>
            <a:off x="1854360" y="1371600"/>
            <a:ext cx="54352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4" descr="Lassie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toto.jpg"/>
          <p:cNvPicPr/>
          <p:nvPr/>
        </p:nvPicPr>
        <p:blipFill>
          <a:blip r:embed="rId1"/>
          <a:stretch/>
        </p:blipFill>
        <p:spPr>
          <a:xfrm>
            <a:off x="1959120" y="1371600"/>
            <a:ext cx="5225760" cy="348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EETHO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beethoven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506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  TIN  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57200" y="730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4" descr="rin tin tin.jpg"/>
          <p:cNvPicPr/>
          <p:nvPr/>
        </p:nvPicPr>
        <p:blipFill>
          <a:blip r:embed="rId1"/>
          <a:stretch/>
        </p:blipFill>
        <p:spPr>
          <a:xfrm>
            <a:off x="1747800" y="1295280"/>
            <a:ext cx="5648400" cy="376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46512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46512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hooch.jpg"/>
          <p:cNvPicPr/>
          <p:nvPr/>
        </p:nvPicPr>
        <p:blipFill>
          <a:blip r:embed="rId1"/>
          <a:stretch/>
        </p:blipFill>
        <p:spPr>
          <a:xfrm>
            <a:off x="1295280" y="1333440"/>
            <a:ext cx="657072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457200" y="5056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  Y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474840" y="735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6" descr="old yeller.jpg"/>
          <p:cNvPicPr/>
          <p:nvPr/>
        </p:nvPicPr>
        <p:blipFill>
          <a:blip r:embed="rId1"/>
          <a:stretch/>
        </p:blipFill>
        <p:spPr>
          <a:xfrm>
            <a:off x="1427040" y="1295280"/>
            <a:ext cx="6324840" cy="368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FAMOUS DOGS OF FIL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457200" y="50468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N–DIX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457200" y="744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4" descr="winn-dixie.jpg"/>
          <p:cNvPicPr/>
          <p:nvPr/>
        </p:nvPicPr>
        <p:blipFill>
          <a:blip r:embed="rId1"/>
          <a:stretch/>
        </p:blipFill>
        <p:spPr>
          <a:xfrm>
            <a:off x="2890800" y="1371600"/>
            <a:ext cx="336240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benji.jpg"/>
          <p:cNvPicPr/>
          <p:nvPr/>
        </p:nvPicPr>
        <p:blipFill>
          <a:blip r:embed="rId1"/>
          <a:stretch/>
        </p:blipFill>
        <p:spPr>
          <a:xfrm>
            <a:off x="3157560" y="1295280"/>
            <a:ext cx="2828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"/>
          <p:cNvSpPr/>
          <p:nvPr/>
        </p:nvSpPr>
        <p:spPr>
          <a:xfrm>
            <a:off x="457200" y="7621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" descr="marley.jpg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3"/>
          <p:cNvSpPr/>
          <p:nvPr/>
        </p:nvSpPr>
        <p:spPr>
          <a:xfrm>
            <a:off x="457200" y="5010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SHB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434880" y="762120"/>
            <a:ext cx="8229600" cy="42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4" descr="wishbone.jpg"/>
          <p:cNvPicPr/>
          <p:nvPr/>
        </p:nvPicPr>
        <p:blipFill>
          <a:blip r:embed="rId1"/>
          <a:stretch/>
        </p:blipFill>
        <p:spPr>
          <a:xfrm>
            <a:off x="2108160" y="1447920"/>
            <a:ext cx="4927680" cy="35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3" descr="Lassie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3" descr="toto.jpg"/>
          <p:cNvPicPr/>
          <p:nvPr/>
        </p:nvPicPr>
        <p:blipFill>
          <a:blip r:embed="rId1"/>
          <a:stretch/>
        </p:blipFill>
        <p:spPr>
          <a:xfrm>
            <a:off x="1828800" y="1295280"/>
            <a:ext cx="5226120" cy="34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3" descr="beethoven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3" descr="rin tin tin.jpg"/>
          <p:cNvPicPr/>
          <p:nvPr/>
        </p:nvPicPr>
        <p:blipFill>
          <a:blip r:embed="rId1"/>
          <a:stretch/>
        </p:blipFill>
        <p:spPr>
          <a:xfrm>
            <a:off x="1747800" y="1371600"/>
            <a:ext cx="5648400" cy="37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3" descr="hooch.jpg"/>
          <p:cNvPicPr/>
          <p:nvPr/>
        </p:nvPicPr>
        <p:blipFill>
          <a:blip r:embed="rId1"/>
          <a:stretch/>
        </p:blipFill>
        <p:spPr>
          <a:xfrm>
            <a:off x="1285920" y="1371600"/>
            <a:ext cx="657072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4" descr="old yeller.jpg"/>
          <p:cNvPicPr/>
          <p:nvPr/>
        </p:nvPicPr>
        <p:blipFill>
          <a:blip r:embed="rId1"/>
          <a:stretch/>
        </p:blipFill>
        <p:spPr>
          <a:xfrm>
            <a:off x="1409760" y="1371600"/>
            <a:ext cx="632448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4" descr="winn-dixie.jpg"/>
          <p:cNvPicPr/>
          <p:nvPr/>
        </p:nvPicPr>
        <p:blipFill>
          <a:blip r:embed="rId1"/>
          <a:stretch/>
        </p:blipFill>
        <p:spPr>
          <a:xfrm>
            <a:off x="2743200" y="1371600"/>
            <a:ext cx="3657600" cy="3895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4:17:04Z</dcterms:created>
  <dc:creator>Jennifer Budzinski</dc:creator>
  <dc:description/>
  <dc:language>en-US</dc:language>
  <cp:lastModifiedBy>Erich Friedman</cp:lastModifiedBy>
  <dcterms:modified xsi:type="dcterms:W3CDTF">2020-09-04T14:50:27Z</dcterms:modified>
  <cp:revision>277</cp:revision>
  <dc:subject/>
  <dc:title>Slide 1</dc:title>
</cp:coreProperties>
</file>