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DD4E-94DD-4346-83F0-092D96AEB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BAE7-8C94-4CEC-8CBE-E6E220F8F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2894-617C-4575-9070-277D5293B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0D6D-8C97-4B67-8F68-79D07BDFC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98E1-8C81-4DA0-9F04-08E30B290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31C5-F357-417F-9CB0-B05205159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CC8C-A4EF-472D-826A-08F044F42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1121-0D80-4485-9346-D797E86DE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43C3-0BD8-4304-98B9-A125CC17D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5BEA-415E-4113-AFAF-19451239C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7465-CEF3-461A-A2B5-35399A4B8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07A9-2DF7-4606-8EC5-9EB78D033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094B-BF7E-43B0-AE63-F77A0C622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E26E-64DD-4364-A591-2D09B7946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DDD5-FB5C-4287-8643-CDD4A4AAD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8A4C-06CD-4598-BC0C-739C837B2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0ECA-083F-442A-A55F-80B385B30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0D58-BC3E-4F27-8B2D-FDF57319F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2845-441E-411A-8103-5818B5C15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AB1A-EB01-4888-8786-FE1C85A16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ED74-0C99-4BD1-81CE-681BC1793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645E-4317-42DE-9E68-DC76BCF3F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8CFA-EC7C-45FD-85A4-61BC721D7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ROD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download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7660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download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6512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JerryMouse.jpg"/>
          <p:cNvPicPr/>
          <p:nvPr/>
        </p:nvPicPr>
        <p:blipFill>
          <a:blip r:embed="rId1"/>
          <a:stretch/>
        </p:blipFill>
        <p:spPr>
          <a:xfrm>
            <a:off x="3162240" y="1295280"/>
            <a:ext cx="2833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KAC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5Pikachu.jpg"/>
          <p:cNvPicPr/>
          <p:nvPr/>
        </p:nvPicPr>
        <p:blipFill>
          <a:blip r:embed="rId1"/>
          <a:stretch/>
        </p:blipFill>
        <p:spPr>
          <a:xfrm>
            <a:off x="2806560" y="1378080"/>
            <a:ext cx="3530880" cy="35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GHTY  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594181-212062_80925_mighty_mouse_large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133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ART  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stuart little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920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Y  GONZ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41SWWtvCc3L._SX355_.jpg"/>
          <p:cNvPicPr/>
          <p:nvPr/>
        </p:nvPicPr>
        <p:blipFill>
          <a:blip r:embed="rId1"/>
          <a:stretch/>
        </p:blipFill>
        <p:spPr>
          <a:xfrm>
            <a:off x="1716120" y="1384200"/>
            <a:ext cx="571176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VIN  THE  CHIPM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maxresdefault.jpg"/>
          <p:cNvPicPr/>
          <p:nvPr/>
        </p:nvPicPr>
        <p:blipFill>
          <a:blip r:embed="rId1"/>
          <a:stretch/>
        </p:blipFill>
        <p:spPr>
          <a:xfrm>
            <a:off x="3238560" y="1387440"/>
            <a:ext cx="266688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380880" y="50292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download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21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JerryMouse.jpg"/>
          <p:cNvPicPr/>
          <p:nvPr/>
        </p:nvPicPr>
        <p:blipFill>
          <a:blip r:embed="rId1"/>
          <a:stretch/>
        </p:blipFill>
        <p:spPr>
          <a:xfrm>
            <a:off x="3154320" y="1295280"/>
            <a:ext cx="2835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56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GER  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170px-Danger-mouse-fair-use.jpg"/>
          <p:cNvPicPr/>
          <p:nvPr/>
        </p:nvPicPr>
        <p:blipFill>
          <a:blip r:embed="rId1"/>
          <a:stretch/>
        </p:blipFill>
        <p:spPr>
          <a:xfrm>
            <a:off x="3162240" y="1295280"/>
            <a:ext cx="28195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EY  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download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766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download.jpg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5Pikachu.jpg"/>
          <p:cNvPicPr/>
          <p:nvPr/>
        </p:nvPicPr>
        <p:blipFill>
          <a:blip r:embed="rId1"/>
          <a:stretch/>
        </p:blipFill>
        <p:spPr>
          <a:xfrm>
            <a:off x="2895480" y="1447920"/>
            <a:ext cx="3530880" cy="35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594181-212062_80925_mighty_mouse_large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133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tuart little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920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1892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41SWWtvCc3L._SX355_.jpg"/>
          <p:cNvPicPr/>
          <p:nvPr/>
        </p:nvPicPr>
        <p:blipFill>
          <a:blip r:embed="rId1"/>
          <a:stretch/>
        </p:blipFill>
        <p:spPr>
          <a:xfrm>
            <a:off x="1716120" y="1405080"/>
            <a:ext cx="571176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maxresdefault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6688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download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21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170px-Danger-mouse-fair-use.jpg"/>
          <p:cNvPicPr/>
          <p:nvPr/>
        </p:nvPicPr>
        <p:blipFill>
          <a:blip r:embed="rId1"/>
          <a:stretch/>
        </p:blipFill>
        <p:spPr>
          <a:xfrm>
            <a:off x="3162240" y="1295280"/>
            <a:ext cx="28195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01:12:46Z</dcterms:created>
  <dc:creator>Jennifer Budzinski</dc:creator>
  <dc:description/>
  <dc:language>en-US</dc:language>
  <cp:lastModifiedBy>Erich Friedman</cp:lastModifiedBy>
  <dcterms:modified xsi:type="dcterms:W3CDTF">2020-09-04T14:52:54Z</dcterms:modified>
  <cp:revision>284</cp:revision>
  <dc:subject/>
  <dc:title>Slide 1</dc:title>
</cp:coreProperties>
</file>