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662E-CE12-48F0-A555-C6DC7BB20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D2FF-C001-4F4A-A8B6-1AA2E0671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7F41-94DC-4A2C-8064-A466B90CF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B4B5-7774-46DB-9E72-C19FE7DA6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E441-02BB-4774-BC1F-A1261BECD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378B-41C5-474F-993E-639D3BA14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ECBB-984C-434B-9C0A-21B2543EB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D19C-2837-479C-BC4B-65F1E7400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4CB8-6B14-4669-B45A-B5F52ECC0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0984-54B0-4274-8D11-710C8225F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91CF-56E8-4396-B0E5-19C89C4E3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E063-FBAD-43B2-BEFF-AD6FE6A3A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7280-55E6-4773-80BF-B63B4B9DD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1383-2358-4425-9CED-81E32B8DE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AF6F-5573-4A74-96AF-D5B3BC550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B830-61E6-4FB1-B945-63E6698F0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CB1D-49E1-4CF9-AB32-4120A8C2D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ED6F-7413-4CD6-8744-4741B5EFC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67AD-F12B-45CF-8BE1-F62BAF238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7395-AE6A-47C0-802F-3781F7D5B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C506-3F46-4A41-AAE3-B322BDD9D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A1F6-D84D-4DF8-9F3F-E93C2FB9E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7AE6-4184-4B85-8055-0747C237A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ROD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download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76600" cy="35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download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6512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JerryMouse.jpg"/>
          <p:cNvPicPr/>
          <p:nvPr/>
        </p:nvPicPr>
        <p:blipFill>
          <a:blip r:embed="rId1"/>
          <a:stretch/>
        </p:blipFill>
        <p:spPr>
          <a:xfrm>
            <a:off x="3162240" y="1295280"/>
            <a:ext cx="2833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KAC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5Pikachu.jpg"/>
          <p:cNvPicPr/>
          <p:nvPr/>
        </p:nvPicPr>
        <p:blipFill>
          <a:blip r:embed="rId1"/>
          <a:stretch/>
        </p:blipFill>
        <p:spPr>
          <a:xfrm>
            <a:off x="2806560" y="1378080"/>
            <a:ext cx="3530880" cy="35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GHTY  M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594181-212062_80925_mighty_mouse_large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133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UART  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stuart little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920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Y  GONZ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41SWWtvCc3L._SX355_.jpg"/>
          <p:cNvPicPr/>
          <p:nvPr/>
        </p:nvPicPr>
        <p:blipFill>
          <a:blip r:embed="rId1"/>
          <a:stretch/>
        </p:blipFill>
        <p:spPr>
          <a:xfrm>
            <a:off x="1716120" y="1384200"/>
            <a:ext cx="571176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VIN  THE  CHIPM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maxresdefault.jpg"/>
          <p:cNvPicPr/>
          <p:nvPr/>
        </p:nvPicPr>
        <p:blipFill>
          <a:blip r:embed="rId1"/>
          <a:stretch/>
        </p:blipFill>
        <p:spPr>
          <a:xfrm>
            <a:off x="3238560" y="1387440"/>
            <a:ext cx="266688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380880" y="50292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download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211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JerryMouse.jpg"/>
          <p:cNvPicPr/>
          <p:nvPr/>
        </p:nvPicPr>
        <p:blipFill>
          <a:blip r:embed="rId1"/>
          <a:stretch/>
        </p:blipFill>
        <p:spPr>
          <a:xfrm>
            <a:off x="3154320" y="1295280"/>
            <a:ext cx="28353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56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GER  M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170px-Danger-mouse-fair-use.jpg"/>
          <p:cNvPicPr/>
          <p:nvPr/>
        </p:nvPicPr>
        <p:blipFill>
          <a:blip r:embed="rId1"/>
          <a:stretch/>
        </p:blipFill>
        <p:spPr>
          <a:xfrm>
            <a:off x="3162240" y="1295280"/>
            <a:ext cx="28195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EY  M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download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7660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download.jpg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5Pikachu.jpg"/>
          <p:cNvPicPr/>
          <p:nvPr/>
        </p:nvPicPr>
        <p:blipFill>
          <a:blip r:embed="rId1"/>
          <a:stretch/>
        </p:blipFill>
        <p:spPr>
          <a:xfrm>
            <a:off x="2895480" y="1447920"/>
            <a:ext cx="3530880" cy="35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594181-212062_80925_mighty_mouse_large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133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tuart little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920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1892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41SWWtvCc3L._SX355_.jpg"/>
          <p:cNvPicPr/>
          <p:nvPr/>
        </p:nvPicPr>
        <p:blipFill>
          <a:blip r:embed="rId1"/>
          <a:stretch/>
        </p:blipFill>
        <p:spPr>
          <a:xfrm>
            <a:off x="1716120" y="1405080"/>
            <a:ext cx="571176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maxresdefault.jpg"/>
          <p:cNvPicPr/>
          <p:nvPr/>
        </p:nvPicPr>
        <p:blipFill>
          <a:blip r:embed="rId1"/>
          <a:stretch/>
        </p:blipFill>
        <p:spPr>
          <a:xfrm>
            <a:off x="3276720" y="1295280"/>
            <a:ext cx="2666880" cy="36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download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21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170px-Danger-mouse-fair-use.jpg"/>
          <p:cNvPicPr/>
          <p:nvPr/>
        </p:nvPicPr>
        <p:blipFill>
          <a:blip r:embed="rId1"/>
          <a:stretch/>
        </p:blipFill>
        <p:spPr>
          <a:xfrm>
            <a:off x="3162240" y="1295280"/>
            <a:ext cx="28195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8T01:12:46Z</dcterms:created>
  <dc:creator>Jennifer Budzinski</dc:creator>
  <dc:description/>
  <dc:language>en-US</dc:language>
  <cp:lastModifiedBy>Erich Friedman</cp:lastModifiedBy>
  <dcterms:modified xsi:type="dcterms:W3CDTF">2020-09-04T14:52:54Z</dcterms:modified>
  <cp:revision>284</cp:revision>
  <dc:subject/>
  <dc:title>Slide 1</dc:title>
</cp:coreProperties>
</file>