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FB69-4AEE-4807-807B-8D758D99E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47B7-CC50-4D12-9B3A-CCB187B91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83D0-AEBA-4C02-A919-6B651173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2E19-2B98-4536-A40D-AA3DF3A96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947F-F1FC-47F8-8631-F2795A05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8A0A-6302-4206-B94C-705ABC95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9727-0978-4CD1-BFAB-A1AA58828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E8B3-A2BE-4522-B43D-5A57F2E0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F75-950E-4BDB-8FEB-9D7288DA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1C5-A659-4835-B1B2-C92BB7A7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AC1-AFC3-4824-8ABD-B44653CD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28F7-7427-47F1-9DC3-1DB654BA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D4B-AEF2-4140-BECE-FE30FF61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DE8A-2FCD-4679-AE66-1BE37159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91A2-E261-4B56-A664-134E8054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AEB1-67A6-49E8-A243-030E1EB1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F640-E29B-4130-A053-CB6E0B57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38A3-9FCF-4EC4-A52D-39E2BB42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7C61-0B06-43DA-83A7-BAD2DF611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C855-6248-40E3-9BAE-080D4FFA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CF9-94C9-4479-BC18-D93332E2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5A7A-3CE7-485D-BC57-FC7105A3C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A64-8CE8-4CB5-9137-50C12B19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RO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erryMo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33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A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5Pikachu.jpg"/>
          <p:cNvPicPr/>
          <p:nvPr/>
        </p:nvPicPr>
        <p:blipFill>
          <a:blip r:embed="rId1"/>
          <a:stretch/>
        </p:blipFill>
        <p:spPr>
          <a:xfrm>
            <a:off x="2806560" y="1378080"/>
            <a:ext cx="35308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594181-212062_80925_mighty_mouse_larg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tuart littl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92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Y  GONZ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41SWWtvCc3L._SX355_.jpg"/>
          <p:cNvPicPr/>
          <p:nvPr/>
        </p:nvPicPr>
        <p:blipFill>
          <a:blip r:embed="rId1"/>
          <a:stretch/>
        </p:blipFill>
        <p:spPr>
          <a:xfrm>
            <a:off x="1716120" y="1384200"/>
            <a:ext cx="57117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VIN  THE  CHIPM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axresdefault.jpg"/>
          <p:cNvPicPr/>
          <p:nvPr/>
        </p:nvPicPr>
        <p:blipFill>
          <a:blip r:embed="rId1"/>
          <a:stretch/>
        </p:blipFill>
        <p:spPr>
          <a:xfrm>
            <a:off x="3238560" y="1387440"/>
            <a:ext cx="266688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80880" y="50292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JerryMouse.jpg"/>
          <p:cNvPicPr/>
          <p:nvPr/>
        </p:nvPicPr>
        <p:blipFill>
          <a:blip r:embed="rId1"/>
          <a:stretch/>
        </p:blipFill>
        <p:spPr>
          <a:xfrm>
            <a:off x="3154320" y="1295280"/>
            <a:ext cx="2835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56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70px-Danger-mouse-fair-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ownload.jpg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5Pikachu.jpg"/>
          <p:cNvPicPr/>
          <p:nvPr/>
        </p:nvPicPr>
        <p:blipFill>
          <a:blip r:embed="rId1"/>
          <a:stretch/>
        </p:blipFill>
        <p:spPr>
          <a:xfrm>
            <a:off x="2895480" y="1447920"/>
            <a:ext cx="353088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594181-212062_80925_mighty_mouse_larg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tuart littl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92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189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41SWWtvCc3L._SX355_.jpg"/>
          <p:cNvPicPr/>
          <p:nvPr/>
        </p:nvPicPr>
        <p:blipFill>
          <a:blip r:embed="rId1"/>
          <a:stretch/>
        </p:blipFill>
        <p:spPr>
          <a:xfrm>
            <a:off x="1716120" y="1405080"/>
            <a:ext cx="57117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axresdefaul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70px-Danger-mouse-fair-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1:12:46Z</dcterms:created>
  <dc:creator>Jennifer Budzinski</dc:creator>
  <dc:description/>
  <dc:language>en-US</dc:language>
  <cp:lastModifiedBy>Erich Friedman</cp:lastModifiedBy>
  <dcterms:modified xsi:type="dcterms:W3CDTF">2020-09-04T14:52:54Z</dcterms:modified>
  <cp:revision>284</cp:revision>
  <dc:subject/>
  <dc:title>Slide 1</dc:title>
</cp:coreProperties>
</file>