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F749-4DED-4157-9245-D0BC3536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F48-741C-4457-990E-013B75D0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021-4D0A-41B1-9D9C-93AFCAA6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5B1-1084-45FD-9A9C-A56041C8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B3B-8864-4F63-83ED-0235ACAF8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1C5-91DD-46C1-9572-491C36962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711-57A6-4AAB-B74E-5EF81A2B0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D6BB-D837-4494-B056-D296919D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D344-8627-471D-A696-C726A8AD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014E-9CF4-43B9-AA84-F82178A1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BF3D-E3D6-461F-8938-1C968536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C75A-36C5-4695-AD4A-19C464F2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12E-FF37-4A04-BE92-069DDE42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5F4-C259-460D-AA1D-C1026B5B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84F8-E92F-463E-8495-B9634BB7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A0D-88B5-4669-A861-BA5C30E7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57DD-A54D-4F8F-B32C-4139A7F83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B567-9D4D-40AF-AF8A-93890F6D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659-8C2B-41D4-9227-C8450C09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8CF-DA4E-4FF0-805A-EA1ECBA99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68BB-EE5A-4CE3-B77D-E80C3D58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5243-F25C-4B57-BDF8-FD0E75D5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3793-849A-41F4-B864-E5E90D70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ANIMATED MONKEYS AND A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OOTS.jpg"/>
          <p:cNvPicPr/>
          <p:nvPr/>
        </p:nvPicPr>
        <p:blipFill>
          <a:blip r:embed="rId1"/>
          <a:stretch/>
        </p:blipFill>
        <p:spPr>
          <a:xfrm>
            <a:off x="2895480" y="1371600"/>
            <a:ext cx="3353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him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3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paul_frank_julius_250.jpg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67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IOUS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eorge_25.jpg"/>
          <p:cNvPicPr/>
          <p:nvPr/>
        </p:nvPicPr>
        <p:blipFill>
          <a:blip r:embed="rId1"/>
          <a:stretch/>
        </p:blipFill>
        <p:spPr>
          <a:xfrm>
            <a:off x="3270240" y="1333440"/>
            <a:ext cx="260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KEY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KISWii.jpg"/>
          <p:cNvPicPr/>
          <p:nvPr/>
        </p:nvPicPr>
        <p:blipFill>
          <a:blip r:embed="rId1"/>
          <a:stretch/>
        </p:blipFill>
        <p:spPr>
          <a:xfrm>
            <a:off x="2895480" y="1266840"/>
            <a:ext cx="3353040" cy="37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19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IL  MONKEY  (FAMILY  GU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xhnii.jpg"/>
          <p:cNvPicPr/>
          <p:nvPr/>
        </p:nvPicPr>
        <p:blipFill>
          <a:blip r:embed="rId1"/>
          <a:stretch/>
        </p:blipFill>
        <p:spPr>
          <a:xfrm>
            <a:off x="2646360" y="1295280"/>
            <a:ext cx="385128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FIKI  (THE  LION  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flat,800x800,075,f.u1.jpg"/>
          <p:cNvPicPr/>
          <p:nvPr/>
        </p:nvPicPr>
        <p:blipFill>
          <a:blip r:embed="rId1"/>
          <a:stretch/>
        </p:blipFill>
        <p:spPr>
          <a:xfrm>
            <a:off x="2581200" y="1295280"/>
            <a:ext cx="398160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LLA  GOR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67386c74f2e912a55b6b848e5537b926.jpg"/>
          <p:cNvPicPr/>
          <p:nvPr/>
        </p:nvPicPr>
        <p:blipFill>
          <a:blip r:embed="rId1"/>
          <a:stretch/>
        </p:blipFill>
        <p:spPr>
          <a:xfrm>
            <a:off x="3200400" y="1371600"/>
            <a:ext cx="2705040" cy="34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E  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gyfd_uo_400x400.jpg"/>
          <p:cNvPicPr/>
          <p:nvPr/>
        </p:nvPicPr>
        <p:blipFill>
          <a:blip r:embed="rId1"/>
          <a:stretch/>
        </p:blipFill>
        <p:spPr>
          <a:xfrm>
            <a:off x="2819520" y="133344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paul_frank_julius_250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EK  (SUPER  FRIE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leek_1.png"/>
          <p:cNvPicPr/>
          <p:nvPr/>
        </p:nvPicPr>
        <p:blipFill>
          <a:blip r:embed="rId1"/>
          <a:stretch/>
        </p:blipFill>
        <p:spPr>
          <a:xfrm>
            <a:off x="2428920" y="1295280"/>
            <a:ext cx="428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  (DORA  THE  EXPLOR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BOOTS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M  CHIM  (SPEED  RAC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him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3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George_25.jpg"/>
          <p:cNvPicPr/>
          <p:nvPr/>
        </p:nvPicPr>
        <p:blipFill>
          <a:blip r:embed="rId1"/>
          <a:stretch/>
        </p:blipFill>
        <p:spPr>
          <a:xfrm>
            <a:off x="3270240" y="1371600"/>
            <a:ext cx="2602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KISWii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xhnii.jpg"/>
          <p:cNvPicPr/>
          <p:nvPr/>
        </p:nvPicPr>
        <p:blipFill>
          <a:blip r:embed="rId1"/>
          <a:stretch/>
        </p:blipFill>
        <p:spPr>
          <a:xfrm>
            <a:off x="2541600" y="1371600"/>
            <a:ext cx="4060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flat,800x800,075,f.u1.jpg"/>
          <p:cNvPicPr/>
          <p:nvPr/>
        </p:nvPicPr>
        <p:blipFill>
          <a:blip r:embed="rId1"/>
          <a:stretch/>
        </p:blipFill>
        <p:spPr>
          <a:xfrm>
            <a:off x="2495520" y="1371600"/>
            <a:ext cx="41515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7386c74f2e912a55b6b848e5537b926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7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gyfd_uo_400x400.jpg"/>
          <p:cNvPicPr/>
          <p:nvPr/>
        </p:nvPicPr>
        <p:blipFill>
          <a:blip r:embed="rId1"/>
          <a:stretch/>
        </p:blipFill>
        <p:spPr>
          <a:xfrm>
            <a:off x="2705040" y="140976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leek_1.png"/>
          <p:cNvPicPr/>
          <p:nvPr/>
        </p:nvPicPr>
        <p:blipFill>
          <a:blip r:embed="rId1"/>
          <a:stretch/>
        </p:blipFill>
        <p:spPr>
          <a:xfrm>
            <a:off x="2338560" y="1371600"/>
            <a:ext cx="4466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4:27:28Z</dcterms:created>
  <dc:creator>Jennifer Budzinski</dc:creator>
  <dc:description/>
  <dc:language>en-US</dc:language>
  <cp:lastModifiedBy>Erich Friedman</cp:lastModifiedBy>
  <dcterms:modified xsi:type="dcterms:W3CDTF">2020-09-04T14:55:14Z</dcterms:modified>
  <cp:revision>288</cp:revision>
  <dc:subject/>
  <dc:title>Slide 1</dc:title>
</cp:coreProperties>
</file>