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17C5-F081-4F4C-8D52-4116C1CFC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3E445-93D7-4B47-B664-9E8F0AC12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13B3-78A3-443D-AF29-F85199D98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11A4-3DA4-4E12-8CA9-8E97A634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CC87-ACBB-402F-964D-E46932B3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AF3A-E643-479C-93EB-0D9810535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9843-B58B-4800-95F6-517D0951B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0498-339A-494A-8435-A19594ABD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586B-2EE0-450A-A982-8D8ACB209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1870-B0AE-40D6-9EC2-C79EE8AB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81702-C6BA-4D7F-AB63-272AD388A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F983-1575-4B08-9401-667070324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D2B9-B580-4B80-BA0F-1D9D08BB8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0651-9ABE-4558-BD1E-399949131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4524-43C3-4FB8-BF92-3A316A486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D9317-8E6D-4872-8851-397D60E0A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A1E6-8400-495A-AC07-FD2E03D9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444-0DBD-4C82-95BE-50A758B4D2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3D7-3362-41F2-A70E-32D99ECA7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9803-B589-4783-BAC2-D871AB3C6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931F-DED2-47C9-8935-84566087C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4307-27C5-4CC9-B866-0FF87E8F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D0D0-D11A-44A1-AA86-ACA398315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EA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GI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OKEY  TH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mokey.jpg"/>
          <p:cNvPicPr/>
          <p:nvPr/>
        </p:nvPicPr>
        <p:blipFill>
          <a:blip r:embed="rId1"/>
          <a:stretch/>
        </p:blipFill>
        <p:spPr>
          <a:xfrm>
            <a:off x="3543480" y="1290600"/>
            <a:ext cx="2057400" cy="354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ZZIE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  THE  POO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DDINGTON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TLE  B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LOO  ("THE  JUNGLE  BOOK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yogi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66880" cy="379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ENSTAIN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DY  RUXP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eddy ruxpin.gif"/>
          <p:cNvPicPr/>
          <p:nvPr/>
        </p:nvPicPr>
        <p:blipFill>
          <a:blip r:embed="rId1"/>
          <a:stretch/>
        </p:blipFill>
        <p:spPr>
          <a:xfrm>
            <a:off x="2819520" y="1219320"/>
            <a:ext cx="351000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PERT  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rupert bear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59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mokey.jpg"/>
          <p:cNvPicPr/>
          <p:nvPr/>
        </p:nvPicPr>
        <p:blipFill>
          <a:blip r:embed="rId1"/>
          <a:stretch/>
        </p:blipFill>
        <p:spPr>
          <a:xfrm>
            <a:off x="3429000" y="1219320"/>
            <a:ext cx="2286000" cy="39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ozzie bear.jpg"/>
          <p:cNvPicPr/>
          <p:nvPr/>
        </p:nvPicPr>
        <p:blipFill>
          <a:blip r:embed="rId1"/>
          <a:stretch/>
        </p:blipFill>
        <p:spPr>
          <a:xfrm>
            <a:off x="2895480" y="129528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winnie the pooh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paddington bear.jpg"/>
          <p:cNvPicPr/>
          <p:nvPr/>
        </p:nvPicPr>
        <p:blipFill>
          <a:blip r:embed="rId1"/>
          <a:stretch/>
        </p:blipFill>
        <p:spPr>
          <a:xfrm>
            <a:off x="3200400" y="1219320"/>
            <a:ext cx="2685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entle ben.jpg"/>
          <p:cNvPicPr/>
          <p:nvPr/>
        </p:nvPicPr>
        <p:blipFill>
          <a:blip r:embed="rId1"/>
          <a:stretch/>
        </p:blipFill>
        <p:spPr>
          <a:xfrm>
            <a:off x="2057400" y="1219320"/>
            <a:ext cx="5079960" cy="37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baloo.pn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berenstain bears.jpg"/>
          <p:cNvPicPr/>
          <p:nvPr/>
        </p:nvPicPr>
        <p:blipFill>
          <a:blip r:embed="rId1"/>
          <a:stretch/>
        </p:blipFill>
        <p:spPr>
          <a:xfrm>
            <a:off x="99072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4:56:03Z</dcterms:modified>
  <cp:revision>288</cp:revision>
  <dc:subject/>
  <dc:title>Slide 1</dc:title>
</cp:coreProperties>
</file>