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E232-26AA-4DD3-B703-07E2A11E8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71EA-4C03-4227-AB0A-94FCEB43A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A317-26B8-4DB4-9801-6BDF697FA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271B-DFFC-42B8-8891-A449F761C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6351-2CE1-42AF-A594-B3B6FA324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7CF4-21B4-4CE9-A9AE-291CED362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A2D9-D053-4BA5-9A55-B348D61F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9F73-8A7E-46C5-8A9B-9D5AACD98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04DE-D971-48C3-970E-90A7211D3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0318-D71F-455D-A901-C422B8C68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41BD-34FA-4E1A-9E76-262E7D5D6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C13C-D989-44BD-AFA2-C405F9BB3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D734-E576-436F-B02B-219DE972E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C20A-4F62-406D-8E8D-2EE7C4920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DFEE-2676-44E9-8E68-683FF5ADC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BA5C-9FAE-464E-9166-CE22A778A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0D4C-C55D-440B-B05E-B46B1718D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F964-76B4-46E4-87F4-9F5B3FE54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7306-F8C0-487F-90B8-CE4444C49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3968-FA89-43DA-A17E-F84F5FA0F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1718-5B08-4763-8D20-4EEA4F97C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F819-9072-4817-B37B-12080AD6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CEE6-3E13-4A13-962F-42A5D9C94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BEA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teddy ruxpin.gif"/>
          <p:cNvPicPr/>
          <p:nvPr/>
        </p:nvPicPr>
        <p:blipFill>
          <a:blip r:embed="rId1"/>
          <a:stretch/>
        </p:blipFill>
        <p:spPr>
          <a:xfrm>
            <a:off x="2819520" y="1219320"/>
            <a:ext cx="35100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rupert bear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59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I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yogi.jpg"/>
          <p:cNvPicPr/>
          <p:nvPr/>
        </p:nvPicPr>
        <p:blipFill>
          <a:blip r:embed="rId1"/>
          <a:stretch/>
        </p:blipFill>
        <p:spPr>
          <a:xfrm>
            <a:off x="3200400" y="1219320"/>
            <a:ext cx="2666880" cy="37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EY  THE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mokey.jpg"/>
          <p:cNvPicPr/>
          <p:nvPr/>
        </p:nvPicPr>
        <p:blipFill>
          <a:blip r:embed="rId1"/>
          <a:stretch/>
        </p:blipFill>
        <p:spPr>
          <a:xfrm>
            <a:off x="3543480" y="1290600"/>
            <a:ext cx="2057400" cy="35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ZZIE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fozzie bear.jpg"/>
          <p:cNvPicPr/>
          <p:nvPr/>
        </p:nvPicPr>
        <p:blipFill>
          <a:blip r:embed="rId1"/>
          <a:stretch/>
        </p:blipFill>
        <p:spPr>
          <a:xfrm>
            <a:off x="28954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NIE  THE  PO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winnie the pooh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DDINGTON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paddington bear.jpg"/>
          <p:cNvPicPr/>
          <p:nvPr/>
        </p:nvPicPr>
        <p:blipFill>
          <a:blip r:embed="rId1"/>
          <a:stretch/>
        </p:blipFill>
        <p:spPr>
          <a:xfrm>
            <a:off x="3200400" y="121932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TLE  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entle ben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7996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OO  ("THE  JUNGLE  BOOK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baloo.pn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yogi.jpg"/>
          <p:cNvPicPr/>
          <p:nvPr/>
        </p:nvPicPr>
        <p:blipFill>
          <a:blip r:embed="rId1"/>
          <a:stretch/>
        </p:blipFill>
        <p:spPr>
          <a:xfrm>
            <a:off x="3200400" y="1219320"/>
            <a:ext cx="2666880" cy="37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ENSTAIN 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berenstain bears.jpg"/>
          <p:cNvPicPr/>
          <p:nvPr/>
        </p:nvPicPr>
        <p:blipFill>
          <a:blip r:embed="rId1"/>
          <a:stretch/>
        </p:blipFill>
        <p:spPr>
          <a:xfrm>
            <a:off x="990720" y="12952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DY  RUX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teddy ruxpin.gif"/>
          <p:cNvPicPr/>
          <p:nvPr/>
        </p:nvPicPr>
        <p:blipFill>
          <a:blip r:embed="rId1"/>
          <a:stretch/>
        </p:blipFill>
        <p:spPr>
          <a:xfrm>
            <a:off x="2819520" y="1219320"/>
            <a:ext cx="3510000" cy="37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PERT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rupert bear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594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mokey.jpg"/>
          <p:cNvPicPr/>
          <p:nvPr/>
        </p:nvPicPr>
        <p:blipFill>
          <a:blip r:embed="rId1"/>
          <a:stretch/>
        </p:blipFill>
        <p:spPr>
          <a:xfrm>
            <a:off x="3429000" y="1219320"/>
            <a:ext cx="228600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fozzie bear.jpg"/>
          <p:cNvPicPr/>
          <p:nvPr/>
        </p:nvPicPr>
        <p:blipFill>
          <a:blip r:embed="rId1"/>
          <a:stretch/>
        </p:blipFill>
        <p:spPr>
          <a:xfrm>
            <a:off x="28954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winnie the pooh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paddington bear.jpg"/>
          <p:cNvPicPr/>
          <p:nvPr/>
        </p:nvPicPr>
        <p:blipFill>
          <a:blip r:embed="rId1"/>
          <a:stretch/>
        </p:blipFill>
        <p:spPr>
          <a:xfrm>
            <a:off x="3200400" y="121932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entle ben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7996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baloo.pn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berenstain bears.jpg"/>
          <p:cNvPicPr/>
          <p:nvPr/>
        </p:nvPicPr>
        <p:blipFill>
          <a:blip r:embed="rId1"/>
          <a:stretch/>
        </p:blipFill>
        <p:spPr>
          <a:xfrm>
            <a:off x="990720" y="12952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14:56:03Z</dcterms:modified>
  <cp:revision>288</cp:revision>
  <dc:subject/>
  <dc:title>Slide 1</dc:title>
</cp:coreProperties>
</file>