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559E-600D-448F-81F9-3EAB0ED26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B1D-9BEF-401E-8FF0-31830A310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4BE4-578F-4011-AE59-868B5809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B5A3-2C86-45EC-A322-226D7F955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9859-DB23-4B98-A501-466CADC3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E4EC-4C79-45DD-896D-049DBAEF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4479-5D64-471A-90B0-F1C150C17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4A6B-3054-4CEB-9D7A-5F1BD558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B183-6B30-4C2E-8C09-08DF1333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4FC-88BE-4FB0-86F6-73EC58DC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ACE6-B77C-44F9-803E-90044307F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D19A-3147-4CAE-812D-A8F49942C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2787-EBD8-43C7-BB61-97877096A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D7CA-B979-4212-A5B8-45DCF3F5E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31D9-0F97-4BE6-889B-C7A1B595F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795A-227F-457C-BA2C-A2BCA7F35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1D4F-50B9-4CD0-82C6-E4872C007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37E1-80C0-44F8-A54F-34E61A4B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3AF2-931F-43C6-9E61-3E6FACAF7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CC84-71CF-4843-B9FA-2023ED713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118-07C8-482F-8F05-FCC7B887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BE7B-DCF7-4A76-9B1F-77DBA7679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3352-F479-46C8-B499-03E27AF2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4857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TV P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5639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ION ON "THE ADDAMS 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FRAS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L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THE JET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G ON "GREEN AC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057400" y="762120"/>
            <a:ext cx="5029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CKATOO ON "BARETT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82640"/>
            <a:ext cx="7315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OUR GA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T ON "SABRINA THE TEENAGE WI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L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'S  LITTLE  HEL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057400" y="762120"/>
            <a:ext cx="5029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   "THE SIMP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TY  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ION ON "THE ADDAMS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FRAS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THE JET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G ON "GREEN AC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FAMILY GU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133720" y="7617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CKATOO ON "BARETT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OUR GA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T ON "SABRINA THE TEENAGE WI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019240" y="762120"/>
            <a:ext cx="5105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   "THE SIMP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4:25:50Z</dcterms:created>
  <dc:creator>Jennifer Budzinski</dc:creator>
  <dc:description/>
  <dc:language>en-US</dc:language>
  <cp:lastModifiedBy>Erich Friedman</cp:lastModifiedBy>
  <dcterms:modified xsi:type="dcterms:W3CDTF">2020-09-04T14:45:16Z</dcterms:modified>
  <cp:revision>344</cp:revision>
  <dc:subject/>
  <dc:title>Slide 1</dc:title>
</cp:coreProperties>
</file>