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71C0-0B15-4BF6-9A8A-8288C8AE4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DC6D-806B-400D-A510-E4F4920C0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958D-4310-44AB-8D6A-5745CF2EC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40A7-AF91-4B71-9C18-76670EC97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1D38-406B-4335-963F-D47621DA0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2DF1-63A0-4544-A6CF-FE2B54F19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270F-FDB8-46B0-BA28-4E14D9674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B8C0-19DD-4F75-BD72-415368769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A4E1-5F76-4BF9-BAEB-CBA3DD7D0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FBDD-6FCA-4370-9907-915547BB7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D283-96E4-4EB2-A08F-E02495FA1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8D50-1413-45B6-9A06-DF7CC57B9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601F-4A9D-4DD5-8A84-849E693AD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7434-F5C0-4636-A3E8-238E2271B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73CD-A9C2-42E4-8F93-20904454E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DEAD-618D-4119-B2F1-A2D0A1867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9AEF-FFC7-4E78-AE93-B129A03F0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F692-2044-4A9A-839C-D8C504C0D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6C35-66BB-463F-B4C2-267EA9974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63CC-5C6D-4470-A5CE-5F9A1A9EF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A745-BE3F-416C-84A0-FF3C55C5D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4443-86AF-43C7-AC3B-BDDE41265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7874-5243-4228-80FF-47D14F039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48572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TV P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5639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ION ON "THE ADDAMS FAMI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FRASI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LO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THE JET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N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G ON "GREEN AC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FAMILY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057400" y="762120"/>
            <a:ext cx="5029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CKATOO ON "BARETT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82640"/>
            <a:ext cx="7315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OUR GA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T ON "SABRINA THE TEENAGE WI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LO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'S  LITTLE  HEL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057400" y="762120"/>
            <a:ext cx="5029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   "THE SIMP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TY  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ION ON "THE ADDAMS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FRASI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THE JET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G ON "GREEN AC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FAMILY GU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133720" y="761760"/>
            <a:ext cx="4876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CKATOO ON "BARETT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"OUR GA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T ON "SABRINA THE TEENAGE WI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019240" y="762120"/>
            <a:ext cx="5105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G ON    "THE SIMP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4:25:50Z</dcterms:created>
  <dc:creator>Jennifer Budzinski</dc:creator>
  <dc:description/>
  <dc:language>en-US</dc:language>
  <cp:lastModifiedBy>Erich Friedman</cp:lastModifiedBy>
  <dcterms:modified xsi:type="dcterms:W3CDTF">2020-09-04T14:45:16Z</dcterms:modified>
  <cp:revision>344</cp:revision>
  <dc:subject/>
  <dc:title>Slide 1</dc:title>
</cp:coreProperties>
</file>