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91DE-F0E0-4FAF-B1E4-63A9C76BE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B285-53B6-4220-A153-BA48DDE17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42B5-4264-4D22-B93D-6D5EDC665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F076-A50E-4D4C-B5B6-BF879FB4C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8C42-D3B8-4F7D-ACD5-27EFB4C68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3889-E42E-46E2-8FDD-01C6E5DA1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156F-50DF-4F90-852A-D55C5DFEB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0422-EE38-4E02-B9FE-EF3710FB2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F686-23FB-40AA-85E5-19873545D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0E25-9BE8-4160-93F3-8D2629963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33C3-C0A5-4893-B792-9FC365777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8A05-D159-465A-8B05-47E434048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C04D-AB80-44AD-89E7-BA9E09C54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39CD-56DE-4C63-A569-2A4A10024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8B00-3CF3-43B6-A42A-5CFE12215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7E8C-1914-443B-9273-ACA85DE9D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95EE-6E55-43AB-BFAA-44000601F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B8CC-D946-47BB-ACF7-0CF889BF6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4FFC-2332-43B6-9E96-FE404A10A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D4AC-95F9-4872-AC8E-6B8DE73FD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B5C4-117C-4F6E-A326-EAE3C40CA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E9D4-0B3E-49FD-ADAA-4864D76CD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CAC2-C5A2-4A6C-8EDD-4C9E07019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R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DOES THE LINE "MY KINGDOM FOR A HORSE" APP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T TUNSTALL SONG ABOUT A HORSE WAS HER ONLY SINGLE TO TOP THE CHAR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HORSE  WITH  NO 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 SONG ABOUT A HORSE WAS NOMINATED FOR BEST POP SONG IN 1971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BIS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MOVIE IS ABOUT A DEPRESSION-ERA RACE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ARI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NER OF THE TRIPLE CROWN IN 1973 IS THE SUBJECT OF A 2010 DISNE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S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HORSE WAS COVERED BY DOC WATSON AND LATER BY THE NITTY GRITTY DIR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ORSE  WHISP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HORSE MOVIE STARS ROBERT REDFORD AND SCARLET JOHANS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BEAU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77 NOVEL ABOUT A HORSE BY ANNA SEWELL IS ONE OF THE BEST-SELLING CHILDREN'S BOOKS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  HO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HORSES      IS THE FAVORITE ROLLING STONES SONG OF JERRY HALL, EX-WIFE OF MICK JAGG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 SONG ABOUT A HORSE WAS NOMINATED FOR BEST POP SONG IN 1971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ENTURIES AGO WAS THE TROJAN HORSE USED?  22, 27, OR 3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DOES THE LINE "MY KINGDOM FOR A HORSE" APP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419720"/>
            <a:ext cx="5715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HORSE  AND  THE  CHERRY 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57480" y="723960"/>
            <a:ext cx="6629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T TUNSTALL SONG ABOUT A HORSE WAS HER ONLY SINGLE TO TOP THE CHAR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MOVIE IS ABOUT A DEPRESSION-ERA RACE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23920" y="762120"/>
            <a:ext cx="689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NER OF THE TRIPLE CROWN IN 1973 IS THE SUBJECT OF A 2010 DISNE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HORSE WAS COVERED BY DOC WATSON AND LATER BY THE NITTY GRITTY DIRT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HORSE MOVIE STARS ROBERT REDFORD AND SCARLET JOHANS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77 NOVEL ABOUT A HORSE BY ANNA SEWELL IS ONE OF THE BEST-SELLING CHILDREN'S BOOKS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85840" y="761760"/>
            <a:ext cx="8572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HORSES      IS THE FAVORITE ROLLING STONES SONG OF JERRY HALL, EX-WIFE OF MICK JAGGE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ENTURIES AGO WAS THE TROJAN HORSE USED?  22, 27, OR 3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01:53:45Z</dcterms:created>
  <dc:creator>Jennifer Budzinski</dc:creator>
  <dc:description/>
  <dc:language>en-US</dc:language>
  <cp:lastModifiedBy>Erich Friedman</cp:lastModifiedBy>
  <dcterms:modified xsi:type="dcterms:W3CDTF">2020-09-04T17:19:47Z</dcterms:modified>
  <cp:revision>336</cp:revision>
  <dc:subject/>
  <dc:title>Slide 1</dc:title>
</cp:coreProperties>
</file>