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70578-C4C4-452F-84E1-20C40B0DF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06913-DC5D-4F88-845F-1A864BD83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2EC70-B60C-4E5C-B846-D4956174C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9FB8B-B635-4378-A748-67FBC9688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F2096-596C-417D-B3AE-018A3F71C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81149-D5E1-4D53-A05F-E695B55B2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75E1D-4A50-4B5B-A0F2-33EFF5BC2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8043-FBB9-47AD-9051-1541BE1B01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FD90D-453D-4540-903C-07D50B117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5C477-5018-4E91-9658-FB4BF5E8E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ED89E-6EA8-4DD6-BFE2-2FE21AA72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9FED9-4D1D-4A97-90BE-F076808AA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57F42-4F1C-4E0C-BF0E-CE7BF61C2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5B579-1CDE-4C6C-B793-43353AE81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8D760-593B-4970-844D-E975AE65E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5BA2A-FA7F-4E18-823C-BFB28B592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BF151-A586-4CCF-819B-68A7C9686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75CD-E058-4BDF-B170-37E04F684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C7820-6B0F-4BD8-9F27-14057CDC7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FCACB-FCAA-4C69-A581-D2AC9E1F7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78198-8BED-4875-9C4A-A7D1B171C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FFE1E-21F5-4D4C-B310-4484D48B7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C884-8740-4678-92BD-97368A70A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66680" y="152388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R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HAKESPEARE PLAY DOES THE LINE "MY KINGDOM FOR A HORSE" APPE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295280" y="762120"/>
            <a:ext cx="65534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T TUNSTALL SONG ABOUT A HORSE WAS HER ONLY SINGLE TO TOP THE CHART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HORSE  WITH  NO  N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143000" y="762120"/>
            <a:ext cx="68580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MERICA SONG ABOUT A HORSE WAS NOMINATED FOR BEST POP SONG IN 1971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ABISC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104840" y="762120"/>
            <a:ext cx="69343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3 MOVIE IS ABOUT A DEPRESSION-ERA RACEHOR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19040" y="4952880"/>
            <a:ext cx="8305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CRETARI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143000" y="762120"/>
            <a:ext cx="6858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INNER OF THE TRIPLE CROWN IN 1973 IS THE SUBJECT OF A 2010 DISNEY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NNESSEE  ST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ABOUT A HORSE WAS COVERED BY DOC WATSON AND LATER BY THE NITTY GRITTY DIRT B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533520" y="49528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HORSE  WHISPER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8 HORSE MOVIE STARS ROBERT REDFORD AND SCARLET JOHANS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  BEAU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09480" y="762120"/>
            <a:ext cx="79250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877 NOVEL ABOUT A HORSE BY ANNA SEWELL IS ONE OF THE BEST-SELLING CHILDREN'S BOOKS E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95288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D  HOR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43080" y="762120"/>
            <a:ext cx="8458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ABOUT HORSES      IS THE FAVORITE ROLLING STONES SONG OF JERRY HALL, EX-WIFE OF MICK JAGGE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MERICA SONG ABOUT A HORSE WAS NOMINATED FOR BEST POP SONG IN 1971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CENTURIES AGO WAS THE TROJAN HORSE USED?  22, 27, OR 3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CHARD  I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57200" y="7621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HAKESPEARE PLAY DOES THE LINE "MY KINGDOM FOR A HORSE" APP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752480" y="4419720"/>
            <a:ext cx="5715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  HORSE  AND  THE  CHERRY  T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257480" y="723960"/>
            <a:ext cx="6629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T TUNSTALL SONG ABOUT A HORSE WAS HER ONLY SINGLE TO TOP THE CHART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3 MOVIE IS ABOUT A DEPRESSION-ERA RACEHOR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123920" y="762120"/>
            <a:ext cx="6896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INNER OF THE TRIPLE CROWN IN 1973 IS THE SUBJECT OF A 2010 DISNEY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ABOUT A HORSE WAS COVERED BY DOC WATSON AND LATER BY THE NITTY GRITTY DIRT B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8 HORSE MOVIE STARS ROBERT REDFORD AND SCARLET JOHANS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877 NOVEL ABOUT A HORSE BY ANNA SEWELL IS ONE OF THE BEST-SELLING CHILDREN'S BOOKS EV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285840" y="761760"/>
            <a:ext cx="85723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ABOUT HORSES      IS THE FAVORITE ROLLING STONES SONG OF JERRY HALL, EX-WIFE OF MICK JAGGER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CENTURIES AGO WAS THE TROJAN HORSE USED?  22, 27, OR 3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9T01:53:45Z</dcterms:created>
  <dc:creator>Jennifer Budzinski</dc:creator>
  <dc:description/>
  <dc:language>en-US</dc:language>
  <cp:lastModifiedBy>Erich Friedman</cp:lastModifiedBy>
  <dcterms:modified xsi:type="dcterms:W3CDTF">2020-09-04T17:19:47Z</dcterms:modified>
  <cp:revision>336</cp:revision>
  <dc:subject/>
  <dc:title>Slide 1</dc:title>
</cp:coreProperties>
</file>