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0ACD-1F48-43D9-A668-1C8392EF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9458-AAB2-4D6A-8CC9-34CCE467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6D8-D2E1-438A-B54F-8AB21618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742-F739-495D-A646-85E352EB6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78BA-9C10-4B1E-AE37-8C295514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B7D-05E1-467A-A884-A40F4A25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9211-4490-48C9-92AD-76047AAA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2A7A-BBD4-4A04-B54A-EADEA598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D737-BE46-4242-8CEC-28E1D3D0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1192-4BB4-4E80-A13A-2CC47EBA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16D-D02C-4431-B370-C9E3EBF4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AC48-D9EC-4E7A-BE08-EBB36E21B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882E-91D6-42FD-858C-08DC8D02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EBC-D036-484B-8BDE-4EE7E60B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F00C-A887-466D-A855-156FF803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042E-D980-47B4-B224-C7FB1A2B2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776-1728-48E7-8D7D-3640F443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2993-B9E6-435E-9B1E-238A94A0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893-3C4E-43EB-92A9-9CE53CF3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A176-F865-4D1C-9B89-11D36C912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B8F-4D7E-42B9-BB9E-FCE44A5F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7C4D-CB51-4DCF-9793-5BE14F7D8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91D7-94AA-4C1A-9883-90B52F54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LINE "MY KINGDOM FOR A HORSE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T TUNSTALL SONG ABOUT A HORSE WAS HER ONLY SINGLE TO TOP THE CH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RSE  WITH  NO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ABOUT A HORSE WAS NOMINATED FOR BEST POP SONG IN 1971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BIS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MOVIE IS ABOUT A DEPRESSION-ERA RACE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RIPLE CROWN IN 1973 IS THE SUBJECT OF A 2010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S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HORSE WAS COVERED BY DOC WATSON AND LATER BY THE NITTY GRITTY DIR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RSE  WHISP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HORSE MOVIE STARS ROBERT REDFORD AND SCARLET JOHAN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7 NOVEL ABOUT A HORSE BY ANNA SEWELL IS ONE OF THE BEST-SELLING CHILDREN'S BOOK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HO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HORSES      IS THE FAVORITE ROLLING STONES SONG OF JERRY HALL, EX-WIFE OF MICK JAGG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ABOUT A HORSE WAS NOMINATED FOR BEST POP SONG IN 197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URIES AGO WAS THE TROJAN HORSE USED?  22, 27, OR 3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LINE "MY KINGDOM FOR A HORSE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4197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ORSE  AND  THE  CHERRY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2396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T TUNSTALL SONG ABOUT A HORSE WAS HER ONLY SINGLE TO TOP THE CH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MOVIE IS ABOUT A DEPRESSION-ERA RACE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23920" y="762120"/>
            <a:ext cx="68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RIPLE CROWN IN 1973 IS THE SUBJECT OF A 2010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HORSE WAS COVERED BY DOC WATSON AND LATER BY THE NITTY GRITTY DIR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HORSE MOVIE STARS ROBERT REDFORD AND SCARLET JOHANS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7 NOVEL ABOUT A HORSE BY ANNA SEWELL IS ONE OF THE BEST-SELLING CHILDREN'S BOOK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5840" y="76176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HORSES      IS THE FAVORITE ROLLING STONES SONG OF JERRY HALL, EX-WIFE OF MICK JAGG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URIES AGO WAS THE TROJAN HORSE USED?  22, 27, OR 3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01:53:45Z</dcterms:created>
  <dc:creator>Jennifer Budzinski</dc:creator>
  <dc:description/>
  <dc:language>en-US</dc:language>
  <cp:lastModifiedBy>Erich Friedman</cp:lastModifiedBy>
  <dcterms:modified xsi:type="dcterms:W3CDTF">2020-09-04T17:19:47Z</dcterms:modified>
  <cp:revision>336</cp:revision>
  <dc:subject/>
  <dc:title>Slide 1</dc:title>
</cp:coreProperties>
</file>