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F428-1C80-4F3A-BAAB-A8173D21D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4222-A698-4BB4-8762-96C637AAC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29A-EA36-489A-880D-C98F3F49C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F502-0B68-4F6B-9AE5-7A0FBC99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EEEC-45A2-4170-816E-F7BF0FBC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0E04-2D92-43AF-B219-24774684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7F8-8B02-456B-9A27-ECAD25A64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187B-7DF9-44A5-9B70-0BCE7D23C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6F5-4122-481C-B696-C9C1FB428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115E-81A7-487D-8519-52C145FC7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B221-52C8-4B67-A200-D8ED093C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D862-2AEB-4F72-958E-E566F0CBB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7D60-2B44-4D28-A8BF-A6B42FA1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D91E-F1C1-4234-ADD7-5A7C9E52D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7219-041F-4704-8C6B-2952C0436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5D1D-32A5-4EAC-8BF9-B56EABD2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56D3-05FA-48FC-A10B-ECCF52998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1D10-5A2B-4133-8F97-C7DB9B7D5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79A2-1DA7-4AB1-9948-9741A403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851B-3413-40CA-B451-1BB6CC2B1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D0A1-F8CD-403D-917E-32864EB62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D4B6-A8F4-4A19-8BA6-D6D29C92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CB94-FE9C-4D55-A0DE-E9F182C8C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REATURES MAKE THESE FOOTPRINTS?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3178080" y="1344600"/>
            <a:ext cx="2787840" cy="36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2336760" y="1295280"/>
            <a:ext cx="44704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753000" y="1295280"/>
            <a:ext cx="1638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11600" y="1295280"/>
            <a:ext cx="35208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305080" y="1295280"/>
            <a:ext cx="4533840" cy="34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336760" y="1295280"/>
            <a:ext cx="44704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3009960" y="1292400"/>
            <a:ext cx="312408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705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7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178080" y="1295280"/>
            <a:ext cx="2787840" cy="36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753000" y="1295280"/>
            <a:ext cx="1638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6" descr=""/>
          <p:cNvPicPr/>
          <p:nvPr/>
        </p:nvPicPr>
        <p:blipFill>
          <a:blip r:embed="rId1"/>
          <a:stretch/>
        </p:blipFill>
        <p:spPr>
          <a:xfrm>
            <a:off x="2811600" y="1295280"/>
            <a:ext cx="35208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305080" y="1295280"/>
            <a:ext cx="453384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3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3009960" y="1295280"/>
            <a:ext cx="3124080" cy="350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0:45:58Z</dcterms:modified>
  <cp:revision>294</cp:revision>
  <dc:subject/>
  <dc:title>Slide 1</dc:title>
</cp:coreProperties>
</file>