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D06E-A3A3-4B60-8F58-926C22D3B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22AE-FBD2-436C-9DAF-3A450C80D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7E60-8D46-4159-8B99-320D2C63F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C33B-58E2-402A-9C9F-F9C2EA35A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3AC7-3C6A-4F12-8164-2C1AEFAFF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59DF-A086-42B5-B7B3-0EE34F92E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1F97-372A-405B-9A30-36A58D623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6AFD-201C-4BD5-AB8F-D714DEF06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8587-ADFB-48F7-AE78-E1E011DB7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F380-3FC5-464F-A210-3D103D734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CEA1-61B3-4C42-AB23-91324661E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5A93-82E9-431D-AE0A-05C181256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F41A-E821-458F-AF47-4AD666E2D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3838-2595-450C-9B4A-0A40140C2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A38C-2DAF-4CCB-A985-7A0BFD5BD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72BB-F3E6-48A1-88ED-7F1A8AAB2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284E-788E-4AEE-9166-C7D3A7A5E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F252-0D8F-49E6-8D5E-ACEF112D4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2448-C4F5-4E70-89A9-07FA97625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D43B-6380-4048-B42E-05367FC9D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08CD-FC53-4033-B1AF-99596EB34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D657-8189-4BDC-993C-8B05817D1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C91B-9184-4100-90F3-1E346039E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REATURES MAKE THESE FOOTPRINTS? 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610000" y="1295280"/>
            <a:ext cx="3924000" cy="35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3178080" y="1344600"/>
            <a:ext cx="2787840" cy="36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2336760" y="1295280"/>
            <a:ext cx="4470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3753000" y="1295280"/>
            <a:ext cx="1638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811600" y="1295280"/>
            <a:ext cx="35208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2341440" y="1295280"/>
            <a:ext cx="4461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305080" y="1295280"/>
            <a:ext cx="4533840" cy="346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AN  B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2749680" y="1295280"/>
            <a:ext cx="36446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310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336760" y="1295280"/>
            <a:ext cx="44704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C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3009960" y="1292400"/>
            <a:ext cx="3124080" cy="35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70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2610000" y="1295280"/>
            <a:ext cx="3924000" cy="357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3178080" y="1295280"/>
            <a:ext cx="2787840" cy="36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3753000" y="1295280"/>
            <a:ext cx="1638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6" descr=""/>
          <p:cNvPicPr/>
          <p:nvPr/>
        </p:nvPicPr>
        <p:blipFill>
          <a:blip r:embed="rId1"/>
          <a:stretch/>
        </p:blipFill>
        <p:spPr>
          <a:xfrm>
            <a:off x="2811600" y="1295280"/>
            <a:ext cx="352080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341440" y="1295280"/>
            <a:ext cx="4461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2305080" y="1295280"/>
            <a:ext cx="4533840" cy="34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749680" y="1295280"/>
            <a:ext cx="36446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3102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3009960" y="1295280"/>
            <a:ext cx="3124080" cy="350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20:45:58Z</dcterms:modified>
  <cp:revision>294</cp:revision>
  <dc:subject/>
  <dc:title>Slide 1</dc:title>
</cp:coreProperties>
</file>