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76B6-A769-4FD0-B6D5-322A6EB2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7BD0-16CE-4D14-8397-C84C005A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3BE-BC43-477D-ACA8-2C378408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766A-96CC-47A0-A0D3-7D40CA07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C9D0-D60B-45C2-AAF0-BA8DEF2A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0C6-DB04-4B8E-BD6A-77FCCBD9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80C-FF83-44AA-99BF-96A9B5DEF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2783-704E-4495-9959-B39AA2C9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64A-704E-4683-8F8D-302E81CA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BDEC-524C-4223-AB84-18C4D2EC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F3E-0C8D-4D85-8610-40EB7C5EE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C45-BD51-423C-AFE1-1809C304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0BB-687F-4B6D-B719-53D191C1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BDC-6584-4172-BFC1-12091FF6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A75-18E3-4FAC-89AF-1585898D3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5DBC-C92C-403B-AFBB-BD2D2013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67D4-E8CD-4564-8C6D-679F532E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356-1DA5-4AF5-BEC8-F5B5D65D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6F35-4B1D-44AD-89A5-86107AA5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1589-F8AD-472C-A60E-A32447DA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6F87-AF21-4026-81ED-282DC62F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6C9-6C3E-4611-BCA0-13A441FD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B15D-B5D4-42A6-81DE-59AD2B3A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REATURES MAKE THESE FOOTPRINTS?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3178080" y="1344600"/>
            <a:ext cx="278784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2336760" y="1295280"/>
            <a:ext cx="447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753000" y="1295280"/>
            <a:ext cx="1638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11600" y="1295280"/>
            <a:ext cx="35208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305080" y="1295280"/>
            <a:ext cx="4533840" cy="34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336760" y="1295280"/>
            <a:ext cx="44704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3009960" y="1292400"/>
            <a:ext cx="312408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70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178080" y="1295280"/>
            <a:ext cx="2787840" cy="36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753000" y="1295280"/>
            <a:ext cx="1638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2811600" y="1295280"/>
            <a:ext cx="35208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305080" y="1295280"/>
            <a:ext cx="453384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3009960" y="1295280"/>
            <a:ext cx="3124080" cy="350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0:45:58Z</dcterms:modified>
  <cp:revision>294</cp:revision>
  <dc:subject/>
  <dc:title>Slide 1</dc:title>
</cp:coreProperties>
</file>