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DFCF-4228-4971-85A4-64E33315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1D2-A571-4243-AE22-D4AFFA35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7F54-E4B2-4CBB-B09E-4AB8019B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79F5-21B9-4F89-9E27-3637670FE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E75-B1EE-4A7E-8F8E-22CB3833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0797-8B50-4F27-90F1-CD905FA2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F99A-34DA-4B95-8126-6B579A74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9779-DCDA-4B75-B544-289D4DF43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C16-763B-41BC-80EA-01AEC14CE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0FA8-6480-4685-B63C-C9EB558AC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1E86-FFE9-428B-97F8-150FCFA3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58D-96B5-4013-87B3-58BF6A45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D56E-205F-4CC1-AE9F-2BAFEF02C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9756-1D18-4BA5-84A5-7A5D3BD6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17E0-E950-4998-B467-A5A51EEA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7B87-EFD3-4D67-BF99-AA97B19B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1907-96A7-40A6-BCB3-BE4A1749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F0C8-E751-442E-ADF5-8327062E2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F526-E07D-49CB-B15F-CA16AD21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E89D-1B3A-44FA-B709-D4E40868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83C0-9D4F-4DEC-845F-EC9F5C88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5144-8528-4681-8817-AD8BA808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4D80-E90F-4F10-BE7A-4C9A25F1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CAN JUMP THE FARTH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KEENEST SENSE OF SMELL, AND LAYS THE LARGEST EGG RELATIVE TO ITS BODY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DV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57160" y="762120"/>
            <a:ext cx="7429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LISTED FIRST IN THE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NO INDIGENOUS POISONOUS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GESTATION PERIOD, ALMOST 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333440" y="4419720"/>
            <a:ext cx="6477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AFFES,  HORSES,  ELEPHANTS  &amp;  FLAMING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ANIMALS SLEEP STANDING UP ON THE G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4952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OOK  (OR  KING  SALM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SALMON FAMILY, WEIGHING UP TO 120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C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LIZARDS HAS THE LOUDEST VO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N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YPE OF DEER WHERE THE FEMALES ALSO HAVE ANTL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LISTED FIRST IN THE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47920" y="495288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CKOO  &amp;  COWBIRD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ORTH AMERICAN BIRDS LAY THEIR EGGS IN THE NESTS OF OTHER BI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CAN JUMP THE FART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W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KEENEST SENSE OF SMELL, AND LAYS THE LARGEST EGG RELATIVE TO ITS BODY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NO INDIGENOUS POISONOUS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GESTATION PERIOD, ALMOST 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ANIMALS SLEEP STANDING UP ON THE G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SALMON FAMILY, WEIGHING UP TO 120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LIZARDS HAS THE LOUDEST VO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YPE OF DEER WHERE THE FEMALES ALSO HAVE ANTL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ORTH AMERICAN BIRDS LAY THEIR EGGS IN THE NESTS OF OTHER BI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9:20:50Z</dcterms:created>
  <dc:creator>Jennifer Budzinski</dc:creator>
  <dc:description/>
  <dc:language>en-US</dc:language>
  <cp:lastModifiedBy>Erich Friedman</cp:lastModifiedBy>
  <dcterms:modified xsi:type="dcterms:W3CDTF">2020-09-04T22:00:25Z</dcterms:modified>
  <cp:revision>336</cp:revision>
  <dc:subject/>
  <dc:title>Slide 1</dc:title>
</cp:coreProperties>
</file>