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DB20-A651-4687-B4AB-37764C7E1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F43B-7EA4-4F13-8C5E-7E42B2085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60E6-3DBD-4F37-82B9-F071AD10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6558-3C61-4733-831D-FF082215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3925-BA7C-4602-A81C-AFD200E4A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B39D-2E67-44A7-BFA6-5CC763E04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D942-2ED2-4750-B1EF-CBC7EE7BB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5963-D20A-4F6C-B78C-BED292AAB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07A6-6D10-400E-9ABF-FED585394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8284-AAFB-47A1-8C55-6E22AA03F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03DA-0012-40F8-8679-2F7CDC7B9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ED2C-DE7B-4801-B853-6493D3EC9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3CBA-DE17-48C3-9184-DC51C071F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3648-CA94-4BD9-81A8-7D401153A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4F99-D4CC-4858-A16E-5E0AE2E30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43AD-3A7C-42F3-BAE2-A2A9CF379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B2E1-C89D-461F-8F79-217156A99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CF20-FC47-46D7-AF2E-10E02A53C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637E-B337-421E-B6A6-13D68C91F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313F-B689-4A76-B0B0-0A0334234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CD97-8E77-40B1-9F0A-2D5E434BC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9C30-A328-4DD4-83CB-28016F005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1840-CCD5-42F8-9D7F-1AFF0BCA1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4475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CAN JUMP THE FARTH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HAS THE KEENEST SENSE OF SMELL, AND LAYS THE LARGEST EGG RELATIVE TO ITS BODY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DV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57160" y="762120"/>
            <a:ext cx="7429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LISTED FIRST IN THE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NO INDIGENOUS POISONOUS ANIM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P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IMAL HAS THE LONGEST GESTATION PERIOD, ALMOST 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333440" y="4419720"/>
            <a:ext cx="6477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AFFES,  HORSES,  ELEPHANTS  &amp;  FLAMING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ANIMALS SLEEP STANDING UP ON THE GR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0" y="49528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OOK  (OR  KING  SALM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SALMON FAMILY, WEIGHING UP TO 120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CK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LIZARDS HAS THE LOUDEST VO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IN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YPE OF DEER WHERE THE FEMALES ALSO HAVE ANTL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LISTED FIRST IN THE DICTION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47920" y="495288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CKOO  &amp;  COWBIRD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ORTH AMERICAN BIRDS LAY THEIR EGGS IN THE NESTS OF OTHER BI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KANGAR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CAN JUMP THE FART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W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HAS THE KEENEST SENSE OF SMELL, AND LAYS THE LARGEST EGG RELATIVE TO ITS BODY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NO INDIGENOUS POISONOUS ANIM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IMAL HAS THE LONGEST GESTATION PERIOD, ALMOST 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ANIMALS SLEEP STANDING UP ON THE GR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SALMON FAMILY, WEIGHING UP TO 120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LIZARDS HAS THE LOUDEST VO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YPE OF DEER WHERE THE FEMALES ALSO HAVE ANTLER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ORTH AMERICAN BIRDS LAY THEIR EGGS IN THE NESTS OF OTHER BI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8T19:20:50Z</dcterms:created>
  <dc:creator>Jennifer Budzinski</dc:creator>
  <dc:description/>
  <dc:language>en-US</dc:language>
  <cp:lastModifiedBy>Erich Friedman</cp:lastModifiedBy>
  <dcterms:modified xsi:type="dcterms:W3CDTF">2020-09-04T22:00:25Z</dcterms:modified>
  <cp:revision>336</cp:revision>
  <dc:subject/>
  <dc:title>Slide 1</dc:title>
</cp:coreProperties>
</file>