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80DA-36BF-4D7C-828B-B46141E86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DDA6-ECF1-4FDC-93BE-7057A8BAB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BB76-13D3-49DB-A1F3-519B1F3C7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1F21-0956-4DBB-9F6C-208805606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9994-6A11-4C80-8F32-04033D412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2FBB-F3AB-4904-8BB4-87DE50DF9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9225-BC01-4453-9B5B-85EC07747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AB7D-C26C-41A9-9C41-D39C16673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1991-C039-4C67-9B11-874AB0D5A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CFE9-D356-489B-9518-D3D0A24C1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98C0-FBF2-4307-9E86-C97723531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D7B5-86B5-49A5-9835-4BAE9D3F0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69AA-4C57-46D1-9482-BF77C2866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1B26-A455-414F-8116-8FD8CEA0C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0EA7-8276-4015-90DE-B6B2E13F2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B2DA-0203-4C98-81AC-C73ECD89C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A290-9AE6-456D-BEFF-3FCE7CC6A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4647-E6C7-42DD-B025-AA296BD72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6041-2FD6-4B47-A073-B5A69505E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1671-46BB-4ED4-BBC7-A07CEF69B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28E2-AB1E-492B-A262-4F076A9CF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9970-2703-4587-BB45-97F0A43BD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EBD0-0E4D-4E98-B1C8-E3068E019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LLEGE'S SPORTS TEAMS ARE KNOWN AS THE RED RAID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AMERICAN RED CRO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MOGLOB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LECULE GIVES BLOOD ITS RED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RED SLOTS ARE THERE ON A ROULETTE WHE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072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UDI  ARA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THE LONGEST COASTLINE ON THE RED S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WIN  HUB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THE CONNECTION BETWEEN THE REDSHIFTS OF GALAXIES AND THEIR DIST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C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RED BADGE OF COURA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CL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HUNT FOR RED OCTOB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CK  THE  W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FOLLOWING IS NOT THE SAME GAME AS "RED ROVER"?  "CRACK THE WHIP", "OCTOPUS TAG", OR "FORCING THE CITY GAT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LECULE GIVES BLOOD ITS RED CO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HOW MANY SEASONS WAS "THE RED SKELTON SHOW" ON THE AIR?  10, 15, OR 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XAS  TECH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LLEGE'S SPORTS TEAMS ARE KNOWN AS THE RED RAI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6368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A  BA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AMERICAN RED CRO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RED SLOTS ARE THERE ON A ROULETTE WHE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THE LONGEST COASTLINE ON THE RED S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THE CONNECTION BETWEEN THE REDSHIFTS OF GALAXIES AND THEIR DIST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RED BADGE OF COURAG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HUNT FOR RED OCTOB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FOLLOWING IS NOT THE SAME GAME AS "RED ROVER"?  "CRACK THE WHIP", "OCTOPUS TAG", OR "FORCING THE CITY GAT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HOW MANY SEASONS WAS "THE RED SKELTON SHOW" ON THE AIR?  10, 15, OR 2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3T11:26:30Z</dcterms:created>
  <dc:creator>Jennifer Budzinski</dc:creator>
  <dc:description/>
  <dc:language>en-US</dc:language>
  <cp:lastModifiedBy>Erich Friedman</cp:lastModifiedBy>
  <dcterms:modified xsi:type="dcterms:W3CDTF">2020-08-30T11:56:57Z</dcterms:modified>
  <cp:revision>281</cp:revision>
  <dc:subject/>
  <dc:title>Slide 1</dc:title>
</cp:coreProperties>
</file>