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B9A1-37D4-48C0-A8E1-BB4A117C8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A914-B189-47ED-9601-92BB4B95A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49F3-9223-4798-AF95-DEDC4C5A4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8A04-64A3-4003-AC96-F522858A4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5BCD-D82D-472E-BF2C-97AB075A5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C7B1-8388-4E80-B35E-BB233FC12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AC21-A07B-400C-A5C5-ADC9F46AE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10EC-851E-401B-920D-675F52E79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7B1F-BAD0-4917-8E26-83A09213C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4A4C-950B-47E4-A1D8-A8C3D365B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470B-7941-4E3E-85E1-8FB4CA3DD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1A13A-702E-4D3C-97B9-774586093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31F9-B83B-4055-A6F0-0A860F960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FF08-F68A-4B63-8FDB-7FEBDF87A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F9BB-10A3-4CFF-9E5E-46A983DD6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29C2-237B-4654-A104-D39567DD7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002C-7666-4631-A136-ACF76300F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7591-DBF7-4AD6-83A3-A6B1D8A66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B0C6-02D6-4BC3-81EF-668C2997D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257C-1950-4BB0-BA98-C30C1774B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C222-E5E2-466D-AD52-96A92A197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ABA6-DBF6-4F4C-9B73-F6E22C5F2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7AB4-B566-4A0E-9D50-277D7F9AB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LLEGE'S SPORTS TEAMS ARE KNOWN AS THE RED RAID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AMERICAN RED CRO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MOGLOB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LECULE GIVES BLOOD ITS RED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RED SLOTS ARE THERE ON A ROULETTE WHE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072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UDI  ARA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LONGEST COASTLINE ON THE RED S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WIN  HUB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THE CONNECTION BETWEEN THE REDSHIFTS OF GALAXIES AND THEIR DIST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C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RED BADGE OF COURA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CL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HUNT FOR RED OCTOB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CK  THE  W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FOLLOWING IS NOT THE SAME GAME AS "RED ROVER"?  "CRACK THE WHIP", "OCTOPUS TAG", OR "FORCING THE CITY GAT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LECULE GIVES BLOOD ITS RED CO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HOW MANY SEASONS WAS "THE RED SKELTON SHOW" ON THE AIR?  10, 15, OR 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XAS  TECH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LLEGE'S SPORTS TEAMS ARE KNOWN AS THE RED RAI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6368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A  BA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AMERICAN RED CRO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RED SLOTS ARE THERE ON A ROULETTE WHE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THE LONGEST COASTLINE ON THE RED S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THE CONNECTION BETWEEN THE REDSHIFTS OF GALAXIES AND THEIR DIST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RED BADGE OF COURAG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HUNT FOR RED OCTOB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FOLLOWING IS NOT THE SAME GAME AS "RED ROVER"?  "CRACK THE WHIP", "OCTOPUS TAG", OR "FORCING THE CITY GAT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HOW MANY SEASONS WAS "THE RED SKELTON SHOW" ON THE AIR?  10, 15, OR 2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3T11:26:30Z</dcterms:created>
  <dc:creator>Jennifer Budzinski</dc:creator>
  <dc:description/>
  <dc:language>en-US</dc:language>
  <cp:lastModifiedBy>Erich Friedman</cp:lastModifiedBy>
  <dcterms:modified xsi:type="dcterms:W3CDTF">2020-08-30T11:56:57Z</dcterms:modified>
  <cp:revision>281</cp:revision>
  <dc:subject/>
  <dc:title>Slide 1</dc:title>
</cp:coreProperties>
</file>