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E4F4-D317-4D3C-9389-B12A37381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15ED-4584-4085-9306-846E58D1A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DD7C-CB4F-44F0-B63B-A05D94ED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8B13-5BF1-4DB1-A9C6-6B84F0525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984A-F727-41C2-AEB4-834CED58A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C7A9-15F6-4768-84D8-CF4EE69C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912B-5FDB-4801-AE08-70F23094C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ABDB-ECEB-4169-9EC9-373D483E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460F-38D2-45B9-B1A7-66A9AF4C4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A93B-B736-4589-8F96-3D098BC1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2A12-2649-4FBF-A38B-0BD89CE24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AA50-D0FF-4B3A-84E1-7853CDC3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1BDC-A9ED-4D6C-9325-5B6A0A393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F747-436E-400D-88A2-43D58653D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234F-0711-431E-BEF8-C71539B5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7A84-9CBD-44DA-B889-9498B5B94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08B3-28B8-4434-B103-934342EFE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BFE0-EC69-4AC1-AA47-DEA03A52A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0156-4681-4DFD-9603-F4F163E0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56A0-9412-4FEE-B6C9-8BAB7E8A3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1276-62B0-4196-B6D1-804CAD84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4162-9760-41E5-A754-D548F83D4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2C9C-8B73-4611-8849-9BF957223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LEGE'S SPORTS TEAMS ARE KNOWN AS THE RED RAI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MOGLO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ECULE GIVES BLOOD ITS RED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D SLOTS ARE THERE ON A ROULETTE WHE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072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UDI  ARA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COASTLINE ON THE RED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IN  HUB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CONNECTION BETWEEN THE REDSHIFTS OF GALAXIES AND THEIR D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RED BADGE OF COUR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L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UNT FOR RED OCTO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CK  THE  W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IS NOT THE SAME GAME AS "RED ROVER"?  "CRACK THE WHIP", "OCTOPUS TAG", OR "FORCING THE CITY GA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ECULE GIVES BLOOD ITS RED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SEASONS WAS "THE RED SKELTON SHOW" ON THE AIR?  10, 15, OR 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  TECH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LEGE'S SPORTS TEAMS ARE KNOWN AS THE RED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636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A  B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D SLOTS ARE THERE ON A ROULETTE WH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COASTLINE ON THE RED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CONNECTION BETWEEN THE REDSHIFTS OF GALAXIES AND THEIR DIST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RED BADGE OF COUR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UNT FOR RED OCTO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IS NOT THE SAME GAME AS "RED ROVER"?  "CRACK THE WHIP", "OCTOPUS TAG", OR "FORCING THE CITY GA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SEASONS WAS "THE RED SKELTON SHOW" ON THE AIR?  10, 15, OR 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1:26:30Z</dcterms:created>
  <dc:creator>Jennifer Budzinski</dc:creator>
  <dc:description/>
  <dc:language>en-US</dc:language>
  <cp:lastModifiedBy>Erich Friedman</cp:lastModifiedBy>
  <dcterms:modified xsi:type="dcterms:W3CDTF">2020-08-30T11:56:57Z</dcterms:modified>
  <cp:revision>281</cp:revision>
  <dc:subject/>
  <dc:title>Slide 1</dc:title>
</cp:coreProperties>
</file>