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B996-03CF-48B6-AA11-E8AEAA8B8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FC0A-A95E-49A0-88BE-9377A37B7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9D43-077C-4AEE-B309-AA0EC7288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61F3-A727-4D75-9F9E-50515E209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D25C-FFC2-40C4-B877-99B7403F1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9E2B-FDED-4BC6-8B6F-41900D19C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E50D-84C6-4472-8C63-E665F711A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BB2F-7E4B-4D09-AD90-2E6678C39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E8DA-2711-471E-BE82-220714D96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799B-F7B8-4C60-B201-603ECBADE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24DD-98DD-4FA2-85D4-7A41D8D84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09C1-311D-4955-AD73-B390DA40F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6FE8-70B2-4E9D-B5CB-19A9E2649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6F20-4563-46C6-98D2-6EBBE9D9F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2254-DA06-46E2-ADA9-22A395038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6318-034C-48BD-8CC8-A8DFFCC46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4DE7-0C2B-4A99-9B07-AF43DBFF5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3F97-3BC4-43BB-A0A7-C4810AC1F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0069A-6587-4088-82A8-CAD8F2802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A7CF-CB7D-4033-99FA-690FA289C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1B9F7-E30B-421D-ABF2-BC9802555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B73E-C201-4FF3-A7BC-8DC9C9532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0347-8EBB-449A-B3C1-7482D9AC7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520"/>
            <a:ext cx="5943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NAME FOR EGG WH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1409760" y="76212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LTER WHITE WAS THE MAIN CHARACTER IN WHAT TV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NOW WHITE WAS DISNEY'S FIRST PRINC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LAYER WITH THE WHITE PIECES ALWAYS MOVES FIRST IN WHAT BOARD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RITISH TOWN WILL YOU FIND THE FAMOUS "WHITE CLIFF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AIR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THE ROCK SONG "WHITE RABBIT" ABOUT ALICE IN WONDER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INAL  L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AR, A WHITE FLAG REPRESENTS TRUCE    OR SURRENDER.  WHAT DOES A WHITE FLAG REPRESENT IN NA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ELINE  KA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066680" y="774720"/>
            <a:ext cx="7010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C ACTRESS PLAYED MRS. WHITE IN THE FILM "CLUE", BASED ON THE BOARD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ID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ITE WEDD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NOW WHITE WAS DISNEY'S FIRST PRINC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228600" y="685800"/>
            <a:ext cx="4876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YIN /   YANG SYMBOL,     DOES WHITE REPRESENT THE YIN OR YA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download.png"/>
          <p:cNvPicPr/>
          <p:nvPr/>
        </p:nvPicPr>
        <p:blipFill>
          <a:blip r:embed="rId1"/>
          <a:stretch/>
        </p:blipFill>
        <p:spPr>
          <a:xfrm>
            <a:off x="5562720" y="10666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U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NAME FOR EGG WH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ING  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371600" y="762120"/>
            <a:ext cx="6400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LTER WHITE WAS THE MAIN CHARACTER IN WHAT TV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LAYER WITH THE WHITE PIECES ALWAYS MOVES FIRST IN WHAT BOARD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RITISH TOWN WILL YOU FIND THE FAMOUS "WHITE CLIFF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THE ROCK SONG "WHITE RABBIT" ABOUT ALICE IN WONDER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AR, A WHITE FLAG REPRESENTS TRUCE    OR SURRENDER.  WHAT DOES A WHITE FLAG REPRESENT IN NAS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C ACTRESS PLAYED MRS. WHITE IN THE FILM "CLUE", BASED ON THE BOARD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ITE WEDD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4800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YIN /   YANG SYMBOL,     DOES WHITE REPRESENT THE YIN OR YA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download.png"/>
          <p:cNvPicPr/>
          <p:nvPr/>
        </p:nvPicPr>
        <p:blipFill>
          <a:blip r:embed="rId1"/>
          <a:stretch/>
        </p:blipFill>
        <p:spPr>
          <a:xfrm>
            <a:off x="5562720" y="1295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30T11:59:19Z</dcterms:modified>
  <cp:revision>332</cp:revision>
  <dc:subject/>
  <dc:title>Slide 1</dc:title>
</cp:coreProperties>
</file>