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060C-C4A0-42CC-885E-B82499302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278E-221F-41F2-8E34-E1B43E08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25FA-D510-4C68-BD75-2E1EE7B4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BF89-F22C-4FFD-93A2-5B1574251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79FD-E20F-41AC-B702-9ED288A7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7841-5A15-492E-A98B-93EB8423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6AC7-494C-4843-BA46-93268C16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8EA1-D45D-43ED-B032-587CC6B71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E1B9-EFAA-4FDD-9272-BE3634AA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297B-F5DB-4FE0-AD5F-9587E4A2F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1A69-1DE8-4C3A-95A9-0DB30B4F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51F7-42D5-45FF-9DFF-2CD63D67A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0439-ADAF-4E8E-B4C2-2B29E1BF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681D-A97D-4A10-A970-2AC0A5AC5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FD66-827D-40F0-97E5-E40588E0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C4C4-D73E-4705-BD3B-243B82192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A2AF-8D73-4967-9120-0E590E8B4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51CB-F185-429A-8C09-28CE1577C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6D0B-0B68-4223-BCBC-5DB1F31C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C8A8-1AAB-4A36-A474-366F23AB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CE52-3898-4FD0-A765-19E4C98E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0428-5B09-4F3D-9A3A-C5AD988FE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AD99-C3C2-438C-8ACB-94C05348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5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NAME FOR EGG WH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LTER WHITE WAS THE MAIN CHARACTER IN WHAT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NOW WHITE WAS DISNEY'S FIRST PRINC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LAYER WITH THE WHITE PIECES ALWAYS MOVES FIRST IN WHAT BOARD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TOWN WILL YOU FIND THE FAMOUS "WHITE CLIFF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AIR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THE ROCK SONG "WHITE RABBIT" ABOUT ALICE IN WONDER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NAL  L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AR, A WHITE FLAG REPRESENTS TRUCE    OR SURRENDER.  WHAT DOES A WHITE FLAG REPRESENT IN N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ELINE  KA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66680" y="774720"/>
            <a:ext cx="701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PLAYED MRS. WHITE IN THE FILM "CLUE", BASED ON THE BOARD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ITE WEDD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NOW WHITE WAS DISNEY'S FIRST PRIN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228600" y="685800"/>
            <a:ext cx="4876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YIN /   YANG SYMBOL,     DOES WHITE REPRESENT THE YIN OR YA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download.png"/>
          <p:cNvPicPr/>
          <p:nvPr/>
        </p:nvPicPr>
        <p:blipFill>
          <a:blip r:embed="rId1"/>
          <a:stretch/>
        </p:blipFill>
        <p:spPr>
          <a:xfrm>
            <a:off x="5562720" y="10666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NAME FOR EGG WH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ING  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LTER WHITE WAS THE MAIN CHARACTER IN WHAT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LAYER WITH THE WHITE PIECES ALWAYS MOVES FIRST IN WHAT BOARD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TOWN WILL YOU FIND THE FAMOUS "WHITE CLIFF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THE ROCK SONG "WHITE RABBIT" ABOUT ALICE IN WONDER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AR, A WHITE FLAG REPRESENTS TRUCE    OR SURRENDER.  WHAT DOES A WHITE FLAG REPRESENT IN N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PLAYED MRS. WHITE IN THE FILM "CLUE", BASED ON THE BOARD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ITE WEDD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4800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YIN /   YANG SYMBOL,     DOES WHITE REPRESENT THE YIN OR YA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download.png"/>
          <p:cNvPicPr/>
          <p:nvPr/>
        </p:nvPicPr>
        <p:blipFill>
          <a:blip r:embed="rId1"/>
          <a:stretch/>
        </p:blipFill>
        <p:spPr>
          <a:xfrm>
            <a:off x="5562720" y="1295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30T11:59:19Z</dcterms:modified>
  <cp:revision>332</cp:revision>
  <dc:subject/>
  <dc:title>Slide 1</dc:title>
</cp:coreProperties>
</file>