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FA76-A164-4DAE-9340-C3A37F376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33D3-8A84-4DB4-A62E-14B608DBC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0937-4EA7-41B5-987B-CE4D26877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D9B6-0961-49AA-823F-78FE16B05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91E8-580E-4730-AD89-8DF82242B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1509-AB1D-487E-8475-79DC1516E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0021-6E3B-4B54-A246-B9E53797F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5E29-ED43-4416-A759-B05096429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C159-B622-4D3C-ABC9-F50195A86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5BDD-88DA-4C7D-858A-066149D18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5478-039D-4AAC-9D92-D72F1F49F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D684-C260-4097-8BAF-A8E4A41CB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2294-C318-490A-B8D3-63647968C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CDE2-A0D9-491C-A2A1-896CEAFD3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EC51-8EE2-4507-9124-0AD0CB315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1E84-0971-4E6E-8C5A-11ECB78BB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4DD8-8969-497E-B2BC-2B378D6E7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43AA-B0AF-43C1-B47F-FCDB41CF8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AD08-3527-4FA1-B10E-F5EF9B433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283B-E8FC-4D98-8C9A-5D9B71363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7186-B5BF-48C4-9B25-81299DAF5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1E41-0ABE-4F59-ACFC-F37591ACA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7A61-AABD-4C3B-B0B3-C1B895B8C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520"/>
            <a:ext cx="5943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NAME FOR EGG WHI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1409760" y="76212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LTER WHITE WAS THE MAIN CHARACTER IN WHAT TV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NOW WHITE WAS DISNEY'S FIRST PRINC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LAYER WITH THE WHITE PIECES ALWAYS MOVES FIRST IN WHAT BOARD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RITISH TOWN WILL YOU FIND THE FAMOUS "WHITE CLIFF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ERSON  AIR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THE ROCK SONG "WHITE RABBIT" ABOUT ALICE IN WONDER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INAL  L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AR, A WHITE FLAG REPRESENTS TRUCE    OR SURRENDER.  WHAT DOES A WHITE FLAG REPRESENT IN NAS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ELINE  KA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066680" y="774720"/>
            <a:ext cx="70106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C ACTRESS PLAYED MRS. WHITE IN THE FILM "CLUE", BASED ON THE BOARD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ID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HITE WEDD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NOW WHITE WAS DISNEY'S FIRST PRINC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228600" y="685800"/>
            <a:ext cx="4876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YIN /   YANG SYMBOL,     DOES WHITE REPRESENT THE YIN OR YA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download.png"/>
          <p:cNvPicPr/>
          <p:nvPr/>
        </p:nvPicPr>
        <p:blipFill>
          <a:blip r:embed="rId1"/>
          <a:stretch/>
        </p:blipFill>
        <p:spPr>
          <a:xfrm>
            <a:off x="5562720" y="10666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NAME FOR EGG WH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KING  B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371600" y="762120"/>
            <a:ext cx="6400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LTER WHITE WAS THE MAIN CHARACTER IN WHAT TV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LAYER WITH THE WHITE PIECES ALWAYS MOVES FIRST IN WHAT BOARD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RITISH TOWN WILL YOU FIND THE FAMOUS "WHITE CLIFF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THE ROCK SONG "WHITE RABBIT" ABOUT ALICE IN WONDER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AR, A WHITE FLAG REPRESENTS TRUCE    OR SURRENDER.  WHAT DOES A WHITE FLAG REPRESENT IN NAS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C ACTRESS PLAYED MRS. WHITE IN THE FILM "CLUE", BASED ON THE BOARD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HITE WEDD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04560" y="762120"/>
            <a:ext cx="4800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YIN /   YANG SYMBOL,     DOES WHITE REPRESENT THE YIN OR YA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download.png"/>
          <p:cNvPicPr/>
          <p:nvPr/>
        </p:nvPicPr>
        <p:blipFill>
          <a:blip r:embed="rId1"/>
          <a:stretch/>
        </p:blipFill>
        <p:spPr>
          <a:xfrm>
            <a:off x="5562720" y="1295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30T11:59:19Z</dcterms:modified>
  <cp:revision>332</cp:revision>
  <dc:subject/>
  <dc:title>Slide 1</dc:title>
</cp:coreProperties>
</file>