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1EA6-C7D6-49C2-B2CA-443F7DFF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4943-8F65-45D5-A61E-E0B81D1B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3A4B-0416-4737-8905-2ACBF7D1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314E-FE98-4F9A-ABCB-BBAB63D34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DF23-6C18-4EAA-92F7-22A9B8EE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DEE-0C0E-47FE-BFCB-9F5E7EB88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D834-8509-412C-BC88-945835E94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1233-5D35-46AA-90DA-707B8EFEE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91D6-5516-488C-BE67-B48281BF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1174-E87D-4F79-B471-D97CB6CB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ADF6-3E08-4F6B-9855-A80918454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A185-4116-4F05-A2E4-E8103CAB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E218-ECC6-47CA-920C-AAF575FC5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4155-8613-468A-A447-8B523010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0792-AD5A-41C3-9AF1-7DC318218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5F91-38A4-4B92-B0AF-09A7C0304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2521-64C7-4976-A9CC-CD8B8B33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338B-2CBF-495F-B307-3B32799A6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48B4-5F76-4FC1-BDAF-A7278F639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4B30-2146-48C4-86B1-AC1207A9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102B-9735-415B-9876-6566C44F1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EF90-41A0-4E65-A760-A36F9E35F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E750-DD77-4A2F-990F-923B18F33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  (130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SGI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ACK FOREST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T-COM "BLACK-ISH" APPEARS ON WHAT TV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NG  FU  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 WAS THE VOICE FOR THE TITLE CHARACTER "PO" IN 3 ANIMATED FILMS  IN WHAT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BLACK PLAGUE PEAK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FRIDAY IS THE DAY AFTER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PULAR IDIOM, WHAT OBJECT DOES THE POT CALL "BL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"BLACK BEA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EMALE MEMBER OF THE BLACK EYED PE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IS TYPICALLY FOUND ON THE UNDERSIDE OF A BLACK WIDOW SPI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ALL BLACKS" ARE NEW ZEALAND'S NATIONAL TEAM FOR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48:12Z</dcterms:created>
  <dc:creator>Jennifer Budzinski</dc:creator>
  <dc:description/>
  <dc:language>en-US</dc:language>
  <cp:lastModifiedBy>Erich Friedman</cp:lastModifiedBy>
  <dcterms:modified xsi:type="dcterms:W3CDTF">2020-08-30T12:02:53Z</dcterms:modified>
  <cp:revision>327</cp:revision>
  <dc:subject/>
  <dc:title>Slide 1</dc:title>
</cp:coreProperties>
</file>