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18D7-10FE-4E71-AED2-8A40E3524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553A-CEC0-4CFC-B0BB-DFF745CC8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1CFF-690B-439C-81F8-184435B51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41EE-6AC4-4429-ADED-89C442FF9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0240-AF6F-4A2F-868E-720CF9D62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2035-DE06-450D-89CF-27131B534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8307-8F98-4610-9C06-8670BECE9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6E8D-E386-4D5B-8094-19245A816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977E-523B-4F0D-B6F4-605B68151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3569-6A45-48CE-A574-390614B09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A9B3-810C-464A-8A54-B04C902BC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3EB0-3A65-4A40-8302-E81BDDC04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710E-05D4-4EE2-9E43-15E9560F3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A46D-36C2-424F-942F-4D5EA30D3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A435-07C1-4D00-9727-D193A9FB7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FC61-5C64-43EF-A8DF-A67C4CC81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0E7C-98D4-4F27-85F4-AA58EAD9F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A317-4FE2-4723-AE1E-067AA9DEF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4D32-E08B-422B-8CEB-8BD821694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FB57-B2F6-4A98-BCA5-1A9751DE9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EB84-7EE7-4E57-86CA-0DB9FA1F8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6B68-D888-4AF9-B5CC-0080C4B32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DFEA-6F1A-4694-974D-CF2A5326B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IT-COM "BLACK-ISH" APPEARS ON WHAT TV NETW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CK BLACK WAS THE VOICE FOR THE TITLE CHARACTER "PO" IN 3 ANIMATED FILMS IN WHAT FRANCHI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38120" y="762120"/>
            <a:ext cx="8267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LACK FOREST IS LOCATED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CENTURY  (1300'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HAT CENTURY DID THE BLACK PLAGUE PEAK IN EUR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ANKSGI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ACK FRIDAY IS THE DAY AFTER WHAT HOLI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POPULAR IDIOM, WHAT OBJECT DOES THE POT CALL "BL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NIMAL IS "BLACK BEAU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FEMALE MEMBER OF THE BLACK EYED PE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RG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PE IS TYPICALLY FOUND ON THE UNDERSIDE OF A BLACK WIDOW SPI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LACK FOREST IS LOCATED IN WHAT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G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ALL BLACKS" ARE NEW ZEALAND'S NATIONAL TEAM FOR WHAT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IT-COM "BLACK-ISH" APPEARS ON WHAT TV NET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NG  FU  P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CK BLACK WAS THE VOICE FOR THE TITLE CHARACTER "PO" IN 3 ANIMATED FILMS  IN WHAT FRANCHI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HAT CENTURY DID THE BLACK PLAGUE PEAK IN EUR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ACK FRIDAY IS THE DAY AFTER WHAT HOLI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POPULAR IDIOM, WHAT OBJECT DOES THE POT CALL "BL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57120" y="723960"/>
            <a:ext cx="6629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NIMAL IS "BLACK BEAU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FEMALE MEMBER OF THE BLACK EYED PE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PE IS TYPICALLY FOUND ON THE UNDERSIDE OF A BLACK WIDOW SPI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ALL BLACKS" ARE NEW ZEALAND'S NATIONAL TEAM FOR WHAT S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48:12Z</dcterms:created>
  <dc:creator>Jennifer Budzinski</dc:creator>
  <dc:description/>
  <dc:language>en-US</dc:language>
  <cp:lastModifiedBy>Erich Friedman</cp:lastModifiedBy>
  <dcterms:modified xsi:type="dcterms:W3CDTF">2020-08-30T12:02:53Z</dcterms:modified>
  <cp:revision>327</cp:revision>
  <dc:subject/>
  <dc:title>Slide 1</dc:title>
</cp:coreProperties>
</file>