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FA3D-C595-4C1B-A423-92235E361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5E19-A068-4670-8496-14D5F4376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B1AD-B170-46CE-8FDB-1DF486FE9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3920-C61D-4A34-A2FA-4D3D6DC3C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DB4E-C616-442D-93D1-606A65235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C593-CA9A-4B94-8592-576AA4FD9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BE20-0302-43D9-9515-E4BBEBE95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617B-0E0F-47E9-B1DC-98F842992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079F-FCF8-4EDD-9C41-73559892D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FA85-A118-4C49-A151-D93F4507F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C34E-6777-4C39-987C-CC2B4EA8C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6025-FF40-4778-8F3B-D70112661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DB08-976D-4CEB-8389-E9A71C655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7FD4-8B47-4F40-A729-146A14CEA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A143-EA6F-403F-95F8-FCC92B5C8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A16E-FDD1-40B9-BD2F-3D72452DC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FB62-A974-4CF5-92A2-E1BFDE71A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7313-F200-4D5B-BCF4-91A9B988B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86D3-7D58-4BF8-83BE-FD0FE2EC6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0ED4-B1CC-4C3F-AAC7-48B8D81B8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01C7-434D-4051-8AA4-AD3BBA009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CDED-7850-4971-8609-C9CC1C11A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B437-F352-4FFC-8D80-C8D84F300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IT-COM "BLACK-ISH" APPEARS ON WHAT TV NETW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CK BLACK WAS THE VOICE FOR THE TITLE CHARACTER "PO" IN 3 ANIMATED FILMS IN WHAT FRANCHI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38120" y="762120"/>
            <a:ext cx="8267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LACK FOREST IS LOCATED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ENTURY  (1300'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HAT CENTURY DID THE BLACK PLAGUE PEAK IN EU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ANKSGI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ACK FRIDAY IS THE DAY AFTER WHAT HOL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OPULAR IDIOM, WHAT OBJECT DOES THE POT CALL "BL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NIMAL IS "BLACK BEAU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FEMALE MEMBER OF THE BLACK EYED PE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R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PE IS TYPICALLY FOUND ON THE UNDERSIDE OF A BLACK WIDOW SPI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LACK FOREST IS LOCATED IN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G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ALL BLACKS" ARE NEW ZEALAND'S NATIONAL TEAM FOR WHAT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IT-COM "BLACK-ISH" APPEARS ON WHAT TV NET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NG  FU  P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CK BLACK WAS THE VOICE FOR THE TITLE CHARACTER "PO" IN 3 ANIMATED FILMS  IN WHAT FRANCHI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HAT CENTURY DID THE BLACK PLAGUE PEAK IN EUR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ACK FRIDAY IS THE DAY AFTER WHAT HOL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OPULAR IDIOM, WHAT OBJECT DOES THE POT CALL "BL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57120" y="723960"/>
            <a:ext cx="6629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NIMAL IS "BLACK BEAU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FEMALE MEMBER OF THE BLACK EYED PE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PE IS TYPICALLY FOUND ON THE UNDERSIDE OF A BLACK WIDOW SPI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ALL BLACKS" ARE NEW ZEALAND'S NATIONAL TEAM FOR WHAT S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48:12Z</dcterms:created>
  <dc:creator>Jennifer Budzinski</dc:creator>
  <dc:description/>
  <dc:language>en-US</dc:language>
  <cp:lastModifiedBy>Erich Friedman</cp:lastModifiedBy>
  <dcterms:modified xsi:type="dcterms:W3CDTF">2020-08-30T12:02:53Z</dcterms:modified>
  <cp:revision>327</cp:revision>
  <dc:subject/>
  <dc:title>Slide 1</dc:title>
</cp:coreProperties>
</file>