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F5AB-E25A-47B3-A02F-8C1C1B555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2244-F04F-485C-9A45-032DE87AA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22C7-B9BD-4CED-B4BD-001CED8D8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DC0C-76B5-4B18-BF42-F4755DDD8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EC3B-7283-47FA-BC20-23CE05C47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E265-AFAE-4132-A6A2-2BE9AD69E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A463-7D59-4747-8F9B-2E8832FDB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ACC7-14AA-4CB8-8617-77821C0F8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B855-703C-4216-B4EA-3B6615041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662A-A65F-43C3-9B6F-C41603B02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2E1A-5C97-4991-85D6-FE50AC83A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88D6-8AA9-431A-B46F-049262985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1035-D8D4-4A67-95CF-CC82F7B93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0DD0-BB44-4018-96F2-5E56711A2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7A75-F172-4A05-875C-6D46D6BE0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908D-F645-4181-AC24-330A2901D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5896-68B9-4CBD-8E61-5A05858DF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DF0A-3624-4F77-91F1-80F83809F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52ED-427C-4546-B237-46D718DF4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2D14-C851-4BA9-ABC3-2E9007499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D845-B26D-48CE-A62C-221C0E463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BED5-C5FE-4A7B-A069-1A54C4974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E72F-F364-4728-B5A7-42F3C30BC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TRUE BLUE" WAS THE WORLD'S TOP-SELLING ALBUM IN 198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8580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STATE IS KNOWN AS THE BLUEGRASS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UE NETWORK" WAS A RADIO NETWORK OWNED BY RCA.  WHICH OF THE BIG THREE TV STATIONS DID IT BEC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BLUE" WAS VOTED BY NPR IN 2017 AS THE GREATEST ALBUM OF ALL TIME BY A FEMALE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BOCH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PRODUCER DEVELOPED "HILL STREET BLUES" AND "NYPD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8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POLIS  C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'S MASCOT IS NAMED "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PUTS OUT A "BLUE BOOK" THAT IS THE MOST TRUSTED RESOURCE FOR VEHICLE VAL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LUE CHIP STOCKS ARE CONTAINED IN THE DOW JONES INDUSTRIAL AVER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'S SPORTS TEAMS ARE THE BLUE DEV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UE NETWORK" WAS A RADIO NETWORK OWNED BY RCA.  WHICH OF THE BIG THREE TV STATIONS DID IT BECO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762120" y="434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NANDOAH  &amp;  GREAT  SMOKEY 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LUE RIDGE PARKWAY CONNECTS WHICH TWO U.S. NATIONAL PA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TRUE BLUE" WAS THE WORLD'S TOP-SELLING ALBUM IN 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STATE IS KNOWN AS THE BLUEGRASS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BLUE" WAS VOTED BY NPR IN 2017 AS THE GREATEST ALBUM OF ALL TIME BY A FEMALE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PRODUCER DEVELOPED "HILL STREET BLUES" AND "NYPD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'S MASCOT IS NAMED "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PUTS OUT A "BLUE BOOK" THAT IS THE MOST TRUSTED RESOURCE FOR VEHICLE VAL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LUE CHIP STOCKS ARE CONTAINED IN THE DOW JONES INDUSTRIAL AVER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'S SPORTS TEAMS ARE THE BLUE DEVI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LUE RIDGE PARKWAY CONNECTS WHICH TWO U.S. NATIONAL PA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2T14:41:28Z</dcterms:created>
  <dc:creator>Jennifer Budzinski</dc:creator>
  <dc:description/>
  <dc:language>en-US</dc:language>
  <cp:lastModifiedBy>Erich Friedman</cp:lastModifiedBy>
  <dcterms:modified xsi:type="dcterms:W3CDTF">2020-08-30T12:03:31Z</dcterms:modified>
  <cp:revision>349</cp:revision>
  <dc:subject/>
  <dc:title>Slide 1</dc:title>
</cp:coreProperties>
</file>