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7AF1-325E-4DEB-A175-59B8480DA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AD8D-5B9F-40CB-89ED-8985D434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6E01-4D30-4ABC-9AF4-820BBB0FF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1086-73C6-4487-9738-90F8BE59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49E0-7916-4BC8-BDD4-A20F14E4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CD0D-CE43-45AE-BD0B-8728625B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45CD-E39E-47C3-BFAE-194A6607A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6135-407C-43FD-AA2B-6CFF2D06F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11D7-6B7F-443E-BBE8-B814C489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191D-8246-4DEE-BF23-458652BAD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078-CC2E-4DD3-A4AF-5ABF23D81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306C-DBA5-4420-A96F-951E82587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3180-2735-4251-8049-8564CB65B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CB4-B60B-470F-85C5-A52EAFBE5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0F0D-9CF4-40D4-BF8C-314B2E134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BFB3-4F0D-485A-9803-E8DCCB735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761E-523D-4F84-A9AF-876D7D487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2F6B-0987-4F8F-9DD9-1F70E1B6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DAC3-5EA0-4CB1-B9C5-5018151CD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98EC-9B41-476F-A72E-C5DFD269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16A-27CA-4342-BBBC-586BAAEF2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D7BA-926E-44F5-B88B-DD5F3A520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F955-5EB4-4725-98A2-D2206BA3A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RUE BLUE" WAS THE WORLD'S TOP-SELLING ALBUM IN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IS KNOWN AS THE BLUEGRASS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NETWORK" WAS A RADIO NETWORK OWNED BY RCA.  WHICH OF THE BIG THREE TV STATIONS DID IT BEC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BLUE" WAS VOTED BY NPR IN 2017 AS THE GREATEST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BOCH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RODUCER DEVELOPED "HILL STREET BLUES" AND "NYPD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8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  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MASCOT IS NAMED "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TS OUT A "BLUE BOOK" THAT IS THE MOST TRUSTED RESOURCE FOR VEHICLE VAL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LUE CHIP STOCKS ARE CONTAINED IN THE DOW JONES INDUSTRIAL AVE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'S SPORTS TEAMS ARE THE BLUE DEV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NETWORK" WAS A RADIO NETWORK OWNED BY RCA.  WHICH OF THE BIG THREE TV STATIONS DID IT BEC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762120" y="43434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NANDOAH  &amp;  GREAT  SMOKEY 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IDGE PARKWAY CONNECTS WHICH TWO U.S.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TRUE BLUE" WAS THE WORLD'S TOP-SELLING ALBUM IN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IS KNOWN AS THE BLUEGRASS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BLUE" WAS VOTED BY NPR IN 2017 AS THE GREATEST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RODUCER DEVELOPED "HILL STREET BLUES" AND "NYPD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MASCOT IS NAMED "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PUTS OUT A "BLUE BOOK" THAT IS THE MOST TRUSTED RESOURCE FOR VEHICLE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LUE CHIP STOCKS ARE CONTAINED IN THE DOW JONES INDUSTRIAL AVE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'S SPORTS TEAMS ARE THE BLUE DEVI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LUE RIDGE PARKWAY CONNECTS WHICH TWO U.S.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2T14:41:28Z</dcterms:created>
  <dc:creator>Jennifer Budzinski</dc:creator>
  <dc:description/>
  <dc:language>en-US</dc:language>
  <cp:lastModifiedBy>Erich Friedman</cp:lastModifiedBy>
  <dcterms:modified xsi:type="dcterms:W3CDTF">2020-08-30T12:03:31Z</dcterms:modified>
  <cp:revision>349</cp:revision>
  <dc:subject/>
  <dc:title>Slide 1</dc:title>
</cp:coreProperties>
</file>