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654C-3E68-4EDE-B8D6-EF6044436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BACF-DFD2-4353-A8B9-F3DA9C968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5E5-7F62-4137-B80D-C7983A98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BE87-F008-4F98-9B36-471E77821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0308-6DC6-4944-95A4-0D60BCC87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CFD3-8207-4F27-893A-D90CF6F2F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9F7A-2D91-4B7E-9D70-8BCDD047E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0F54-4B5F-4E1C-8E36-A76C15936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F1E5-D58A-4751-974B-D51D5D12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88F9-760B-4FB6-B061-71D610A45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6C3-E712-420E-A89C-D2D606B65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BAD9-DA33-46A3-8B95-48EEE3D56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D117-1CB3-43FC-8127-9D0370FE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4415-4A59-4398-AA3B-6180D3294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67A2-DFC2-430C-9FB2-1BE2F899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AAE2-52A4-45BA-B7AB-19713BFC0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B73D-B52C-404E-BA47-6DD22C64E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AA82-758C-47C0-988A-1BD1C101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1CB9-B74A-42AB-AB17-61757DC2B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CCB2-2F63-496A-AF40-D3435F27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122C-3975-46FA-8764-0FA7BDF93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072B-8C79-4CE0-9ADB-667D6AE1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8514-DA4D-4413-A7B7-79AE3CC3C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52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YELLOWISH GREEN COLO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Untitled.gif"/>
          <p:cNvPicPr/>
          <p:nvPr/>
        </p:nvPicPr>
        <p:blipFill>
          <a:blip r:embed="rId1"/>
          <a:stretch/>
        </p:blipFill>
        <p:spPr>
          <a:xfrm>
            <a:off x="2362320" y="2666880"/>
            <a:ext cx="441936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PEOPLE USE PRINTED YELLOW PAGES, OR INTERNET YELLOW P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295280" y="762120"/>
            <a:ext cx="6553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MUSICAL GROUP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 5 HIT WAS TITLED "YEL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YOMING,  MONTANA  &amp;  IDA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76240" y="7603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ANY PEOPLE DIE EVERY YEAR FROM YELLOW FEVER?  500, 5000, OR 5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942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NGT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IN ASIA THAT IS LONGER THAN THE YELLOW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TERRITO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ITY OF YELLOWKNIFE CONTAINS ALMOST HALF THE ENTIRE POPULATION OF WHAT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23960" y="762120"/>
            <a:ext cx="769608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BEATLES SANG LEAD VOCALS ON "YELLOW SUBMAR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UR  DE  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3-WEEK-LONG BICYCLE RACE DOES THE LEADER WEAR A YELLO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MUSICAL GROUP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5 HIT WAS TITLED "YEL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SKE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ICALLY, WHAT COMIC ACTOR STARRED IN THE 1950 FILM "THE YELLOW CAB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288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TRE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YELLOWISH GREEN COLO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Untitled.gif"/>
          <p:cNvPicPr/>
          <p:nvPr/>
        </p:nvPicPr>
        <p:blipFill>
          <a:blip r:embed="rId1"/>
          <a:stretch/>
        </p:blipFill>
        <p:spPr>
          <a:xfrm>
            <a:off x="2286000" y="2514600"/>
            <a:ext cx="4572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 MORE PEOPLE USE PRINTED YELLOW PAGES, OR INTERNET YELLOW P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ANY PEOPLE DIE EVERY YEAR FROM YELLOW FEVER?  500, 5000, OR 50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RIVER IN ASIA THAT IS LONGER THAN THE YELLOW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ITY OF YELLOWKNIFE CONTAINS ALMOST HALF THE ENTIRE POPULATION OF WHAT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NE OF THE BEATLES SANG LEAD VOCALS ON "YELLOW SUBMAR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3-WEEK-LONG BICYCLE RACE DOES THE LEADER WEAR A YELLO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ICALLY, WHAT COMIC ACTOR STARRED IN THE 1950 FILM "THE YELLOW CAB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23:03:12Z</dcterms:created>
  <dc:creator>Jennifer Budzinski</dc:creator>
  <dc:description/>
  <dc:language>en-US</dc:language>
  <cp:lastModifiedBy>Erich Friedman</cp:lastModifiedBy>
  <dcterms:modified xsi:type="dcterms:W3CDTF">2020-08-30T12:04:32Z</dcterms:modified>
  <cp:revision>356</cp:revision>
  <dc:subject/>
  <dc:title>Slide 1</dc:title>
</cp:coreProperties>
</file>