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E6FB-4D48-4F54-9C5B-505B35145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9DC9-503F-464F-A9DD-8A2116623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B733-B607-4249-8AED-51EACB9C1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12AF-B91E-4BC6-938B-CED732667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7EF7-F0CE-41EA-B2BA-82CB33E8F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9763-4F1B-47E0-BC84-E756B6C43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EE1C-6A14-4E3B-B168-6E8F2A4EF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D0FB-B233-4E08-AAF8-3503AA239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3A71-F49B-45F9-9ADE-E7F711486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5038-66F2-483D-A7C0-0A0EE13D5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9D0F-C55A-4AE5-AE27-902177D6C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BF29-5F46-45A5-BAF6-1E3E09FF1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221A-5381-40AB-8681-C82791DC7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79E6-D66E-405F-AD72-4125FF7D1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636A-6011-43DE-A699-93E1F827C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90C9-2ABC-41F4-B4C6-3D7AD91EE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907D-6303-4E0B-91FD-401B312E1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160A-86D1-4CD4-8F88-5233F2B3B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7ACE-C4B7-4665-9471-283ACC98D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49C7-AC0C-4F65-A4B6-F4056A1B4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5448-81D2-4F9C-A62A-48E422F9B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6ED6-F6C9-44E2-8367-E3E0A7E1B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C851-2D4D-42A0-A773-CCA4A8F6A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57120" y="152352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YELLOWISH GREEN COLOR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Untitled.gif"/>
          <p:cNvPicPr/>
          <p:nvPr/>
        </p:nvPicPr>
        <p:blipFill>
          <a:blip r:embed="rId1"/>
          <a:stretch/>
        </p:blipFill>
        <p:spPr>
          <a:xfrm>
            <a:off x="2362320" y="2666880"/>
            <a:ext cx="4419360" cy="22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1066680" y="762120"/>
            <a:ext cx="70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 MORE PEOPLE USE PRINTED YELLOW PAGES, OR INTERNET YELLOW PA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D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295280" y="762120"/>
            <a:ext cx="65534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MUSICAL GROUP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P 5 HIT WAS TITLED "YELL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YOMING,  MONTANA  &amp;  IDA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STATES CONTAIN PART OF YELLOWSTONE NATIONAL P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1181160" y="4876920"/>
            <a:ext cx="6781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876240" y="7603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XIMATELY HOW MANY PEOPLE DIE EVERY YEAR FROM YELLOW FEVER?  500, 5000, OR 50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942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ANGT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RIVER IN ASIA THAT IS LONGER THAN THE YELLOW RI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WEST  TERRIT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ITY OF YELLOWKNIFE CONTAINS ALMOST HALF THE ENTIRE POPULATION OF WHAT PROVINCE OF CANA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181160" y="487692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NGO  STA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723960" y="762120"/>
            <a:ext cx="76960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NE OF THE BEATLES SANG LEAD VOCALS ON "YELLOW SUBMAR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UR  DE  F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ICH 3-WEEK-LONG BICYCLE RACE DOES THE LEADER WEAR A YELLOW JERS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MUSICAL GROUP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P-5 HIT WAS TITLED "YELL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066680" y="4876920"/>
            <a:ext cx="701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  SKE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RONICALLY, WHAT COMIC ACTOR STARRED IN THE 1950 FILM "THE YELLOW CAB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10288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TRE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YELLOWISH GREEN COLOR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" descr="Untitled.gif"/>
          <p:cNvPicPr/>
          <p:nvPr/>
        </p:nvPicPr>
        <p:blipFill>
          <a:blip r:embed="rId1"/>
          <a:stretch/>
        </p:blipFill>
        <p:spPr>
          <a:xfrm>
            <a:off x="2286000" y="2514600"/>
            <a:ext cx="45720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 MORE PEOPLE USE PRINTED YELLOW PAGES, OR INTERNET YELLOW PA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STATES CONTAIN PART OF YELLOWSTONE NATIONAL PA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XIMATELY HOW MANY PEOPLE DIE EVERY YEAR FROM YELLOW FEVER?  500, 5000, OR 50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RIVER IN ASIA THAT IS LONGER THAN THE YELLOW RI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ITY OF YELLOWKNIFE CONTAINS ALMOST HALF THE ENTIRE POPULATION OF WHAT PROVINCE OF CANA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NE OF THE BEATLES SANG LEAD VOCALS ON "YELLOW SUBMAR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ICH 3-WEEK-LONG BICYCLE RACE DOES THE LEADER WEAR A YELLOW JERS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RONICALLY, WHAT COMIC ACTOR STARRED IN THE 1950 FILM "THE YELLOW CAB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7T23:03:12Z</dcterms:created>
  <dc:creator>Jennifer Budzinski</dc:creator>
  <dc:description/>
  <dc:language>en-US</dc:language>
  <cp:lastModifiedBy>Erich Friedman</cp:lastModifiedBy>
  <dcterms:modified xsi:type="dcterms:W3CDTF">2020-08-30T12:04:32Z</dcterms:modified>
  <cp:revision>356</cp:revision>
  <dc:subject/>
  <dc:title>Slide 1</dc:title>
</cp:coreProperties>
</file>