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52B5-C8B3-4388-8780-D06AD9C76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C4CE-BF10-4B9A-9F5D-82E38DEA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B0D2-1DF9-425B-8513-0A9C060F9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622B-5189-40DB-ACAE-8B87009DA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D2DF-077F-4A9C-AD4E-30E7E91B4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9377-EE1B-4589-9A7B-388D5267C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06CB-8EF2-4D2D-949C-60FE06B57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30C2-541E-42C2-8022-C800D9C0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8B9B-1727-4B44-9012-CD7FC0F34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5FA4-EAD2-4EE0-94AB-3A422A43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FD2D-46E6-43E7-82A6-A41D27B8C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2E15-88C8-4928-A0C6-91D82F19F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426D-B9DF-4214-9720-434272A8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63EB-A8C4-44B3-A1DF-B5079B237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38D5-9B89-4F6B-9C80-D66304F1B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6035-2EF8-49A0-BA19-275A66312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6189-6030-4712-81ED-91D0EA008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8E56-CA12-4B33-9130-2712BF6F1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ABC3-D84A-493B-9481-4292E10D8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F9A4-DEE4-4C9E-B818-0320D375F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9F88-7003-4BCB-A69A-DFF9E9211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3BC9-44D9-417A-8832-B7878DEF6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593A-01FC-48B2-BB3E-3FB68C349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ORS ARE MISSING FROM THESE BOOK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ME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DOUS HUX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F OF A ____ SU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MAMANDA NGOZI ADICHI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DGAR ALLAN 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L’S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O DOUK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OR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ICE WALK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OLD AND THE ____ 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OCKETT JOHNSO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LET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ATHANIEL HAWTHOR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IMPERNEL (EMMUSKA ORCZY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5420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OLEA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ET FI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F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CK LONDON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M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HEN K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 OF ____ G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. M. MONTGOMER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87692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Y /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CTURE OF DORIAN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SCAR WIL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Y SHADES OF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. L. JAM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DAH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ELLRO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YCE CAROL OAT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STEINBEC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ITA DIAMANT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OR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ICE WALK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OLD AND THE ____ CRAY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OCKETT JOHNSO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. S.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NUTM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RAH LOFT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92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ME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DOUS HUX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F OF A ____ SU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MAMANDA NGOZI ADICH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DGAR ALLAN 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L’S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O DOUK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LETT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ATHANIEL HAWTHORN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IMPERNEL (EMMUSKA ORCZY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OLEA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ET FI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FA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CK LONDON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M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HEN K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 OF ____ G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. M. MONTGOMER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CTURE OF DORIAN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SCAR WILD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Y SHADES OF ____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. L. JAM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DAHL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ELLRO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YCE CAROL OAT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O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STEINBECK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ITA DIAMANT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CH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. S. LEWI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NUTME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RAH LOFT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8:57:58Z</dcterms:created>
  <dc:creator>Jennifer Budzinski</dc:creator>
  <dc:description/>
  <dc:language>en-US</dc:language>
  <cp:lastModifiedBy>Erich Friedman</cp:lastModifiedBy>
  <dcterms:modified xsi:type="dcterms:W3CDTF">2020-08-30T12:04:58Z</dcterms:modified>
  <cp:revision>350</cp:revision>
  <dc:subject/>
  <dc:title>Slide 1</dc:title>
</cp:coreProperties>
</file>