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59AD8-84AB-455F-B9C5-3CB842BD38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E42E4-80D1-4603-BE39-476EA72FE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C5C56-BB59-4BC4-8F60-42C20770E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BB812-17B4-43FC-A981-65B31BD1E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34E84-EBD6-4667-AE9A-6450E5535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682AB-969E-4EAD-BC00-9F04BB0C5E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98D00-F97E-4871-93CC-FFF9B7493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39899-611A-4561-8791-6D4EA3FB8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CB23F-B8B2-4536-8EF7-929DE58A5D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BE909-EBA9-4E14-8F70-EA30BF876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52D42-CE64-4A4C-B478-883ECD92F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BD285-1E73-44AA-99F1-FBEBB8012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A8FA0-CBDA-47FB-A23C-E4912384CC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08800-7726-440A-898C-EEDC23263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60C33-3DF7-42E0-ADD2-BC8719DFB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6425B-D34F-4097-848D-36A3FA9A0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E2618-4B65-4DF6-B440-FEE13A4EA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FE6C2-7A99-48D3-916D-BAA835682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28672-2107-49EC-8F40-750433ADD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D82A4-4299-42B2-B418-E1872B6101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D1A1C-D2EA-42C3-9630-858A2364B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72773-167E-4ADE-A2BF-CBA744EF40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FD1AA-19BD-4608-A530-5DF0EE51E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68580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COLORS ARE MISSING FROM THESE BOOK TITLE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0" y="76176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ROME ____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ALDOUS HUXLEY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ALF OF A ____ SUN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CHIMAMANDA NGOZI ADICHIE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838080" y="762120"/>
            <a:ext cx="74678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____ BU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EDGAR ALLAN PO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OL’S ____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MARO DOUKA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UR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19040" y="762120"/>
            <a:ext cx="8305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OLOR 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ALICE WALKER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AROLD AND THE ____ CRAY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CROCKETT JOHNSON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ARL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71680" y="762120"/>
            <a:ext cx="8001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____ LETTE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NATHANIEL HAWTHORN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____ PIMPERNEL (EMMUSKA ORCZY)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8484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47640" y="754200"/>
            <a:ext cx="78487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____ OLEANDE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JANET FITCH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____ FA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JACK LONDON)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8628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____ M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STEPHEN KING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NE OF ____ G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L. M. MONTGOMERY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066680" y="4876920"/>
            <a:ext cx="70106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AY / GR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ICTURE OF DORIAN 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OSCAR WIL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FTY SHADES OF ____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E. L. JAMES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71680" y="762120"/>
            <a:ext cx="8001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____ DAHL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JAMES ELLROY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____ WA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JOYCE CAROL OATES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257480" y="762120"/>
            <a:ext cx="6629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____ PO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JOHN STEINBECK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____ T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ANITA DIAMANT)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0" y="762120"/>
            <a:ext cx="9144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OLOR ____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ALICE WALKER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AROLD AND THE ____ CRAY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CROCKETT JOHNSON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98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L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____ CHA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C. S. LEWI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____ NUTME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NORAH LOFTS)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EL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920" y="762120"/>
            <a:ext cx="9144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ROME 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ALDOUS HUXLEY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ALF OF A ____ SU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CHIMAMANDA NGOZI ADICHIE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0" y="762120"/>
            <a:ext cx="9144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____ BU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EDGAR ALLAN PO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OL’S 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MARO DOUKA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____ LETTER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NATHANIEL HAWTHORNE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____ PIMPERNEL (EMMUSKA ORCZY)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47640" y="762120"/>
            <a:ext cx="78487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____ OLEANDE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JANET FITCH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____ FA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JACK LONDON)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____ MI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STEPHEN KING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NE OF ____ GAB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L. M. MONTGOMERY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ICTURE OF DORIAN ____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OSCAR WILDE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FTY SHADES OF ____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E. L. JAMES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____ DAHL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JAMES ELLROY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____ WA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JOYCE CAROL OATES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____ PON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JOHN STEINBECK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____ T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ANITA DIAMANT)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____ CHAI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C. S. LEWI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____ NUTME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NORAH LOFTS)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3T18:57:58Z</dcterms:created>
  <dc:creator>Jennifer Budzinski</dc:creator>
  <dc:description/>
  <dc:language>en-US</dc:language>
  <cp:lastModifiedBy>Erich Friedman</cp:lastModifiedBy>
  <dcterms:modified xsi:type="dcterms:W3CDTF">2020-08-30T12:04:58Z</dcterms:modified>
  <cp:revision>350</cp:revision>
  <dc:subject/>
  <dc:title>Slide 1</dc:title>
</cp:coreProperties>
</file>