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AEC4-9EDC-4FC1-94E6-3C794FE0C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E525-7A32-4473-B71F-6D863DD49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6E0-B23E-4741-AD31-6B4A6D424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A13F6-D713-4E01-921B-357A2520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C20C-24D6-48EA-A621-3CF051DB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89B1-F071-461B-87FF-73794C3CF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C95E-1AD5-42EB-905D-DD9C7F5F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6FF-5F6A-42B2-A4A6-70CEED1E3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7AD7-A0F1-4D40-B04C-9070868F5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C33-607C-42AD-9D98-F9E2124C2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CD04-0B0D-4FFF-B396-9264389E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FA2A-BA0D-4D45-8C8B-487534739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ACB1-9ECD-4801-B01A-7E3743FF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A16-7A53-4DC5-A707-7C7BDFA64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0CC1-4E86-4247-B7FE-9428D171B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8E2F-26BC-4339-A52F-6AE4981C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A872-D993-480B-8AF4-35A1BFFA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81C9-CF05-49F6-9E7B-92FFF630A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57E8-D001-4F0B-8B06-F5F510CE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EF7-A59C-4277-A8B0-334FBF8D4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89A6-5EF4-45C9-9886-741150C5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9831-A7DA-4569-A0CA-53608060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8E68-8235-4BFB-AB25-EAF5C6738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ORS ARE MISSING FROM THESE BOOK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5420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Y /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92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8:57:58Z</dcterms:created>
  <dc:creator>Jennifer Budzinski</dc:creator>
  <dc:description/>
  <dc:language>en-US</dc:language>
  <cp:lastModifiedBy>Erich Friedman</cp:lastModifiedBy>
  <dcterms:modified xsi:type="dcterms:W3CDTF">2020-08-30T12:04:58Z</dcterms:modified>
  <cp:revision>350</cp:revision>
  <dc:subject/>
  <dc:title>Slide 1</dc:title>
</cp:coreProperties>
</file>