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1796-AB68-4343-A860-374771C8E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2929-4B30-49FF-943D-6295BCC43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EEF2-90CB-4AFD-8784-78F62934F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802C-A512-41C7-8759-05D7B0D91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B7FA-3142-4372-8F21-B50173076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DA08-4FCE-4BB2-956D-39DDF5004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44AA-FEDE-47E4-B6A3-C7924537B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7A9D-8598-441B-BF8E-6C0364BAF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6A80-6A89-4D1F-8419-2DCF6462D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71BB-BF1C-415E-9ECB-79C055617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23AA-D1ED-471F-BAC1-3A743F27C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4C2D-630A-464C-B8E4-22E2EE45C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FAD3-CC8B-4298-9B9B-09A4F4857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829F-8EC6-4A09-BDE3-97C89556C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8350-B149-4644-B71A-9AE962893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7E21-DF86-46E4-BDE9-FCB4578D8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DA8B-761B-416B-B890-80B258C73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6660-919A-4629-B659-F156644D7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7B5A-E9A0-4F63-A66E-A9F48ACFE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1C05-27DA-4DB6-BE19-0A9C7F016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6320-FCAD-45FA-AD0B-4B9904271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021E-2BFB-48F7-B9DC-4CC8C91CA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D2A4-567C-428D-BCD7-52391295E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LD &amp; SIL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WOULD ALL THE GOLD IN FORT KNOX FUND THE U.S. GOVERNMENT?  A WEEK, A MONTH, OR A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1143000" y="762120"/>
            <a:ext cx="6858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IS HEAVIER THAN SILVER.  IS IT MORE THAN TWICE AS HEAV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ONE OUNCE OF GOLD WORTH THE SAME AS 40, 80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120 OUNCES OF SIL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TURALLY OCCURRING ALLOY OF GOLD AND SILVER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57200" y="762120"/>
            <a:ext cx="8229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APPEARS IMMEDIATELY UNDERNEATH SILVER IN THE PERIODIC TAB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457200" y="4879800"/>
            <a:ext cx="8229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  C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ERE MINTED FIRST IN THE U.S. AS CURRENCY, GOLD COINS OR SILVER CO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33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PHE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MOST GOLD MEDALS IN OLYMPIC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TINUM  &amp;  PALLAD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457200" y="76212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GOLD AND SILVER, WHAT TWO PRECIOUS METALS ARE TRADED THE MOST AS INVEST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152280" y="1028880"/>
            <a:ext cx="48769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ADIAN MUSICAL ARTIST RELEASED THIS ALBUM IN 2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7fa760e1bf8cbef4fe517ce8c4f1d0b2.jpg"/>
          <p:cNvPicPr/>
          <p:nvPr/>
        </p:nvPicPr>
        <p:blipFill>
          <a:blip r:embed="rId1"/>
          <a:stretch/>
        </p:blipFill>
        <p:spPr>
          <a:xfrm>
            <a:off x="5257800" y="99684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ONE OUNCE OF GOLD WORTH THE SAME AS 40, 80, OR 120 OUNCES OF SIL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H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RISTMAS SONG "SILVER BELLS" WAS FIRST PERFORMED AS A DUET BY MARILYN MAXWELL AND WHAT COMIC A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MON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576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WOULD ALL THE GOLD IN FORT KNOX  FUND THE U.S. GOVERNMENT?  A WEEK, A MONTH, OR A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143000" y="762120"/>
            <a:ext cx="6858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IS HEAVIER THAN SILVER.  IS IT MORE THAN TWICE AS HEAV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TURALLY OCCURRING ALLOY OF GOLD AND SILVER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APPEARS IMMEDIATELY UNDERNEATH SILVER IN THE PERIODIC TAB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ERE MINTED FIRST IN THE U.S. AS CURRENCY, GOLD COINS OR SILVER CO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2396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MOST GOLD MEDALS IN OLYMPIC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GOLD AND SILVER, WHAT TWO PRECIOUS METALS ARE TRADED THE MOST AS INVEST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1920" y="87588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ADIAN MUSICAL ARTIST RELEASED THIS ALBUM IN 2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7fa760e1bf8cbef4fe517ce8c4f1d0b2.jpg"/>
          <p:cNvPicPr/>
          <p:nvPr/>
        </p:nvPicPr>
        <p:blipFill>
          <a:blip r:embed="rId1"/>
          <a:stretch/>
        </p:blipFill>
        <p:spPr>
          <a:xfrm>
            <a:off x="5257800" y="87624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RISTMAS SONG "SILVER BELLS" WAS FIRST PERFORMED AS A DUET BY MARILYN MAXWELL AND WHAT COMIC A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4:33:46Z</dcterms:created>
  <dc:creator>Jennifer Budzinski</dc:creator>
  <dc:description/>
  <dc:language>en-US</dc:language>
  <cp:lastModifiedBy>Erich Friedman</cp:lastModifiedBy>
  <dcterms:modified xsi:type="dcterms:W3CDTF">2020-08-30T12:37:56Z</dcterms:modified>
  <cp:revision>284</cp:revision>
  <dc:subject/>
  <dc:title>Slide 1</dc:title>
</cp:coreProperties>
</file>