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1ABE-DA71-411C-AA86-46E0E5FF5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B3C5-F55E-4005-B77B-CB550D8F4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4CE5E-5B65-47F3-9B99-E20D31B9F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2774-925A-4D3E-8DBD-E67A16382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D464-A2FC-42FC-8070-4E63D68CB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FC9E-C239-4136-8D65-CB86DECB4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31AB-D8F4-442F-8093-F7B97227B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4209-3C68-4844-87F9-6555C99D3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72F2-049B-43AE-B9BC-678410FA0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813A-654A-4F65-8430-051A557E2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CC45-232D-4C75-8972-C04E122E4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5782-F9A0-4A04-BB41-5476E8661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90D1-63F3-4179-AE30-371E61380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1912-8909-49CC-B617-79BA619D9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3DAC-22ED-46A6-8BA9-D58EF4854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6691-5AF8-404E-9D16-7AD487FFA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A204-FA13-457C-B5A2-CAC2BE5F6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190A-8A7E-486D-A180-6C2DA5B92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8B16-588D-4249-9C30-DC3B69AFB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64AE-BA80-408B-9D5C-BB0909B2A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CA60-657E-4F5D-BDBC-1CC7F377B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4E64-20EA-44C3-8AD6-927FD456D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61A1-0A37-4345-8D68-A39813EB0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OLD &amp; SIL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WOULD ALL THE GOLD IN FORT KNOX FUND THE U.S. GOVERNMENT?  A WEEK, A MONTH, OR A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1143000" y="762120"/>
            <a:ext cx="6858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IS HEAVIER THAN SILVER.  IS IT MORE THAN TWICE AS HEAV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ONE OUNCE OF GOLD WORTH THE SAME AS 40, 80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120 OUNCES OF SIL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ECTR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URALLY OCCURRING ALLOY OF GOLD AND SILVER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62120"/>
            <a:ext cx="8229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APPEARS IMMEDIATELY UNDERNEATH SILVER IN THE PERIODIC TAB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457200" y="4879800"/>
            <a:ext cx="82296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  CO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ERE MINTED FIRST IN THE U.S. AS CURRENCY, GOLD COINS OR SILVER CO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PHEL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MOST GOLD MEDALS IN OLYMPIC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LATINUM  &amp;  PALLA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457200" y="762120"/>
            <a:ext cx="82296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GOLD AND SILVER, WHAT TWO PRECIOUS METALS ARE TRADED THE MOST AS INVEST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YOU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152280" y="1028880"/>
            <a:ext cx="48769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ADIAN MUSICAL ARTIST RELEASED THIS ALBUM IN 2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7fa760e1bf8cbef4fe517ce8c4f1d0b2.jpg"/>
          <p:cNvPicPr/>
          <p:nvPr/>
        </p:nvPicPr>
        <p:blipFill>
          <a:blip r:embed="rId1"/>
          <a:stretch/>
        </p:blipFill>
        <p:spPr>
          <a:xfrm>
            <a:off x="5257800" y="99684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ONE OUNCE OF GOLD WORTH THE SAME AS 40, 80, OR 120 OUNCES OF SILV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H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RISTMAS SONG "SILVER BELLS" WAS FIRST PERFORMED AS A DUET BY MARILYN MAXWELL AND WHAT COMIC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MON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576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LONG WOULD ALL THE GOLD IN FORT KNOX  FUND THE U.S. GOVERNMENT?  A WEEK, A MONTH, OR A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1143000" y="762120"/>
            <a:ext cx="6858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IS HEAVIER THAN SILVER.  IS IT MORE THAN TWICE AS HEAV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URALLY OCCURRING ALLOY OF GOLD AND SILVER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APPEARS IMMEDIATELY UNDERNEATH SILVER IN THE PERIODIC TABL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ERE MINTED FIRST IN THE U.S. AS CURRENCY, GOLD COINS OR SILVER CO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42720" y="72396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MOST GOLD MEDALS IN OLYMPIC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GOLD AND SILVER, WHAT TWO PRECIOUS METALS ARE TRADED THE MOST AS INVEST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51920" y="87588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NADIAN MUSICAL ARTIST RELEASED THIS ALBUM IN 200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7fa760e1bf8cbef4fe517ce8c4f1d0b2.jpg"/>
          <p:cNvPicPr/>
          <p:nvPr/>
        </p:nvPicPr>
        <p:blipFill>
          <a:blip r:embed="rId1"/>
          <a:stretch/>
        </p:blipFill>
        <p:spPr>
          <a:xfrm>
            <a:off x="5257800" y="87624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RISTMAS SONG "SILVER BELLS" WAS FIRST PERFORMED AS A DUET BY MARILYN MAXWELL AND WHAT COMIC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4:33:46Z</dcterms:created>
  <dc:creator>Jennifer Budzinski</dc:creator>
  <dc:description/>
  <dc:language>en-US</dc:language>
  <cp:lastModifiedBy>Erich Friedman</cp:lastModifiedBy>
  <dcterms:modified xsi:type="dcterms:W3CDTF">2020-08-30T12:37:56Z</dcterms:modified>
  <cp:revision>284</cp:revision>
  <dc:subject/>
  <dc:title>Slide 1</dc:title>
</cp:coreProperties>
</file>