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765B-5008-4932-8669-C6DF0A535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6249-4710-448C-AA11-7D1A259A2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BAEE-8883-425B-95B1-9C6A4E71A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33058-0C54-4E55-9EB0-76A656EE1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2D5E7-D58C-4A04-93BF-70B17AAFE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617D-DDC4-435E-A300-C8981F24A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1275-EC87-4459-A354-02AE0538C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1326-743F-400E-9325-AFF60CA42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2470-6209-401A-AECE-B163E397A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AE4B-E458-4C11-A92C-D8CBC63E3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06D31-06FE-401C-9833-E797C2E80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969B-9674-4346-90F9-2BB5C72D7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6908-4EE8-4275-B34E-656A98DF1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4853-EDC0-4410-8D04-17C70EAA6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5D56-275F-418F-9872-0DD9D7F6D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53A5-2515-4E79-B6D1-9193785FD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A9A0-808A-4CEB-8ABC-133167A4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9E8D-1635-4DC6-A5B8-AD32C24D6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1DCF-335E-4B6F-932D-6BE37964C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FB67-7F94-4449-BA34-2C1146A7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3C47-A4AD-4E5B-AFF9-AA376BCCF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C6B9-5B9D-4067-8012-340FCBFDF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D91B-A348-4D1F-BB38-AD8BF56D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4475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IN REACTION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(ANSWER TO #8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28760" y="762120"/>
            <a:ext cx="8286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URS DOES IT TAKE BY TRAIN TO GET FROM LONDON TO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66560" y="762120"/>
            <a:ext cx="8210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EMENDOUSLY BIG AND TREMENDOUSLY WET" HURRICANE KILLED (ANSWER TO #10) PEOPLE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CITY OF (ANSWER TO #1)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ANDA  KN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00040" y="768240"/>
            <a:ext cx="8143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PENT 4 YEARS IN PRISON IN (ANSWER TO #2) FOR KILLING A FELLOW EXCHANGE STUDENT BEFORE BEING EXONERATED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5120"/>
            <a:ext cx="84582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80960" y="752400"/>
            <a:ext cx="638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 (FIRST NAME OF ANSWER TO #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285920" y="762120"/>
            <a:ext cx="6572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4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MEANING IN DUTCH, (ANSWER TO #5) IS USED IN ENGLISH AS A SLANG TERM FOR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BRY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 THE COLLEGE FOOTBALL COACH WHOSE NICKNAME WAS (ANSWER TO #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09680" y="762120"/>
            <a:ext cx="8324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REMENDOUSLY BIG AND TREMENDOUSLY WET" HURRICANE KILLED (ANSWER TO #10) PEOPLE IN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90400" y="762120"/>
            <a:ext cx="7963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TATE UNIVERSITY DID (ANSWER TO #7) COAC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76440" y="762120"/>
            <a:ext cx="77911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TED CITY IN (ANSWER TO #8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14440" y="762120"/>
            <a:ext cx="81151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HOURS DOES IT TAKE BY TRAIN TO GET FROM LONDON TO (ANSWER TO #9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COUNTRY IS THE CITY OF (ANSWER TO #1) LOC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47840" y="762120"/>
            <a:ext cx="8248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PENT 4 YEARS IN PRISON IN (ANSWER TO #2) FOR KILLING A FELLOW EXCHANGE STUDENT BEFORE BEING EXONERATED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71600" y="762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SANG THE HIT SONG (FIRST NAME OF ANSWER TO #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209600" y="761760"/>
            <a:ext cx="6724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NHL TEAM BASED IN (ANSWER TO #4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CAUSE OF ITS MEANING IN DUTCH, (ANSWER TO #5) IS USED IN ENGLISH AS A SLANG TERM FOR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  THE COLLEGE FOOTBALL COACH WHOSE NICKNAME WAS (ANSWER TO #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T WHAT STATE UNIVERSITY DID (ANSWER TO #7) COAC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6T22:06:31Z</dcterms:modified>
  <cp:revision>343</cp:revision>
  <dc:subject/>
  <dc:title>Slide 1</dc:title>
</cp:coreProperties>
</file>