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67D4-0DCD-4F99-B2F2-27DB02F6A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FC85-1DB6-47BE-910E-DBE87488B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05E2-FDF6-4D90-B28D-964078FE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B5C4-8FF8-4278-8AA8-50A399283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73A3-45A9-4604-B222-75981989B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9D35-B6A3-4D09-A076-F3E06986B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0297-6E09-478F-B5DD-D6B1D26ED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5CF7-E75F-46D2-9D15-DE23F2344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0F14-04B4-4BF9-B6B7-B39952D9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10DF-0F87-43DA-BE43-1BD6B917C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5D53-ED7B-4445-BBD8-D95EA5A60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24BE-DB8C-48F2-9473-EB0D5220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299E-1A1A-455B-92C5-D8C39C856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7925-AA18-424C-B333-2F06C161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DBD0-47E9-44CC-B5C3-30CC45CA7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8EE8-BCB6-4207-B30A-92D3966F1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DCBC-5031-4361-A19A-D7982D9C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8B99-1006-4FD6-8F0E-976897F0B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948C-2770-4E7A-B962-3D57610A1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DCEB-E2C3-441A-94AF-8520FD1F2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7D96-E99B-417E-84B0-4D03D436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3FC0-FAB4-4505-904D-40A37A631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7D67-4041-4213-8283-38194DD0C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28760" y="762120"/>
            <a:ext cx="828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URS DOES IT TAKE BY TRAIN TO GET FROM LONDON TO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6560" y="762120"/>
            <a:ext cx="8210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EMENDOUSLY BIG AND TREMENDOUSLY WET" HURRICANE KILLED (ANSWER TO #10) PEOPLE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CITY OF (ANSWER TO #1)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NDA  K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00040" y="768240"/>
            <a:ext cx="814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PENT 4 YEARS IN PRISON IN (ANSWER TO #2) FOR KILLING A FELLOW EXCHANGE STUDENT BEFORE BEING EXONERATED IN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512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80960" y="752400"/>
            <a:ext cx="638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 (FIRST NAME OF ANSWER TO #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85920" y="762120"/>
            <a:ext cx="6572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MEANING IN DUTCH, (ANSWER TO #5) IS USED IN ENGLISH AS A SLANG TERM FOR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 THE COLLEGE FOOTBALL COACH WHOSE NICKNAME WAS (ANSWER TO #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09680" y="762120"/>
            <a:ext cx="832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EMENDOUSLY BIG AND TREMENDOUSLY WET" HURRICANE KILLED (ANSWER TO #10) PEOPLE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TATE UNIVERSITY DID (ANSWER TO #7)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76440" y="762120"/>
            <a:ext cx="77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4440" y="762120"/>
            <a:ext cx="8115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URS DOES IT TAKE BY TRAIN TO GET FROM LONDON TO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CITY OF (ANSWER TO #1)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PENT 4 YEARS IN PRISON IN (ANSWER TO #2) FOR KILLING A FELLOW EXCHANGE STUDENT BEFORE BEING EXONERATED IN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 (FIRST NAME OF ANSWER TO #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09600" y="761760"/>
            <a:ext cx="6724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MEANING IN DUTCH, (ANSWER TO #5) IS USED IN ENGLISH AS A SLANG TERM FOR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THE COLLEGE FOOTBALL COACH WHOSE NICKNAME WAS (ANSWER TO #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TATE UNIVERSITY DID (ANSWER TO #7) CO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6:31Z</dcterms:modified>
  <cp:revision>343</cp:revision>
  <dc:subject/>
  <dc:title>Slide 1</dc:title>
</cp:coreProperties>
</file>