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7B98-8235-4642-963A-05A5F178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3A20-13D8-40D4-92BA-91E8E250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D2F-8294-4308-8FA7-BBC4355F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8E2-669F-4E56-987E-EE784055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7C6D-C95F-4C13-9292-0DC4C827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D780-0212-4F4E-916D-40C89F39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4A30-1610-4DD4-BE1A-A9E74CEB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C84-171B-4BE3-9E15-8E5FABB1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6A94-02F5-4853-BF13-0120690B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326-5F04-442F-94BE-B755367C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B3F1-0178-4690-81EB-D09865601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48AE-E708-424B-95BD-0B7E7666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944D-5162-4056-855E-A7A025DF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6204-0A15-4A05-922B-2C33FDEC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444-264C-491A-869D-14739992A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132B-19CE-449C-BF2A-46BBB00D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E4E-98C8-431D-BDB0-8365F82E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2B48-0C41-47AE-8E64-FDE6EF211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5A37-3503-49DF-9446-9A77E6DEC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16C0-2DB6-4A13-AEB7-2084A642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1408-AD33-4052-88D6-6655E0518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2D8-9EF1-48DC-84EA-3A07CA3A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5824-3FDF-497E-86F6-5A481CE04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28760" y="762120"/>
            <a:ext cx="828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URS DOES IT TAKE BY TRAIN TO GET FROM LONDON TO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6560" y="762120"/>
            <a:ext cx="8210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EMENDOUSLY BIG AND TREMENDOUSLY WET" HURRICANE KILLED (ANSWER TO #10) PEOPL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CITY OF (ANSWER TO #1)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NDA  K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00040" y="768240"/>
            <a:ext cx="814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PENT 4 YEARS IN PRISON IN (ANSWER TO #2) FOR KILLING A FELLOW EXCHANGE STUDENT BEFORE BEING EXONERATED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512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80960" y="752400"/>
            <a:ext cx="63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 (FIRST NAME OF ANSWER TO #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85920" y="762120"/>
            <a:ext cx="6572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MEANING IN DUTCH, (ANSWER TO #5) IS USED IN ENGLISH AS A SLANG TERM FOR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 THE COLLEGE FOOTBALL COACH WHOSE NICKNAME WAS (ANSWER TO #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EMENDOUSLY BIG AND TREMENDOUSLY WET" HURRICANE KILLED (ANSWER TO #10) PEOPLE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TATE UNIVERSITY DID (ANSWER TO #7)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URS DOES IT TAKE BY TRAIN TO GET FROM LONDON TO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CITY OF (ANSWER TO #1)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PENT 4 YEARS IN PRISON IN (ANSWER TO #2) FOR KILLING A FELLOW EXCHANGE STUDENT BEFORE BEING EXONERATED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 (FIRST NAME OF ANSWER TO #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09600" y="761760"/>
            <a:ext cx="6724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MEANING IN DUTCH, (ANSWER TO #5) IS USED IN ENGLISH AS A SLANG TERM FOR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COLLEGE FOOTBALL COACH WHOSE NICKNAME WAS (ANSWER TO #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TATE UNIVERSITY DID (ANSWER TO #7) CO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6:31Z</dcterms:modified>
  <cp:revision>343</cp:revision>
  <dc:subject/>
  <dc:title>Slide 1</dc:title>
</cp:coreProperties>
</file>