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912C-D0D3-4933-903D-8F139BEDB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8525-AEDC-4E67-AB68-E5D5A6E6F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0323-CA92-43D8-9C35-4AF9D77DA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436D-2992-4632-A45C-F816A282B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AE8E-A97C-417F-A5E8-BA111510E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E9F3-DAA8-4512-8C7A-0D2252CB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1F1F-8A8D-4956-995E-A1C937C2D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F0C3-0D1D-4B61-815F-091659733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1917-A4ED-49BF-8CE6-169AE1B4F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A78-23D3-4A5C-AE59-2845F80E7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AEE8-0B53-4343-B03C-5D3CD190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FC96-69CF-4A52-AD7B-FC85491AA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B370-8EF9-4578-9B2E-58FC0E6D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FEFD-6159-4897-9FF0-B49A1F19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851A-856F-47E1-A887-96F40A520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9CF0-872A-4A2A-B022-CB818AF5A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5D91-6170-4438-B240-36B0D6FB4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B81B-AB96-41E9-BE7E-D4821E60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69F4-8B50-473F-8963-2501DC424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685A-659D-4AB2-9870-D13F7B4B1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A072-0C22-46DB-9401-C6C394B4E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8330-CD94-4C8F-9C21-F8DA0D33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FD7-B2E6-471A-987D-D2B15F5A5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0'S BRITISH POP GROUP'S ONLY MOVIE WAS CALLED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OUS SCI-FI FILM   THAT BEGINS WITH A SCENE INVOLVING (ANSWER TO #9) TAKES PLACE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00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24000" y="762120"/>
            <a:ext cx="8496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RACY CHAPMAN "TALKING 'BOUT" IN A SONG RELEASED 13 YEARS BEFORE (ANSWER TO #1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BEATLES WANT TO CHANGE IN  (ANSWER TO #1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1480" y="76824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(ANSWER TO #2) DO IN A LONG-RUNNING CBS SOAP OP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2760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Y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3008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(ANSWER TO #3 REPEATED 3 TIM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708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MI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ANK OF THE POLAR EXPLORER RICHARD (ANSWER TO #4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SERVICES HAS A RANK CALLED (ANSWER TO #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SOUP VEGETABLE IS NAMED FOR (ANSWER TO #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RACY CHAPMAN "TALKING 'BOUT" IN A SONG RELEASED 13 YEARS BEFORE (ANSWER TO #1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9800" y="762120"/>
            <a:ext cx="7124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 IS SOMETIMES REFERRED TO AS A (ANSWER TO #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NK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0'S BRITISH POP GROUP'S ONLY MOVIE WAS CALLED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 (A  SPACE  ODYSS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OUS SCI-FI FILM   THAT BEGINS WITH A SCENE INVOLVING (ANSWER TO #9) TAKES PLACE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BEATLES WANT TO CHANGE IN  (ANSWER TO #1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(ANSWER TO #2) DO IN A LONG-RUNNING CBS SOAP OP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(ANSWER TO #3 REPEATED 3 TIM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ANK OF THE POLAR EXPLORER RICHARD (ANSWER TO #4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SERVICES HAS A RANK CALLED (ANSWER TO #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SOUP VEGETABLE IS NAMED FOR (ANSWER TO #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 IS SOMETIMES REFERRED TO AS A (ANSWER TO #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5:19Z</dcterms:modified>
  <cp:revision>337</cp:revision>
  <dc:subject/>
  <dc:title>Slide 1</dc:title>
</cp:coreProperties>
</file>