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6E5F-CA09-4281-83FE-25F95A9FA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AA16-0BFB-40EB-87C7-8B110AF43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E179-F7A4-44C6-ADD6-131E44746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07C2-FCE1-402F-8725-65EB3F56D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D080-7B8A-453E-B9E5-08E5923D5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2DDE-7603-4C8C-AC4E-33610590E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9018-49EE-4E18-B5FC-505A45B3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A650-EF50-4BF4-88BF-537B68353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883F-82D0-432A-BD3D-35705ED16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7F48-3A79-40C4-A90D-CA0F36FE7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BF43-1CF0-4090-BB46-9F670B1E4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58D1-2E0E-40B9-BE70-D88AAFF38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D99A-51C4-4F0A-865C-ED4FFC5BB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B5C7-D9B3-453A-864F-42FAC73E2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4461-9D99-4279-829A-4A36FF3F1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ACF0-CA86-42FB-BA23-5950A29D8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CDDF-74A3-4787-B4A0-56F45750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A91E-FB03-4D18-8C91-0E6BE6E8A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1740-F526-494F-B226-9737316FB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49AF-368C-4EA4-9E37-05AFCBE6C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7043-21DA-4239-954D-F7990FBD0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530D-5ACF-4D77-98AA-C091CFA80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2AAE-2E36-4B1B-85DF-CAFAA1B0B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 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0'S BRITISH POP GROUP'S ONLY MOVIE WAS CALLED (ANSWER TO #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OUS SCI-FI FILM   THAT BEGINS WITH A SCENE INVOLVING (ANSWER TO #9) TAKES PLACE IN WHA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006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24000" y="762120"/>
            <a:ext cx="8496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RACY CHAPMAN "TALKING 'BOUT" IN A SONG RELEASED 13 YEARS BEFORE (ANSWER TO #1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BEATLES WANT TO CHANGE IN  (ANSWER TO #1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1480" y="76824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(ANSWER TO #2) DO IN A LONG-RUNNING CBS SOAP OP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2760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Y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3008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 (ANSWER TO #3 REPEATED 3 TIM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708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MI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ANK OF THE POLAR EXPLORER RICHARD (ANSWER TO #4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THE ARMED SERVICES HAS A RANK CALLED (ANSWER TO #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SOUP VEGETABLE IS NAMED FOR (ANSWER TO #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RACY CHAPMAN "TALKING 'BOUT" IN A SONG RELEASED 13 YEARS BEFORE (ANSWER TO #1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9800" y="762120"/>
            <a:ext cx="7124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 IS SOMETIMES REFERRED TO AS A (ANSWER TO #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NK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4440" y="762120"/>
            <a:ext cx="811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0'S BRITISH POP GROUP'S ONLY MOVIE WAS CALLED (ANSWER TO #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1 (A  SPACE  ODYSS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OUS SCI-FI FILM   THAT BEGINS WITH A SCENE INVOLVING (ANSWER TO #9) TAKES PLACE IN WHA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BEATLES WANT TO CHANGE IN  (ANSWER TO #1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(ANSWER TO #2) DO IN A LONG-RUNNING CBS SOAP OP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 (ANSWER TO #3 REPEATED 3 TIM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ANK OF THE POLAR EXPLORER RICHARD (ANSWER TO #4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THE ARMED SERVICES HAS A RANK CALLED (ANSWER TO #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SOUP VEGETABLE IS NAMED FOR (ANSWER TO #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 IS SOMETIMES REFERRED TO AS A (ANSWER TO #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05:19Z</dcterms:modified>
  <cp:revision>337</cp:revision>
  <dc:subject/>
  <dc:title>Slide 1</dc:title>
</cp:coreProperties>
</file>