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51AB-853A-49D6-A3FB-5DEE465B3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237A-DABF-477D-BF26-8F57D93EE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730B-7494-46C9-8164-980599089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60D2-98D6-40AA-AEC5-5EFCF1521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5334-671F-4CEC-89B8-5DBD7CE55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9FCB-9A15-4B9B-B8B4-BC7F52545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ACB1-9FF1-423E-A428-7297206E8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8F78-6D69-41C3-95F7-FB47FFAA7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F4A6-112F-4F3F-A369-868933E54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79E1-4555-470B-8697-E84E73716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327E-F13D-48D7-A90B-D8B5C52CA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747E-5579-4B47-863D-772E691E3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5FD6-C064-4098-9493-17355DDA0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5659-482C-4C48-87BF-AD66DE5B3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78A3-9007-41D0-9BBA-C477C5699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F758-3C25-4D48-B517-5235D3209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F0E5-1936-4D8C-A208-1F27C896E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AFB3-A6D9-4841-8A98-048DAA525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4166-B54B-4796-9852-58ED2CCCB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A703-ABCE-4EF5-BC18-B8BF652C5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EBAA1-07E9-495D-9A23-C7941475E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C8C9-E9CC-4B68-92BF-9D5B76E7B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0177-0D40-4B33-B41E-981D74CFF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IN REACTION 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0'S BRITISH POP GROUP'S ONLY MOVIE WAS CALLED (ANSWER TO #8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52600" y="762120"/>
            <a:ext cx="8038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MOUS SCI-FI FILM   THAT BEGINS WITH A SCENE INVOLVING (ANSWER TO #9) TAKES PLACE IN WHAT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006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24000" y="762120"/>
            <a:ext cx="8496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RACY CHAPMAN "TALKING 'BOUT" IN A SONG RELEASED 13 YEARS BEFORE (ANSWER TO #10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BEATLES WANT TO CHANGE IN  (ANSWER TO #1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71480" y="768240"/>
            <a:ext cx="760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(ANSWER TO #2) DO IN A LONG-RUNNING CBS SOAP OP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27600"/>
            <a:ext cx="84582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Y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3008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 (ANSWER TO #3 REPEATED 3 TIM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708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MI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RANK OF THE POLAR EXPLORER RICHARD (ANSWER TO #4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CH OF THE ARMED SERVICES HAS A RANK CALLED (ANSWER TO #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SOUP VEGETABLE IS NAMED FOR (ANSWER TO #6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RACY CHAPMAN "TALKING 'BOUT" IN A SONG RELEASED 13 YEARS BEFORE (ANSWER TO #10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00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09800" y="762120"/>
            <a:ext cx="7124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PART IS SOMETIMES REFERRED TO AS A (ANSWER TO #7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NK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14440" y="762120"/>
            <a:ext cx="8115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0'S BRITISH POP GROUP'S ONLY MOVIE WAS CALLED (ANSWER TO #8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01 (A  SPACE  ODYSS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AMOUS SCI-FI FILM   THAT BEGINS WITH A SCENE INVOLVING (ANSWER TO #9) TAKES PLACE IN WHAT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BEATLES WANT TO CHANGE IN  (ANSWER TO #1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(ANSWER TO #2) DO IN A LONG-RUNNING CBS SOAP OP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 (ANSWER TO #3 REPEATED 3 TIM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RANK OF THE POLAR EXPLORER RICHARD (ANSWER TO #4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CH OF THE ARMED SERVICES HAS A RANK CALLED (ANSWER TO #5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SOUP VEGETABLE IS NAMED FOR (ANSWER TO #6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PART IS SOMETIMES REFERRED TO AS A (ANSWER TO #7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6T22:05:19Z</dcterms:modified>
  <cp:revision>337</cp:revision>
  <dc:subject/>
  <dc:title>Slide 1</dc:title>
</cp:coreProperties>
</file>