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3FFA-AD9F-4538-9AAF-F1D3408EC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A41A3-3CEC-4EF2-9B02-C1EAE4DD0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BB4D-55C7-4B99-8D5A-D71BFCE99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D02A-E3B0-40C2-B704-23EE5A79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BA8D-1214-46ED-A2E9-0FF60119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0811-D67A-4C65-A7B6-9078A11A4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BA0-C37D-4C42-820B-32E14A0F4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9593-5C7F-4D48-82D4-287027D1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1AC1-84EA-491B-A5FB-7B49B177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66B9-07D1-41D1-A32C-2054181C6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022B-EFBB-4D5D-9BAD-51F330BF9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43D3-CD07-4627-B521-328175D8E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699-A5DD-410D-9B67-44B7CEE5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7E5C-1D05-44CB-8BFF-500DA3A6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737C-1F26-4D1A-83AC-B01B1CAB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BCAE-9150-4F43-AF9E-DB6A5138A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80FE-CA42-4F7B-9CB8-48547630A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C58D-CC52-4F0B-8E9D-F7206196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B57B-777B-4EFF-91FB-D0D56B6E5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7EE1-DCD2-4402-AA7F-DC4580336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650F-9BBB-4355-A227-777E8A894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5713-4BDB-4F15-9C30-92773FB4C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0E2F-82B9-414C-A70A-6DAC7D32A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4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9160" y="762120"/>
            <a:ext cx="890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ICAP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INS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720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5240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DANI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4960" y="762120"/>
            <a:ext cx="8612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35080" y="762120"/>
            <a:ext cx="86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USBAND OF (ANSWER TO #10) IN "SU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5080" y="762120"/>
            <a:ext cx="633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SPAC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0760" y="762120"/>
            <a:ext cx="724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EACHER OF (ANSWER TO #8) IN "PAY IT FORW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3) AND (ANSWER TO #9) IN "THE LIFE OF DAVID G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ERSON BEING CHASED BY (ANSWER TO #1) IN "CATCH ME IF YOU C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2) IN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3) IN "ETERNAL SUNSHINE OF THE SPOTLESS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5600" y="761760"/>
            <a:ext cx="86313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4) IN "DUMB AND DU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 OF (ANSWER TO #5) IN "SOMETHING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1) AND (ANSWER TO #6) IN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52520" y="762120"/>
            <a:ext cx="6438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(ANSWER TO #7) IN "THE SIXTH S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7:50Z</dcterms:modified>
  <cp:revision>347</cp:revision>
  <dc:subject/>
  <dc:title>Slide 1</dc:title>
</cp:coreProperties>
</file>