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D82C-A615-4C65-AAA9-18161E6F6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DEE3-80CC-4BD8-9FC0-2669AFE02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5CBF-F5D2-4B1D-B39C-C64A338EF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9987-3C09-424F-BEFD-BB2ABF8CE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A4F0-6D66-4718-BDFD-B74C9E39B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2522-3357-43A6-A250-8B9467995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77B1-9B12-436A-BCC9-7D38FCAF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8F0E-CDB7-4AE3-827D-51DD9ED44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B2D0-7EB7-4739-AF91-A95F69262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E26A-0CD2-4976-8AD6-F71231500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FEC2-00E6-4324-9030-41C83D2C3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87EF-1165-4D3D-8012-78DC7712E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3F39-4538-4605-9306-07EFD5562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68D5-D39B-4268-B171-C4E99A04A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EF39-C68E-4709-9F5D-D43C3D137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DB36-B897-452A-81B8-0D9632CCF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3870-4A9F-4ABB-99D6-1786611F8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DE2F-9ADF-49FC-B93A-950210781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9DEC-DC6D-401D-B603-4CBCB3CE5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68BF-41F6-4AFC-8112-AA89053F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CBBF-D31D-48F9-B23C-75EDAE727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CCE8-1012-466F-8D4F-A4D263CB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47AD-85DB-4957-894A-4728CE80E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HAIN REACTION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1560" y="761760"/>
            <a:ext cx="7400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EACHER OF (ANSWER TO #8) IN "PAY IT FORWA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52360" y="762120"/>
            <a:ext cx="863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3) AND (ANSWER TO #9) IN "THE LIFE OF DAVID G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9160" y="762120"/>
            <a:ext cx="8905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USBAND OF (ANSWER TO #10) IN "SUL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ICAP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ERSON BEING CHASED BY (ANSWER TO #1) IN "CATCH ME IF YOU C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WINS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78000" y="768240"/>
            <a:ext cx="65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2) IN "TITAN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6720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AR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19200" y="752400"/>
            <a:ext cx="79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3) IN "ETERNAL SUNSHINE OF THE SPOTLESS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DANI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4960" y="762120"/>
            <a:ext cx="8612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4) IN "DUMB AND DUM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ANIE  GRIFF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5) IN "SOMETHING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1) AND (ANSWER TO #6) IN "THE BONFIRE OF THE VANIT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35080" y="762120"/>
            <a:ext cx="86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USBAND OF (ANSWER TO #10) IN "SUL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EY  JOEL  O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05080" y="762120"/>
            <a:ext cx="633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7) IN "THE SIXTH S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SPAC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0760" y="762120"/>
            <a:ext cx="724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EACHER OF (ANSWER TO #8) IN "PAY IT FORWA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A  LIN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95200" y="762120"/>
            <a:ext cx="8553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3) AND (ANSWER TO #9) IN "THE LIFE OF DAVID G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ERSON BEING CHASED BY (ANSWER TO #1) IN "CATCH ME IF YOU C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2440" y="762120"/>
            <a:ext cx="66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2) IN "TITAN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3) IN "ETERNAL SUNSHINE OF THE SPOTLESS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5600" y="761760"/>
            <a:ext cx="86313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4) IN "DUMB AND DUM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5) IN "SOMETHING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1) AND (ANSWER TO #6) IN "THE BONFIRE OF THE VANIT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52520" y="762120"/>
            <a:ext cx="6438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7) IN "THE SIXTH SEN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07:50Z</dcterms:modified>
  <cp:revision>347</cp:revision>
  <dc:subject/>
  <dc:title>Slide 1</dc:title>
</cp:coreProperties>
</file>