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D1F5-6450-4D86-84A3-B80506A5B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20B4-2AEE-45D6-8564-9EB128155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2BEF-01A0-42E1-B01F-5994DDDE4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50A5-BB9B-412A-933A-9B241B75E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6614-3A0B-4BB0-9675-0FD7254A2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5EDC-7706-4DCC-B4BB-06B775FA1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EA68-596E-41B8-B84A-E7E7F657D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5EEB-4E82-46B6-B4F0-7968C121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2EB2-B19D-42FE-A50B-B57F026C0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FFBE-5E6C-4A14-8B0E-27D95EA1D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2650-9AD4-44E1-9131-A931190B6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7305-EDE5-44FE-8800-4AA81894F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316A-4CE6-47E5-8DCC-141B3BCF0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FB56-A0D4-486F-9AC0-C1B479853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22AD-8F23-4AFF-82C8-96292BF46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9E67-DC88-417E-B6E4-714658C88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4A1F-4530-4553-95B7-2CB105314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B886-0EE8-40AD-90FB-8F7FB5DE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2144-A670-46D9-993D-CE706375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10D1-C515-4D15-91FB-09B8A5F67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A7C3-1897-45CB-A94D-C2683E3F6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C2A8-D304-48B7-88A2-1152FB864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DB23-51CC-465E-8075-3B122A4D4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HAIN REACTION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1560" y="761760"/>
            <a:ext cx="7400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EACHER OF (ANSWER TO #8) IN "PAY IT FORWA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52360" y="762120"/>
            <a:ext cx="863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3) AND (ANSWER TO #9) IN "THE LIFE OF DAVID G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9160" y="762120"/>
            <a:ext cx="8905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USBAND OF (ANSWER TO #10) IN "SUL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ICAP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ERSON BEING CHASED BY (ANSWER TO #1) IN "CATCH ME IF YOU C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WINS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78000" y="768240"/>
            <a:ext cx="65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2) IN "TITAN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6720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AR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19200" y="752400"/>
            <a:ext cx="79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3) IN "ETERNAL SUNSHINE OF THE SPOTLESS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DANI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4960" y="762120"/>
            <a:ext cx="8612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4) IN "DUMB AND DUM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ANIE  GRIFF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5) IN "SOMETHING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1) AND (ANSWER TO #6) IN "THE BONFIRE OF THE VANIT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35080" y="762120"/>
            <a:ext cx="86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USBAND OF (ANSWER TO #10) IN "SUL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EY  JOEL  O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05080" y="762120"/>
            <a:ext cx="633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7) IN "THE SIXTH S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SPAC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0760" y="762120"/>
            <a:ext cx="724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EACHER OF (ANSWER TO #8) IN "PAY IT FORWA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A  LIN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95200" y="762120"/>
            <a:ext cx="8553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3) AND (ANSWER TO #9) IN "THE LIFE OF DAVID G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ERSON BEING CHASED BY (ANSWER TO #1) IN "CATCH ME IF YOU C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2440" y="762120"/>
            <a:ext cx="66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2) IN "TITAN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3) IN "ETERNAL SUNSHINE OF THE SPOTLESS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5600" y="761760"/>
            <a:ext cx="86313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4) IN "DUMB AND DUM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5) IN "SOMETHING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1) AND (ANSWER TO #6) IN "THE BONFIRE OF THE VANIT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52520" y="762120"/>
            <a:ext cx="6438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7) IN "THE SIXTH SEN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07:50Z</dcterms:modified>
  <cp:revision>347</cp:revision>
  <dc:subject/>
  <dc:title>Slide 1</dc:title>
</cp:coreProperties>
</file>