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F7D-3D65-4E84-9204-A9902011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C3C-BB9D-4132-9489-B4A79E74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9FC-18FD-481F-955C-0B67C9E5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FFCF-2027-4050-A0F1-7095CB26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FA89-EF72-47D6-AE34-0FFDBBA1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9324-22F1-465C-85B9-6DA5611B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54F2-651B-4246-8B0B-4CD8E38C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DFC-5E2E-41BF-B350-DDEF8689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FCF-FC2D-4057-B7F8-E117F4D4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D83-6BB4-469B-87DF-942AEE06E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4B16-B779-4038-BCFA-51DF28D2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8BF0-B277-4C8B-90BA-A9689887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62EB-AE7D-402C-9417-5C139160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DA01-F450-40D6-9941-7F076407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C34-D3B8-4474-B4A4-F78A66CD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A888-E580-4004-9536-EE82AD19A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DB8C-B575-4472-9348-D09F4B53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436-7A37-4B5A-9511-EE5C1806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7F5-54A5-44ED-8EF4-41DE52C8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FDF2-ED62-4CEF-8B89-067F6E71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BF1-D1D9-416D-ADD5-89360D47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EDB-D39E-42AD-B6F7-3033B542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4F6-EADC-48D7-96A5-89041F12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ON THE STATE FLAG OF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3440" y="762120"/>
            <a:ext cx="881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UNIVERSITY'S SPORTS TEAMS ARE NAMED THE PLURAL OF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20800" y="762120"/>
            <a:ext cx="7500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ERSON WITH LAST NAME (ANSWER TO #10) THAT LED THE 1859 RAID ON HARPER'S FE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ITH FIRST NAME (ANSWER TO #1) WHO WROTE "THE FAULT IN OUR ST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63680" y="768240"/>
            <a:ext cx="641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72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9080" y="752400"/>
            <a:ext cx="730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DOES THE WORD (ANSWER TO #3)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7520" y="762120"/>
            <a:ext cx="6707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MOTTO IS IN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LB TEAM BASED IN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(ANSWER TO #6) WITH DANNY DEV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ERSON WITH LAST NAME (ANSWER TO #10) THAT LED THE 1859 RAID ON HARPER'S FE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68440" y="762120"/>
            <a:ext cx="800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7) BECAME GOVERNOR OF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ON THE STATE FLAG OF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69920" y="762120"/>
            <a:ext cx="880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UNIVERSITY'S SPORTS TEAMS ARE NAMED THE PLURAL OF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ITH FIRST NAME (ANSWER TO #1) WHO WROTE "THE FAULT IN OUR ST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70120" y="762120"/>
            <a:ext cx="560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DOES THE WORD (ANSWER TO #3)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MOTTO IS IN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LB TEAM BASED IN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(ANSWER TO #6) WITH DANNY DEV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7) BECAME GOVERNOR OF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8:32Z</dcterms:modified>
  <cp:revision>346</cp:revision>
  <dc:subject/>
  <dc:title>Slide 1</dc:title>
</cp:coreProperties>
</file>