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5477-F3C9-4368-87D6-51321A7CF3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AFC0-E5DA-4BCE-B8F6-28928C62D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1371-1E36-4585-948C-629A1C56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5457-A0AB-44FA-8E42-2B82A1E1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410-10DD-4068-A7BC-D5B5F042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2B40-A757-48B7-9A2B-EBBABD22D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37C5-6B20-40E7-9A20-E578A297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6E11-22D5-4F70-BB49-A08A6CD9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A13E-3545-4444-927E-CFAEEBD6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75E3-9071-4AF8-8AFD-E0828D9C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CD1-E51A-4B86-BAE0-6CFF3E73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FD17-E0FA-4548-8269-50D77618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4D24-99AC-48F3-A49B-99D9CDE3E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F5E5-1E08-44BA-B3B7-DBD10B26A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79E3-712C-4A1D-8F3F-1411C063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A914-3D96-479C-95DA-75DCB118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260E-0DEC-4DBA-882A-BF5BB0FA3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212F-DB18-4C2D-B9DE-92EA3522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1521-E4B4-4924-A3C2-F0C489889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3DF7-B034-491D-B528-D6695BFF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FF43-2D91-46CE-9477-4B853F46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2532-1720-4567-A7B4-B9AEE4FEA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621C-A5F7-403F-AEA3-2AE5419CB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ON THE STATE FLAG OF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3440" y="762120"/>
            <a:ext cx="8815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UNIVERSITY'S SPORTS TEAMS ARE NAMED THE PLURAL OF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20800" y="762120"/>
            <a:ext cx="7500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ERSON WITH LAST NAME (ANSWER TO #10) THAT LED THE 1859 RAID ON HARPER'S FE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ITH FIRST NAME (ANSWER TO #1) WHO WROTE "THE FAULT IN OUR ST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63680" y="768240"/>
            <a:ext cx="6416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72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9080" y="752400"/>
            <a:ext cx="730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DOES THE WORD (ANSWER TO #3)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7520" y="762120"/>
            <a:ext cx="6707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MOTTO IS IN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LB TEAM BASED IN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  SCHWARZENE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(ANSWER TO #6) WITH DANNY DEVI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PERSON WITH LAST NAME (ANSWER TO #10) THAT LED THE 1859 RAID ON HARPER'S FE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68440" y="762120"/>
            <a:ext cx="800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7) BECAME GOVERNOR OF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PICTURED ON THE STATE FLAG OF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69920" y="762120"/>
            <a:ext cx="880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UNIVERSITY'S SPORTS TEAMS ARE NAMED THE PLURAL OF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ITH FIRST NAME (ANSWER TO #1) WHO WROTE "THE FAULT IN OUR ST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70120" y="762120"/>
            <a:ext cx="560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ANAGRAM OF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DOES THE WORD (ANSWER TO #3)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9104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MOTTO IS IN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LB TEAM BASED IN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 (ANSWER TO #6) WITH DANNY DEVI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7) BECAME GOVERNOR OF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8:32Z</dcterms:modified>
  <cp:revision>346</cp:revision>
  <dc:subject/>
  <dc:title>Slide 1</dc:title>
</cp:coreProperties>
</file>