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BFAB-7251-4500-B807-968802C8D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7264-675E-4124-912F-A94563B82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713C-17BF-4A88-9D82-845B50269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8A53-5770-4040-B09F-CBA1F55FB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3ED3-4FE9-43E7-B39B-C19A7055B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2961-90E9-43CD-B494-0EB294578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97A1-4C96-4DD5-858C-306057D6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D711-14EA-43CE-8F84-A7A126E2F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66A1-12B3-4AC6-8B6D-0C47AF77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E86D-1EA2-43C3-8CEC-71D335CF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B783-0257-449C-92F2-31314694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1F70-C44D-497E-BC96-82A7BFF95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08B7-C84B-475A-8534-F413DC76D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92D8-91B3-472E-9988-E01DF8A75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C476-C91C-40A5-9E02-CF699E9D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7795-4DE9-4FFC-909C-4DB666818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9E3F-FC87-4931-8EC3-940096C23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8522-9C47-4959-B2A4-1C0C54365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BF9C-7FD1-46E1-BDBF-DD8CFE00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77C1-D34F-42D3-9845-812BB447C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A1BD-8548-49FE-8DEC-5F220D986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3ADC-900E-442D-A8E9-69A8F280D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D0D7-C89D-4A5B-8148-EA471043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33560" y="1523880"/>
            <a:ext cx="5276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ANTASY FILM IS THE HIGHEST GROSSING FILM TO CONTAIN THE WORD [ANSWER TO #8]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DIRECTOR DIRECTED [ANSWER TO #9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APE  OF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4960" y="762120"/>
            <a:ext cx="807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7 FILM DID [ANSWER TO #10] WIN THE OSCAR FOR BEST DIRECTOR, IN ADDITION TO THE FILM  WINNING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87560" y="762120"/>
            <a:ext cx="696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ION PICTURE ASSOCIATION OF AMERICA RATING OF [ANSWER TO #1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[ANSWER TO #2] STAND FOR IN "RP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31880" y="762120"/>
            <a:ext cx="768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PUT OUT 3 VERSIONS OF THE SONG ENTITLED [SINGULAR OF ANSWER TO #3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T  TO  GET  YOU  INTO  MY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[ANSWER TO #4] STARTS WITH THE LYRICS "I WAS ALONE, I TOOK A 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,  WIND  &amp;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/ AFRO POP / FUNK BAND HAD A CHART-TOPPING COVER OF [ANSWER TO #5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60360" y="762120"/>
            <a:ext cx="842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ARISTOTLE'S 4 ELEMENTS IS NOT MENTIONED IN [ANSWER TO #6], BUT APPEARS IN [ANSWER TO #1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34800" y="762120"/>
            <a:ext cx="8474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7 FILM DID [ANSWER TO #10] WIN THE OSCAR FOR BEST DIRECTOR, IN ADDITION TO THE FILM  WINNING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51000" y="762120"/>
            <a:ext cx="8442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VENTHS OF     THE WORLD'S SURFACE IS COVERED BY [ANSWER TO #7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57480" y="441972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OBBIT:  THE  BATTLE  OF  THE  FIVE  ARM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49360" y="762120"/>
            <a:ext cx="804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ANTASY FILM IS THE HIGHEST GROSSING FILM TO CONTAIN THE WORD [ANSWER TO #8]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LLERMO  DEL  T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54160" y="762120"/>
            <a:ext cx="8634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DIRECTOR DIRECTED [ANSWER TO #9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3400" y="761760"/>
            <a:ext cx="693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ION PICTURE ASSOCIATION OF AMERICA RATING OF [ANSWER TO #1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762120"/>
            <a:ext cx="848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[ANSWER TO #2] STAND FOR IN "RP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PUT OUT 3 VERSIONS OF THE SONG ENTITLED [SINGULAR OF ANSWER TO #3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98440" y="761760"/>
            <a:ext cx="674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[ANSWER TO #4] STARTS WITH THE LYRICS "I WAS ALONE, I TOOK A R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/ AFRO POP / FUNK BAND HAD A CHART-TOPPING COVER OF [ANSWER TO #5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8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ARISTOTLE'S 4 ELEMENTS IS NOT MENTIONED IN [ANSWER TO #6], BUT APPEARS IN [ANSWER TO #1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2040" y="761760"/>
            <a:ext cx="835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VENTHS OF     THE WORLD'S SURFACE IS COVERED BY [ANSWER TO #7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22:10:01Z</dcterms:modified>
  <cp:revision>383</cp:revision>
  <dc:subject/>
  <dc:title>Slide 1</dc:title>
</cp:coreProperties>
</file>