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26EB-378D-4AE9-91FB-1EC51A81C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581B-77E8-4856-B093-5085CD936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6EDB-F1CE-42C0-85EC-DD8427D87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B8A1-B0B3-4072-AC24-85DD99B9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FFA2-DB38-42FA-A909-8A5723AEC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42A-25EA-4D6A-8A09-7D84EFD1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0168-76BF-4BAA-8818-F250F04F5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442B-9D16-49BD-BE37-7910AEF63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247D-39FB-4CE9-A056-97355311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6B28-25E2-402C-AB86-286E3499C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BA27-89A3-4B76-84F4-1516F1795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02D5-1482-487A-A06A-CF8A8921E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FF96-7266-4F4F-B188-AA43A8379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7A9B-ECF2-4AD6-9A5C-EAA271D6F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E2750-F7D3-4322-93F2-C12C49E2A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DD7C-B65F-46F4-8704-8263A02B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AE14-DC89-4A29-9BD4-E79CD26A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CD8E-B71F-4499-B2C4-1F8045D7C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F59D-3DDE-4578-9747-CE02CFE4D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07C77-1B60-44C1-A548-C67DDFCE7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655-FF80-4F02-A250-401130853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C288-F8A1-4498-821B-BF7842F22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310A-8E8F-4A80-B44E-3C2BAAF2E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33560" y="1523880"/>
            <a:ext cx="527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ANTASY FILM IS THE HIGHEST GROSSING FILM TO CONTAIN THE WORD [ANSWER TO #8] IN ITS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DIRECTOR DIRECTED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HAPE  OF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4960" y="762120"/>
            <a:ext cx="807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7 FILM DID [ANSWER TO #10] WIN THE OSCAR FOR BEST DIRECTOR, IN ADDITION TO THE FILM  WINNING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87560" y="762120"/>
            <a:ext cx="696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ION PICTURE ASSOCIATION OF AMERICA RATING OF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[ANSWER TO #2] STAND FOR IN "RP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31880" y="762120"/>
            <a:ext cx="76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3 VERSIONS OF THE SONG ENTITLED [SINGULAR OF ANSWER TO #3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T  TO  GET  YOU  INTO  MY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[ANSWER TO #4] STARTS WITH THE LYRICS "I WAS ALONE, I TOOK A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TH,  WIND  &amp;  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/ AFRO POP / FUNK BAND HAD A CHART-TOPPING COVER OF [ANSWER TO #5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60360" y="762120"/>
            <a:ext cx="84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ARISTOTLE'S 4 ELEMENTS IS NOT MENTIONED IN [ANSWER TO #6], BUT APPEARS IN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34800" y="762120"/>
            <a:ext cx="847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17 FILM DID [ANSWER TO #10] WIN THE OSCAR FOR BEST DIRECTOR, IN ADDITION TO THE FILM  WINNING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51000" y="762120"/>
            <a:ext cx="8442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VENTHS OF     THE WORLD'S SURFACE IS COVERED BY [ANSWER TO #7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57480" y="441972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OBBIT:  THE  BATTLE  OF  THE  FIVE  ARM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49360" y="762120"/>
            <a:ext cx="80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FANTASY FILM IS THE HIGHEST GROSSING FILM TO CONTAIN THE WORD [ANSWER TO #8] IN IT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ILLERMO  DEL  TO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54160" y="762120"/>
            <a:ext cx="8634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XICAN DIRECTOR DIRECTED [ANSWER TO #9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03400" y="761760"/>
            <a:ext cx="693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ION PICTURE ASSOCIATION OF AMERICA RATING OF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[ANSWER TO #2] STAND FOR IN "RP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PUT OUT 3 VERSIONS OF THE SONG ENTITLED [SINGULAR OF ANSWER TO #3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98440" y="761760"/>
            <a:ext cx="6747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[ANSWER TO #4] STARTS WITH THE LYRICS "I WAS ALONE, I TOOK A R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/ AFRO POP / FUNK BAND HAD A CHART-TOPPING COVER OF [ANSWER TO #5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8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ARISTOTLE'S 4 ELEMENTS IS NOT MENTIONED IN [ANSWER TO #6], BUT APPEARS IN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92040" y="761760"/>
            <a:ext cx="8359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EVENTHS OF     THE WORLD'S SURFACE IS COVERED BY [ANSWER TO #7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22:10:01Z</dcterms:modified>
  <cp:revision>383</cp:revision>
  <dc:subject/>
  <dc:title>Slide 1</dc:title>
</cp:coreProperties>
</file>