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A662-E03E-4961-B8BE-AF9E2E95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353-65D8-4E78-A345-98604E58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E4D-7F8B-4A9C-874D-622A02AC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DEE-7F80-4093-A840-A3CB3705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508C-42D1-4387-A3A4-80ABC813A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DF7-F336-4BC3-992F-FFCDB9E0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160E-48C1-49ED-807A-BB9310A9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6A61-9680-4214-A6B9-5B739EA4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2AD-31DB-4B2D-8542-5F9FE2C8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429B-7801-425B-9091-743C16E55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37DA-190E-4270-A0FB-985F7E79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47B-8CC6-4F7F-B0E1-C455783C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0BE2-08AD-499B-B422-17780EC15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8372-2901-407A-B255-F2A79D5B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2A73-441F-455F-8D53-972E9081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AF9-7A90-4A6B-8752-27BC6929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196-6A6F-434B-A8BC-D534BF21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EA3-9117-48EB-BF61-3D3F90CB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F61-0999-4BA1-BEC2-7B87126E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EDDF-E75B-44F8-BC95-E98B69D7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474-B2DE-427D-86AD-F800960E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5D36-1CFE-42AA-A102-049304F6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120-CF25-4B97-BC98-D3D21FA5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33560" y="1523880"/>
            <a:ext cx="527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ANTASY FILM IS THE HIGHEST GROSSING FILM TO CONTAIN THE WORD [ANSWER TO #8]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DIRECTOR DIRECTED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PE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7 FILM DID [ANSWER TO #10] WIN THE OSCAR FOR BEST DIRECTOR, IN ADDITION TO THE FILM  WINNING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87560" y="762120"/>
            <a:ext cx="696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ION PICTURE ASSOCIATION OF AMERICA RATING OF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[ANSWER TO #2] STAND FOR IN "RP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3 VERSIONS OF THE SONG ENTITLED [SINGULAR OF 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T  TO  GET  YOU  INTO  MY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[ANSWER TO #4] STARTS WITH THE LYRICS "I WAS ALONE, I TOOK A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,  WIND  &amp;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/ AFRO POP / FUNK BAND HAD A CHART-TOPPING COVER OF [ANSWER TO #5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6036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ARISTOTLE'S 4 ELEMENTS IS NOT MENTIONED IN [ANSWER TO #6], BUT APPEARS IN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34800" y="762120"/>
            <a:ext cx="847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7 FILM DID [ANSWER TO #10] WIN THE OSCAR FOR BEST DIRECTOR, IN ADDITION TO THE FILM  WINNING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51000" y="762120"/>
            <a:ext cx="844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VENTHS OF     THE WORLD'S SURFACE IS COVERED BY [ANSWER TO #7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4197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BBIT:  THE  BATTLE  OF  THE  FIVE  AR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49360" y="762120"/>
            <a:ext cx="80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ANTASY FILM IS THE HIGHEST GROSSING FILM TO CONTAIN THE WORD [ANSWER TO #8]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LLERMO  DEL  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54160" y="762120"/>
            <a:ext cx="86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DIRECTOR DIRECTED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ION PICTURE ASSOCIATION OF AMERICA RATING OF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[ANSWER TO #2] STAND FOR IN "RP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3 VERSIONS OF THE SONG ENTITLED [SINGULAR OF 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98440" y="761760"/>
            <a:ext cx="674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[ANSWER TO #4] STARTS WITH THE LYRICS "I WAS ALONE, I TOOK A 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/ AFRO POP / FUNK BAND HAD A CHART-TOPPING COVER OF [ANSWER TO #5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8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ARISTOTLE'S 4 ELEMENTS IS NOT MENTIONED IN [ANSWER TO #6], BUT APPEARS IN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2040" y="761760"/>
            <a:ext cx="835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VENTHS OF     THE WORLD'S SURFACE IS COVERED BY [ANSWER TO #7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22:10:01Z</dcterms:modified>
  <cp:revision>383</cp:revision>
  <dc:subject/>
  <dc:title>Slide 1</dc:title>
</cp:coreProperties>
</file>