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95B-EB49-4FB7-B0E7-90A788359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F4A1-93E0-4613-970A-906FA419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24D5-1820-4641-8229-452FFE46B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885-9CE4-4F54-8682-F47E3AAA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8023-25B7-4896-ABAF-A871D535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51B-98BB-4BB5-890A-02DA8E11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9EEB-F310-4EB2-86FF-1C75315F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2A0-45F6-4E8B-9097-571D5D71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4F5-4D6E-489B-9E15-19C5DBC08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DC73-23F1-4D2D-BAAA-B4932772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AD2-50FE-4449-A1D8-069920AA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0F8C-88A3-40B2-B6B6-43F72A1C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EF8D-58B9-429F-A7A2-68164466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D66D-354B-415F-8239-CF6331C9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0634-3030-4BB5-B6FB-6A3115A5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612-2BD2-458B-A483-E1605DDA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2DBE-39E9-4FEB-B34E-D14F211E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9AF7-825F-4F78-95DD-A225F9E7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144-B68F-41FD-AE86-677FF192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EA55-4041-4DEF-8914-ED803AC4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2FEE-B919-4C62-89D2-93E825222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1562-891A-4B66-9EC8-6496C5659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5FE-F35B-4653-9A17-556FA085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2360" y="762120"/>
            <a:ext cx="86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EDUCATIONAL TESTING COMPETITOR TO THE (PLURAL OF 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00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W TESTAMENT BOOK OF (ANSWER TO #10), WHAT SAINT IS CONVERTED, BUT THEN IS TRIED AND IMPRIS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ONTAINS THE CITY OF (ANSWER TO #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8000" y="768240"/>
            <a:ext cx="65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1644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9200" y="72396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WILL SMITH FILM TITLE THAT BEGINS WITH (ANSWER TO #3, REPEATED TW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3960" y="762120"/>
            <a:ext cx="8234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00-1830, WHAT WAS THE MOST COMMON MODE OF PUBLIC TRANSPORTATION IN THE (ANSWER TO #4) REGION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1939 FILM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6) PLAYED DAVY CROCKETT IN WHAT 1960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W TESTAMENT BOOK OF (ANSWER TO #10), WHAT SAINT IS CONVERTED, BUT THEN IS TRIED AND IMPRIS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(ANSWER TO #7)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95200" y="762120"/>
            <a:ext cx="855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EDUCATIONAL TESTING COMPETITOR TO THE (PLURAL OF 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ONTAINS THE CITY OF (ANSWER TO #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2440" y="762120"/>
            <a:ext cx="66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WILL SMITH FILM TITLE THAT BEGINS WITH (ANSWER TO #3, REPEATED TW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00-1830, WHAT WAS THE MOST COMMON MODE OF PUBLIC TRANSPORTATION IN THE (ANSWER TO #4) REGION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1939 FILM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6) PLAYED DAVY CROCKETT IN WHAT 1960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(ANSWER TO #7)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11:15Z</dcterms:modified>
  <cp:revision>346</cp:revision>
  <dc:subject/>
  <dc:title>Slide 1</dc:title>
</cp:coreProperties>
</file>