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293D-F746-4E79-BA9E-47FC8C65A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FACA-7BC8-421A-B16B-06073C7FA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BF9B-BFB5-4A46-AC0F-5DB8501E8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785F-009D-41B2-9969-EDB94DA45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7B61-AE11-454C-96DF-4A21D7F1B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2AE7-F33C-48A6-968F-008AFCBDF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ABC3-C8B9-4E85-95F9-CD6B33550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E752-77A4-46DA-8796-741C02CD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B0BF-3FFC-4EB2-9E47-8C6BD28E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4577-D765-4C35-927E-362E3F6D8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FE38-9402-448C-890E-B45B074CF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2C54-2BAE-4E6E-86CC-E2C71DEF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AE2E-320C-49CF-B2CA-4924EBF4B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718E-0365-4614-B03E-D70AEDAD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BF81-0A37-40AC-9E58-301180474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2A94-2491-4257-AC6F-14AB79ECB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D337-4BEF-44E9-ABA4-4A21DB77D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CF92-0242-4789-B4AD-3F6718EFE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DCA3-EB8D-4466-8F5A-5D8B951F9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FD23-AC1B-45A0-BBA2-47ED0B7A6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A41E-A0DF-49FD-9C1C-E9D9775B5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F036-23AB-4141-8EEE-99584AF6D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77D9-2768-401C-A0EC-6D0022D0C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IRPORT CODE FOR (ANSWER TO #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52360" y="762120"/>
            <a:ext cx="863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EDUCATIONAL TESTING COMPETITOR TO THE (PLURAL OF 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00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7240" y="762120"/>
            <a:ext cx="722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EW TESTAMENT BOOK OF (ANSWER TO #10), WHAT SAINT IS CONVERTED, BUT THEN IS TRIED AND IMPRISO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ONTAINS THE CITY OF (ANSWER TO #1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78000" y="768240"/>
            <a:ext cx="65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HL TEAM BASED IN (ANSWER TO #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1644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19200" y="723960"/>
            <a:ext cx="79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WILL SMITH FILM TITLE THAT BEGINS WITH (ANSWER TO #3, REPEATED TWIC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GEC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3960" y="762120"/>
            <a:ext cx="8234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800-1830, WHAT WAS THE MOST COMMON MODE OF PUBLIC TRANSPORTATION IN THE (ANSWER TO #4) REGION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THE 1939 FILM (ANSWER TO #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SWER TO #6) PLAYED DAVY CROCKETT IN WHAT 1960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14320" y="762120"/>
            <a:ext cx="751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EW TESTAMENT BOOK OF (ANSWER TO #10), WHAT SAINT IS CONVERTED, BUT THEN IS TRIED AND IMPRISO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T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05040" y="762120"/>
            <a:ext cx="733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(ANSWER TO #7)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76440" y="762120"/>
            <a:ext cx="77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IRPORT CODE FOR (ANSWER TO #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T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95200" y="762120"/>
            <a:ext cx="8553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EDUCATIONAL TESTING COMPETITOR TO THE (PLURAL OF 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ONTAINS THE CITY OF (ANSWER TO #1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2440" y="762120"/>
            <a:ext cx="66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HL TEAM BASED IN (ANSWER TO #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WILL SMITH FILM TITLE THAT BEGINS WITH (ANSWER TO #3, REPEATED TWIC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800-1830, WHAT WAS THE MOST COMMON MODE OF PUBLIC TRANSPORTATION IN THE (ANSWER TO #4) REGION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THE 1939 FILM (ANSWER TO #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SWER TO #6) PLAYED DAVY CROCKETT IN WHAT 1960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(ANSWER TO #7)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11:15Z</dcterms:modified>
  <cp:revision>346</cp:revision>
  <dc:subject/>
  <dc:title>Slide 1</dc:title>
</cp:coreProperties>
</file>