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81C1-B63E-48CE-AA0C-20D15EFD5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A021-F7DA-4F76-AF82-73990F3E9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35D99-2271-4E50-B786-711A3B92B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A1DC-DF8E-4EDE-BA5F-8059AE3E6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7B759-18B7-4F49-B445-A50A765A0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5E22-FEF8-4C3C-AB9F-D7A33E74F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025A-3FE2-477D-BDCA-81215C8EA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0FEF-984F-4FD3-9C35-A2A27189B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DB77-34B7-41CA-BA6D-6C83039D6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A86D-829A-4138-B1D2-B649998F8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F3B9-5772-435B-917E-E270BBBE6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A288-FA4F-4277-9806-7FC208EAA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8FCF-64DE-49B2-93CA-0026A2E05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242F3-5C3D-4533-9F16-55A3E83E3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4A33-3DA7-4C19-883B-DF665CA68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9303-E0B3-4B6C-A002-6350FFF85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6F68-F23C-48DE-92BC-C8177C43D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490B-76A8-450E-A3AC-4B85B6502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63BC-ABF2-4157-8CEA-314C0A50CC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249B-5052-43DD-851D-5AF75784F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60428-A734-4E66-9199-62FE63AD3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84D5-89B9-43F8-8F41-31B858B2D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BA36-370E-449A-BDD9-18BED9887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IN REACTION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AIRPORT CODE FOR (ANSWER TO #8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52360" y="762120"/>
            <a:ext cx="8639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EDUCATIONAL TESTING COMPETITOR TO THE (PLURAL OF ANSWER TO #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006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INT  PA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7240" y="762120"/>
            <a:ext cx="7229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EW TESTAMENT BOOK OF (ANSWER TO #10), WHAT SAINT IS CONVERTED, BUT THEN IS TRIED AND IMPRISO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CONTAINS THE CITY OF (ANSWER TO #1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278000" y="768240"/>
            <a:ext cx="658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NHL TEAM BASED IN (ANSWER TO #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16440"/>
            <a:ext cx="84582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19200" y="723960"/>
            <a:ext cx="790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WILL SMITH FILM TITLE THAT BEGINS WITH (ANSWER TO #3, REPEATED TWIC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0060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GEC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3960" y="762120"/>
            <a:ext cx="8234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1800-1830, WHAT WAS THE MOST COMMON MODE OF PUBLIC TRANSPORTATION IN THE (ANSWER TO #4) REGION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THE 1939 FILM (ANSWER TO #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LA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NSWER TO #6) PLAYED DAVY CROCKETT IN WHAT 1960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14320" y="762120"/>
            <a:ext cx="7515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NEW TESTAMENT BOOK OF (ANSWER TO #10), WHAT SAINT IS CONVERTED, BUT THEN IS TRIED AND IMPRISON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0060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ANTON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05040" y="762120"/>
            <a:ext cx="7333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(ANSWER TO #7)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76440" y="762120"/>
            <a:ext cx="7791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3-LETTER AIRPORT CODE FOR (ANSWER TO #8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CT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95200" y="762120"/>
            <a:ext cx="8553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EDUCATIONAL TESTING COMPETITOR TO THE (PLURAL OF ANSWER TO #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 CONTAINS THE CITY OF (ANSWER TO #1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52440" y="762120"/>
            <a:ext cx="66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NHL TEAM BASED IN (ANSWER TO #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WORD IN THE WILL SMITH FILM TITLE THAT BEGINS WITH (ANSWER TO #3, REPEATED TWIC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1800-1830, WHAT WAS THE MOST COMMON MODE OF PUBLIC TRANSPORTATION IN THE (ANSWER TO #4) REGION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THE 1939 FILM (ANSWER TO #5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NSWER TO #6) PLAYED DAVY CROCKETT IN WHAT 1960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ITY IS (ANSWER TO #7)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6T22:11:15Z</dcterms:modified>
  <cp:revision>346</cp:revision>
  <dc:subject/>
  <dc:title>Slide 1</dc:title>
</cp:coreProperties>
</file>