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2382-2A9A-4914-A8C1-CC66EC4CE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CAEA-75FF-4FF4-AF8D-1E94AEC35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34DC-CE2E-4A6D-B7B4-5224B7B15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110A-AD9C-444F-9BC4-1A3659125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D46A-04BB-4B2C-B8A8-AC60F04D4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9EA1-2CCC-4FDE-9B2F-FA4945E8B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E151-CB37-4DE0-B7A2-AE3B565AE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2F34-6EA0-4252-9CC6-FF9B592BD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02F8-65AA-4089-A7CF-A1432B42B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F775-F44C-46FB-A5E9-26FDD7DD3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C0BD-DE7D-4206-A69F-81EF96C69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3D8E-94DF-41EC-A587-E95539433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AC44-0B46-4DDC-B255-ACA2FC771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D363-98E8-449E-BCF6-4DF4C003C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0424-6A11-46AA-A1A7-101F65720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9CEC-E048-43BA-B6B7-46F3BAD01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0221-78F0-44B1-AA51-EE28072ED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A06C-ADA4-46AC-ABC5-50DF66FE4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74AF-4ABE-423E-B988-E4B28D4DC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ACF5-4E64-42CA-AC49-B2D87968A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1501-6C59-48E9-B676-8701E0FBA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9757-C082-4F8A-ADAD-A0EA58F32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B561-CFC2-42B4-A641-62A1ADFA6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IN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85880" y="761760"/>
            <a:ext cx="757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ENDER'S GAME", WHICH CAN FOLLOW [ANSWER TO #8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25440" y="762120"/>
            <a:ext cx="849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IN "NYSE" STAND FOR, WHICH CAN FOLLOW [ANSWER TO #9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723960" y="4419720"/>
            <a:ext cx="7696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ATIONAL  ASSOCIATION  OF STOCK)  CAR  (AUTO  RAC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33480" y="762120"/>
            <a:ext cx="7277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AT DOES THE "C" IN "NASCAR" STAND FOR, WHICH CAN FOLLOW [ANSWER TO #10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TRAWBERRY)  ALARM  (CLO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93560" y="762120"/>
            <a:ext cx="8156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DDLE WORD IN THE NAME OF THE GROUP WHO SANG "INCENSE AND PEPPERMINTS", WHICH CAN FOLLOW [ANSWER TO #1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KRISTEN)  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38240" y="762120"/>
            <a:ext cx="88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STARRED IN "VERONICA MARS", WHICH CAN FOLLOW [ANSWER TO #2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46040" y="762120"/>
            <a:ext cx="825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1 ANIMATED FILM DID HUGH LAURIE VOICE THE EASTER BUNNY, WHICH CAN FOLLOW [ANSWER TO #3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01520" y="762120"/>
            <a:ext cx="8940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WAR'S, JOHNNIE WALKER, AND BUCHANAN ARE THE LEADING BRANDS OF WHAT, WHICH CAN FOLLOW [ANSWER TO #4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PE  (F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28600" y="762120"/>
            <a:ext cx="5208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"NAME" OF THIS COMIC, WHICH CAN FOLLOW [ANSWER TO #5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673600" y="1523880"/>
            <a:ext cx="3013200" cy="266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3880" y="762120"/>
            <a:ext cx="78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NIS RODMAN WAS NICKNAMED THE WHAT, WHICH CAN FOLLOW [ANSWER TO #6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33560" y="762120"/>
            <a:ext cx="7076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AT DOES THE "C" IN "NASCAR" STAND FOR, WHICH CAN FOLLOW [ANSWER TO #10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0040" y="762120"/>
            <a:ext cx="8143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USAGES IN YORKSHIRE PUDDING BATTER IS KNOWN BY THE NICKNAME "TOAD IN THE ____", WHICH CAN FOLLOW [ANSWER TO #7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RSON  SCOTT) 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82640" y="762120"/>
            <a:ext cx="7577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ENDER'S GAME", WHICH CAN FOLLOW [ANSWER TO #8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EW  YORK)  STOCK  (EXCHAN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IN "NYSE" STAND FOR, WHICH CAN FOLLOW [ANSWER TO #9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6520" y="761760"/>
            <a:ext cx="813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DDLE WORD IN THE NAME OF THE GROUP WHO SANG "INCENSE AND PEPPERMINTS", WHICH CAN FOLLOW [ANSWER TO #1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36440" y="762120"/>
            <a:ext cx="887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STARRED IN "VERONICA MARS", WHICH CAN FOLLOW [ANSWER TO #2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5520" y="76212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1 ANIMATED FILM DID HUGH LAURIE VOICE THE EASTER BUNNY, WHICH CAN FOLLOW [ANSWER TO #3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WAR'S, JOHNNIE WALKER, AND BUCHANAN ARE THE LEADING BRANDS OF WHAT, WHICH CAN FOLLOW [ANSWER TO #4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5081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"NAME" OF THIS COMIC, WHICH CAN FOLLOW [ANSWER TO #5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673600" y="1523880"/>
            <a:ext cx="301320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87320" y="761760"/>
            <a:ext cx="7569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NIS RODMAN WAS NICKNAMED THE WHAT, WHICH CAN FOLLOW [ANSWER TO #6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84200" y="761760"/>
            <a:ext cx="8175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USAGES IN YORKSHIRE PUDDING BATTER IS KNOWN BY THE NICKNAME "TOAD IN THE ____", WHICH CAN FOLLOW [ANSWER TO #7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9-19T13:37:00Z</dcterms:modified>
  <cp:revision>408</cp:revision>
  <dc:subject/>
  <dc:title>Slide 1</dc:title>
</cp:coreProperties>
</file>