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7054-A80E-424C-B703-03E079541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B317-9AEA-4E5F-BB03-5EE387342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79E2-4B0C-4ACB-9CA3-C0711F9EE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8043-4811-4815-9D56-CB7BCE7CD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A01D-6561-4234-86ED-7CC8931D9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82A8-DD1B-47D5-B131-59E6A1EA5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4A3C-3565-48AF-BB2D-2FCEDAB49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2830-9C5C-4F2D-B3A6-E2378B5FB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8E9A-3FA7-4A95-8E4A-25A607B64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2F7E-868C-4384-A76A-8FE3CAB5F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9BA6-75EE-4969-B0D4-A4D659BB1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CA97-7859-4EB5-B1C3-935DE4A9B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4909-3EE7-4BDC-9398-0A883CE62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2C82-ECC4-423A-95FC-74F437B32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91B0-EA14-4CD0-A108-83C0C91C4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57DF-4332-48E0-946B-60C88DDBD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E3CA-963E-4F29-ABFB-85925A616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D2E1-0628-4622-AD95-5400CB78D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CBED-D25F-4447-853D-2DCDA220C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50DB-99F1-46EB-948A-3E927B911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BBDF-066B-4BAC-806E-AF41158F2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7CEA-9C73-4749-A619-9A9F55496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A5BC-D292-41E4-B0C5-2EE4BD093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IN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85880" y="76176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ENDER'S GAME", WHICH CAN FOLLOW [ANSWER TO #8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25440" y="762120"/>
            <a:ext cx="849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IN "NYSE" STAND FOR, WHICH CAN FOLLOW [ANSWER TO #9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723960" y="4419720"/>
            <a:ext cx="769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ATIONAL  ASSOCIATION  OF STOCK)  CAR  (AUTO  RAC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33480" y="762120"/>
            <a:ext cx="7277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AT DOES THE "C" IN "NASCAR" STAND FOR, WHICH CAN FOLLOW [ANSWER TO #10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TRAWBERRY)  ALARM  (CLO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93560" y="762120"/>
            <a:ext cx="8156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DDLE WORD IN THE NAME OF THE GROUP WHO SANG "INCENSE AND PEPPERMINTS", WHICH CAN FOLLOW [ANSWER TO #1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KRISTEN)  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38240" y="762120"/>
            <a:ext cx="88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STARRED IN "VERONICA MARS", WHICH CAN FOLLOW [ANSWER TO #2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46040" y="762120"/>
            <a:ext cx="825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ANIMATED FILM DID HUGH LAURIE VOICE THE EASTER BUNNY, WHICH CAN FOLLOW [ANSWER TO #3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01520" y="762120"/>
            <a:ext cx="8940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WAR'S, JOHNNIE WALKER, AND BUCHANAN ARE THE LEADING BRANDS OF WHAT, WHICH CAN FOLLOW [ANSWER TO #4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PE  (F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28600" y="762120"/>
            <a:ext cx="5208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"NAME" OF THIS COMIC, WHICH CAN FOLLOW [ANSWER TO #5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673600" y="1523880"/>
            <a:ext cx="3013200" cy="266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3880" y="762120"/>
            <a:ext cx="78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NIS RODMAN WAS NICKNAMED THE WHAT, WHICH CAN FOLLOW [ANSWER TO #6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33560" y="762120"/>
            <a:ext cx="707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AT DOES THE "C" IN "NASCAR" STAND FOR, WHICH CAN FOLLOW [ANSWER TO #10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0040" y="762120"/>
            <a:ext cx="814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USAGES IN YORKSHIRE PUDDING BATTER IS KNOWN BY THE NICKNAME "TOAD IN THE ____", WHICH CAN FOLLOW [ANSWER TO #7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RSON  SCOTT) 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82640" y="762120"/>
            <a:ext cx="7577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ENDER'S GAME", WHICH CAN FOLLOW [ANSWER TO #8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EW  YORK)  STOCK  (EXCHAN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IN "NYSE" STAND FOR, WHICH CAN FOLLOW [ANSWER TO #9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6520" y="761760"/>
            <a:ext cx="813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DDLE WORD IN THE NAME OF THE GROUP WHO SANG "INCENSE AND PEPPERMINTS", WHICH CAN FOLLOW [ANSWER TO #1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6440" y="762120"/>
            <a:ext cx="887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STARRED IN "VERONICA MARS", WHICH CAN FOLLOW [ANSWER TO #2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5520" y="76212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ANIMATED FILM DID HUGH LAURIE VOICE THE EASTER BUNNY, WHICH CAN FOLLOW [ANSWER TO #3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WAR'S, JOHNNIE WALKER, AND BUCHANAN ARE THE LEADING BRANDS OF WHAT, WHICH CAN FOLLOW [ANSWER TO #4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5081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"NAME" OF THIS COMIC, WHICH CAN FOLLOW [ANSWER TO #5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673600" y="1523880"/>
            <a:ext cx="301320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7320" y="761760"/>
            <a:ext cx="7569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NIS RODMAN WAS NICKNAMED THE WHAT, WHICH CAN FOLLOW [ANSWER TO #6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84200" y="761760"/>
            <a:ext cx="817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USAGES IN YORKSHIRE PUDDING BATTER IS KNOWN BY THE NICKNAME "TOAD IN THE ____", WHICH CAN FOLLOW [ANSWER TO #7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9-19T13:37:00Z</dcterms:modified>
  <cp:revision>408</cp:revision>
  <dc:subject/>
  <dc:title>Slide 1</dc:title>
</cp:coreProperties>
</file>