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6F22-7F70-4660-85A7-D1E72D74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A7CA-05D5-4348-A40F-C13828E0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85F0-9B24-4506-8124-B1C459A7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770A-6056-401E-9AF5-89BC0D013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3393-262D-4152-A835-8862FBF8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03B7-79C8-4D23-A6E9-CE2FE2F18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0EAE-0130-4FDF-AE1A-1021145B7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809C-77DB-448A-B334-4AF3D493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6EE-6F61-4477-B996-69EEDD43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898A-4BDC-4CE7-8577-5B26B156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A2F-D4BC-48C2-83A7-036B2900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D06F-961F-4993-9112-EE64DA4F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6483-4CB8-4B51-84AD-735F2865C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4DFA-962B-4D83-BFE7-C93B0662F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F362-968B-48F3-9183-79694F017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6E0-8B50-4CED-BE1F-FE0B9916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2CA-F505-47CA-93CB-9990A523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FC9-58AF-4436-B937-044EB7FB6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D81-99DD-4685-873B-F36FA53B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FD5A-4D5F-4D65-8947-79367D857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BE37-F05F-41D9-B521-674C57855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B7AF-791C-4770-AB47-333C1ECB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E48B-E3D0-4A72-A9C2-0EEB57AD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62080" y="1523880"/>
            <a:ext cx="6819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ET CHAI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SONG "MOCKINGBIRD" WITH HIS WIFE, [ANSWER TO #8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BACKUP VOCALS ON "YOU'RE SO VAIN" BY [ANSWER TO #9], AND IS ONE PERSON SUSPECTED OF MOTIVATING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4160" y="762120"/>
            <a:ext cx="7375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SONG "STATE OF SHOCK" WITH HIS BROTHERS AND [ANSWER TO #10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69920" y="762120"/>
            <a:ext cx="700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SONG "SAY SAY SAY" WITH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66960" y="762120"/>
            <a:ext cx="72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SONG "EBONY AND IVORY" WITH [ANSWER TO #2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68360" y="762120"/>
            <a:ext cx="820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PUT "FOR ONCE    IN MY LIFE" ON THE POP CHARTS, AND WON A GRAMMY FOR SINGING THAT SONG WITH [ANSWER TO #3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[ANSWER TO #5] MADE "RAGS TO RICHES" A #1 SONG IN 1953, WHO SANG THIS SONG WITH HIM AS A DUET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HE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DUET ALBUM OF [ANSWER TO #5], WHO SANG THE #1 TEMPTATIONS SONG "SHAKEY GROUND" WITH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RONSTA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ITLE SONG OFF HER #1 ALBUM "HASTEN DOWN THE WIND" WITH [ANSWER TO #6] BEFORE       HE JOINED 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8720" y="762120"/>
            <a:ext cx="7304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SONG "STATE OF SHOCK" WITH HIS BROTHERS AND [ANSWER TO #10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14280" y="762120"/>
            <a:ext cx="8515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SHE COVERED HIS SONG "YOU CAN CLOSE YOUR EYES", WHO SANG WITH [ANSWER TO #7] ON HER 1982 SONG "I THINK IT'S GONNA WORK OUT F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4240" y="762120"/>
            <a:ext cx="7715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SONG "MOCKINGBIRD" WITH HIS WIFE, [ANSWER TO #8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BACKUP VOCALS ON "YOU'RE SO VAIN" BY [ANSWER TO #9], AND IS ONE PERSON SUSPECTED OF MOTIVATING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58760" y="761760"/>
            <a:ext cx="702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SONG "SAY SAY SAY" WITH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" y="762120"/>
            <a:ext cx="738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SONG "EBONY AND IVORY" WITH [ANSWER TO #2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PUT "FOR ONCE    IN MY LIFE" ON THE POP CHARTS, AND WON A GRAMMY FOR SINGING THAT SONG WITH [ANSWER TO #3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79440" y="762120"/>
            <a:ext cx="838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[ANSWER TO #4] MADE "RAGS TO RICHES" A #1 SONG IN 1953, WHO SANG THIS SONG WITH HIM AS A DUET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4200" y="761760"/>
            <a:ext cx="8175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DUET ALBUM OF [ANSWER TO #5], WHO SANG THE #1 TEMPTATIONS SONG "SHAKEY GROUND" WITH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ITLE SONG OFF HER #1 ALBUM "HASTEN DOWN THE WIND" WITH [ANSWER TO #6] BEFORE       HE JOINED TH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4520" y="761760"/>
            <a:ext cx="845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SHE COVERED HIS SONG "YOU CAN CLOSE YOUR EYES", WHO SANG WITH [ANSWER TO #7] ON HER 1982 SONG "I THINK IT'S GONNA WORK OUT F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0T12:54:10Z</dcterms:modified>
  <cp:revision>380</cp:revision>
  <dc:subject/>
  <dc:title>Slide 1</dc:title>
</cp:coreProperties>
</file>