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25E3-E8F5-4159-966C-35F20B8C9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85C4-0DDF-4F36-803F-B4B8E7FC3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EEDD-64A8-41BB-B9CD-70CC993A1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48E9-AB24-4908-8C02-C4D42F05D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1581-F64A-4709-8148-9D46BF288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9547-D6D9-4F83-85C7-4E3DD8F1A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3762-3CF2-4DA9-A722-F0423869C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6716C-A4BB-4E94-8966-B655DF2CF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8917-067E-455A-B699-C9248221A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8EEB-1126-4596-A89A-0EC26BEB8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ADCF-B30F-41F6-910B-80546C1EC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1BB1-CBA5-47FD-8AA2-C4BBCA537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4C30-0964-44E7-8256-0F219C951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416F-DA7F-498D-8455-B3AD70C4B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B4CCE-8D6E-41D3-A1B8-5A28FA460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2AAA-34EE-4B8E-B454-6A58665BB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2355-6A88-476E-AF91-DDA021641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45B9-8ADD-468B-B15C-D5EFF6E07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02B2-1001-4CE9-9F04-5A824F138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9819-0F41-4233-9E05-0F5C11F54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CAD1-CCCA-4728-995F-1A5BAD4E5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4C75-7FB2-4737-ABED-4CC2E0B65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F61F-AD77-4FE3-BCCA-A87F31178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62080" y="1523880"/>
            <a:ext cx="68198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UET CHAIN RE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76440" y="761760"/>
            <a:ext cx="7791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TOP-10 SONG "MOCKINGBIRD" WITH HIS WIFE, [ANSWER TO #8]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89120" y="762120"/>
            <a:ext cx="7565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BACKUP VOCALS ON "YOU'RE SO VAIN" BY [ANSWER TO #9], AND IS ONE PERSON SUSPECTED OF MOTIVATING THE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84160" y="762120"/>
            <a:ext cx="7375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TOP-10 SONG "STATE OF SHOCK" WITH HIS BROTHERS AND [ANSWER TO #10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MCCART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069920" y="762120"/>
            <a:ext cx="70041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HIT SONG "SAY SAY SAY" WITH [ANSWER TO #1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IE  WO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66960" y="762120"/>
            <a:ext cx="7210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HIT SONG "EBONY AND IVORY" WITH [ANSWER TO #2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NY  BENNE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68360" y="762120"/>
            <a:ext cx="8205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IRST PUT "FOR ONCE    IN MY LIFE" ON THE POP CHARTS, AND WON A GRAMMY FOR SINGING THAT SONG WITH [ANSWER TO #3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TON  JO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24000" y="762120"/>
            <a:ext cx="8496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LE [ANSWER TO #5] MADE "RAGS TO RICHES" A #1 SONG IN 1953, WHO SANG THIS SONG WITH HIM AS A DUET IN 200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  HEN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THE DUET ALBUM OF [ANSWER TO #5], WHO SANG THE #1 TEMPTATIONS SONG "SHAKEY GROUND" WITH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NDA  RONSTAD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07880" y="762120"/>
            <a:ext cx="8326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TITLE SONG OFF HER #1 ALBUM "HASTEN DOWN THE WIND" WITH [ANSWER TO #6] BEFORE       HE JOINED THE EAG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18720" y="762120"/>
            <a:ext cx="7304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TOP-10 SONG "STATE OF SHOCK" WITH HIS BROTHERS AND [ANSWER TO #10]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TAY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14280" y="762120"/>
            <a:ext cx="8515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SHE COVERED HIS SONG "YOU CAN CLOSE YOUR EYES", WHO SANG WITH [ANSWER TO #7] ON HER 1982 SONG "I THINK IT'S GONNA WORK OUT F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LY  SI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14240" y="762120"/>
            <a:ext cx="7715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TOP-10 SONG "MOCKINGBIRD" WITH HIS WIFE, [ANSWER TO #8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K  JAG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BACKUP VOCALS ON "YOU'RE SO VAIN" BY [ANSWER TO #9], AND IS ONE PERSON SUSPECTED OF MOTIVATING THE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58760" y="761760"/>
            <a:ext cx="7026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HIT SONG "SAY SAY SAY" WITH [ANSWER TO #1]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80920" y="762120"/>
            <a:ext cx="7382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#1 HIT SONG "EBONY AND IVORY" WITH [ANSWER TO #2]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09760" y="762120"/>
            <a:ext cx="8124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IRST PUT "FOR ONCE    IN MY LIFE" ON THE POP CHARTS, AND WON A GRAMMY FOR SINGING THAT SONG WITH [ANSWER TO #3]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79440" y="762120"/>
            <a:ext cx="838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LE [ANSWER TO #4] MADE "RAGS TO RICHES" A #1 SONG IN 1953, WHO SANG THIS SONG WITH HIM AS A DUET IN 200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84200" y="761760"/>
            <a:ext cx="8175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THE DUET ALBUM OF [ANSWER TO #5], WHO SANG THE #1 TEMPTATIONS SONG "SHAKEY GROUND" WITH HI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79440" y="761760"/>
            <a:ext cx="8383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TITLE SONG OFF HER #1 ALBUM "HASTEN DOWN THE WIND" WITH [ANSWER TO #6] BEFORE       HE JOINED THE EAG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44520" y="761760"/>
            <a:ext cx="8454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FTER SHE COVERED HIS SONG "YOU CAN CLOSE YOUR EYES", WHO SANG WITH [ANSWER TO #7] ON HER 1982 SONG "I THINK IT'S GONNA WORK OUT F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7-10T12:54:10Z</dcterms:modified>
  <cp:revision>380</cp:revision>
  <dc:subject/>
  <dc:title>Slide 1</dc:title>
</cp:coreProperties>
</file>