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0A08-D841-4B07-8E22-C162046D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42A-2787-44A6-B831-16242A6A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719-04A0-4C10-BF72-71C6A56E5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EB7D-BCF1-465C-9B78-49A0B43A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608F-F599-4FBB-9616-ACF7EE76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CB22-3A02-4B67-8B35-94D8E69C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11D-BB72-4FC0-A0EB-1690DAC4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733-3DDD-4049-9E1C-E4DB4CBD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FAF-03BE-4340-ABC0-049604F13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F4AA-45A9-4A98-ADFB-ECAC047F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FDD-4E89-43FC-BB49-F771516D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01CE-F0C2-44C2-A026-481B4DE3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E62-5490-4F17-A365-1D12684F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CE9-A789-4FE6-948E-3F14F66F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736D-8F44-4B49-8A49-1EAC832F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046D-77E7-4DEC-8658-85CEEA40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94BD-1983-4287-BA9E-D90402E9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228-7806-493F-94FA-C8DDA64E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2680-733D-459A-963E-8EBCC1CD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078D-4130-4650-B3DF-D364E8F2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5B6-B7CE-4BD5-8C3C-88D5477F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773-5176-4748-8054-5BCA841D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54C-2B8E-403F-BF4B-0B01B83F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205740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(FREE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 THE ACTOR WHO STARRED IN "DRIVING MISS DAISY" AND "THE SHAWSHANK REDEMP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8304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STARRED IN "DRIVING MISS DAISY" AND "THE SHAWSHANK REDEMP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(COUS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CAP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7:10:49Z</dcterms:created>
  <dc:creator>Jennifer Budzinski</dc:creator>
  <dc:description/>
  <dc:language>en-US</dc:language>
  <cp:lastModifiedBy>Erich Friedman</cp:lastModifiedBy>
  <dcterms:modified xsi:type="dcterms:W3CDTF">2020-08-23T16:26:58Z</dcterms:modified>
  <cp:revision>323</cp:revision>
  <dc:subject/>
  <dc:title>Slide 1</dc:title>
</cp:coreProperties>
</file>