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65E8-7339-4185-86C2-66910A781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47AE-124A-49C2-B4D1-99A8A3C61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A8CB-5079-452B-9F86-6BE7BDEF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7E6A-3BA5-447F-A8C5-934E5181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614F-CC36-4568-BFC5-CE3C2BBD2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683F-5B73-48AE-9462-748DC5CC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EDE3-F70E-4158-B51E-3ED540B4D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EBC5-67F9-42DB-BB75-894FFB9D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7F68-9CD2-43EC-9418-B6621EDC5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C463-B777-4055-8712-686E1D6AE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A31C-3A60-4206-8EEE-225B3D006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0F96-D7F1-43A3-BE78-ECCC1305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8FC5-3155-4D19-9FEE-7D1B17B8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2FBC-5815-4119-B81A-9362F987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3F76-BA55-44BB-8F64-4419A49F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3F63-FEF0-4DEB-A8DD-77338AD0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110D-CB7B-46EA-A137-42F04B5BA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41E7-8988-4C77-858B-B05A0111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3BCE-3A78-4C6C-BD07-F63717A14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10E5-972F-4A0A-86B4-357B18787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D323-6590-4305-8140-2F207BEAC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B3F0-6C13-4E76-A1D5-2A0DDE6DC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FCB3-4BEE-4B22-822A-321F5C55B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Passer_domesticus_male_(15).jpg"/>
          <p:cNvPicPr/>
          <p:nvPr/>
        </p:nvPicPr>
        <p:blipFill>
          <a:blip r:embed="rId1"/>
          <a:stretch/>
        </p:blipFill>
        <p:spPr>
          <a:xfrm>
            <a:off x="2413080" y="2057400"/>
            <a:ext cx="4317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5256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GAN  (FREE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66760" y="7621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 THE ACTOR WHO STARRED IN "DRIVING MISS DAISY" AND "THE SHAWSHANK REDEMP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XERCISE THAT CONSISTS OF HALF OF A SIT-U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8304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LOWN FISH THAT STARRED IN A 2003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NATIONAL SYMBOL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CHICAGO LOCAT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RAPPER SANG "ONE DANCE", "WORK", AND "HOTLINE B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ORSE WITH NO NAME" AND 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STARRED IN "DRIVING MISS DAISY" AND "THE SHAWSHANK REDEMP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(COUS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WHO STARTED FOR THE REDSKINS 2015-2017 AND THE VIKINGS EVER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19040" y="76212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Passer_domesticus_male_(15).jpg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CAP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19040" y="762120"/>
            <a:ext cx="8305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XERCISE THAT CONSISTS OF HALF OF A SIT-UP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LOWN FISH THAT STARRED IN A 2003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NATIONAL SYMBOL OF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26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CHICAGO LOCAT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RAPPER SANG "ONE DANCE", "WORK", AND "HOTLINE B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HORSE WITH NO NAME" AND VENTUR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WHO STARTED FOR THE REDSKINS 2015-2017 AND THE VIKINGS EVER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7:10:49Z</dcterms:created>
  <dc:creator>Jennifer Budzinski</dc:creator>
  <dc:description/>
  <dc:language>en-US</dc:language>
  <cp:lastModifiedBy>Erich Friedman</cp:lastModifiedBy>
  <dcterms:modified xsi:type="dcterms:W3CDTF">2020-08-23T16:26:58Z</dcterms:modified>
  <cp:revision>323</cp:revision>
  <dc:subject/>
  <dc:title>Slide 1</dc:title>
</cp:coreProperties>
</file>