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DCD0-F76B-4C2B-A2BA-4894E97CE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4E5D-BA9A-4EDB-96AA-890F2461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C1A0-0FB5-4E0B-AABD-D4E0E5901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D8EC-7DA8-49C6-B7CA-1FC3EA94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A5BC-B4A4-4432-B822-2C501D44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3F1F-F100-45F5-9D74-F000388B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459A-0132-4ACD-9518-71CC54A0F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D97-6A5D-49FD-96CB-435B50123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A22A-DF32-4AFB-B462-8B9448B4E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43B2-8F56-4EE9-9A7B-2CD429957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F0B-9296-4A19-AFE2-1F34D180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4186-1581-4A78-B0D3-581A69CA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A2F1-4750-4624-B7CF-DCF5C057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3A35-2D37-4DD8-ADDF-BD72860B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76F-270D-48F9-A20C-EC65C6104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60C3-A6B0-43F7-98B5-C95B4B48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5DD3-1A1E-4ED6-AAAC-84A9D3186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0503-B1A9-4D0D-BB58-8642DDF9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D858-485D-4F84-B92D-268678F37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F275-615C-4337-BB17-F23F713E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5040-0886-410B-AF67-249C958A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500A-A233-47B4-B197-84CE9BFA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86A2-8E15-4A8A-ADF6-F593E10CC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Passer_domesticus_male_(15).jpg"/>
          <p:cNvPicPr/>
          <p:nvPr/>
        </p:nvPicPr>
        <p:blipFill>
          <a:blip r:embed="rId1"/>
          <a:stretch/>
        </p:blipFill>
        <p:spPr>
          <a:xfrm>
            <a:off x="2413080" y="2057400"/>
            <a:ext cx="43178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5256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GAN  (FREE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66760" y="7621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 THE ACTOR WHO STARRED IN "DRIVING MISS DAISY" AND "THE SHAWSHANK REDEMP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XERCISE THAT CONSISTS OF HALF OF A SIT-U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8304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LOWN FISH THAT STARRED IN A 2003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NATIONAL SYMBOL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CHICAGO LOCAT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RAPPER SANG "ONE DANCE", "WORK", AND "HOTLINE B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ORSE WITH NO NAME" AND 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STARRED IN "DRIVING MISS DAISY" AND "THE SHAWSHANK REDEMP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(COUSI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WHO STARTED FOR THE REDSKINS 2015-2017 AND THE VIKINGS EVER SI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19040" y="762120"/>
            <a:ext cx="8305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Passer_domesticus_male_(15).jpg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CAP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19040" y="762120"/>
            <a:ext cx="8305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XERCISE THAT CONSISTS OF HALF OF A SIT-UP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LOWN FISH THAT STARRED IN A 2003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NATIONAL SYMBOL OF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CHICAGO LOCAT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RAPPER SANG "ONE DANCE", "WORK", AND "HOTLINE B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ORSE WITH NO NAME" AND VENTUR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WHO STARTED FOR THE REDSKINS 2015-2017 AND THE VIKINGS EVER SI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7:10:49Z</dcterms:created>
  <dc:creator>Jennifer Budzinski</dc:creator>
  <dc:description/>
  <dc:language>en-US</dc:language>
  <cp:lastModifiedBy>Erich Friedman</cp:lastModifiedBy>
  <dcterms:modified xsi:type="dcterms:W3CDTF">2020-08-23T16:26:58Z</dcterms:modified>
  <cp:revision>323</cp:revision>
  <dc:subject/>
  <dc:title>Slide 1</dc:title>
</cp:coreProperties>
</file>