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65F7-9E06-42A7-8DC6-C539CC74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CBA3-E633-4307-937F-EDDF0943E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45E-8450-46EB-8A63-CAFCBAB8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7752-F065-4362-93C9-411A6CEE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1F6C-66EC-438E-B510-F0B6CC43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6808-322B-4C90-A1FD-A80EC642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31D8-4083-4195-9CB4-CCB288F2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5D96-2F78-4406-8977-9A746DED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D323-80B7-42E6-9F43-348FFB745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9205-51E0-4CBE-BCB7-91BE72CF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486-C080-458D-B9DE-17211867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F96C-72BB-4855-97C5-A7E8FE869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0FF8-D72C-4909-B2C4-51D7E634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E2F4-B58E-4919-8965-455498C6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CF99-015D-459D-B0C4-54D47D542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F20-591E-4ABC-B8C6-BD64AFB9D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4264-1C3A-428E-B9D0-BAFF7513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16B6-51A9-488C-9380-6DE291C7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E59-98EC-4456-BF98-1B05397C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FC83-19E6-448E-8EFA-974B8EEF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41A6-931B-4D6C-A672-0843A790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1F1-6E5A-4FB6-BA1B-E4C88B61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ACA7-CB61-4BDF-92F0-C5AB3E10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BLEW UP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WAS SAID TO HAVE RISEN FROM THE AS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  VON  BIS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RMAN STATESMAN WAS KNOWN AS THE IRON CHANCEL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  WALTER  RAL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524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PLORER, SOLDIER, POET, AND COURT FAVORITE OF ELIZABETH I WAS EXECUTED IN 16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INTERNATIONAL MAN OF MYSTERY" AND "THE SPY WHO SHAGGED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A  DUKA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HER ROLE IN "MOONSTRUCK", AND IS A COUSIN OF THE 1988 DEMOCRATIC NOMINEE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RE  TRUD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53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CANADA FROM 1968 TO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WAS SAID TO HAVE RISEN FROM THE ASH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STON  STRAN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GIVEN TO SERIAL KILLER ALBERT DE SAL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  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BLEW UP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U.S.  STATE  CA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RMAN STATESMAN WAS KNOWN AS THE IRON CHANCEL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PLORER, SOLDIER, POET, AND COURT FAVORITE OF ELIZABETH I WAS EXECUTED IN 16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INTERNATIONAL MAN OF MYSTERY" AND "THE SPY WHO SHAGGED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HER ROLE IN "MOONSTRUCK", AND IS A COUSIN OF THE 1988 DEMOCRATIC NOMINEE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CANADA FROM 1968 TO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GIVEN TO SERIAL KILLER ALBERT DE SALV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4:47:45Z</dcterms:created>
  <dc:creator>Jennifer Budzinski</dc:creator>
  <dc:description/>
  <dc:language>en-US</dc:language>
  <cp:lastModifiedBy>Erich Friedman</cp:lastModifiedBy>
  <dcterms:modified xsi:type="dcterms:W3CDTF">2020-08-23T18:37:59Z</dcterms:modified>
  <cp:revision>348</cp:revision>
  <dc:subject/>
  <dc:title>Slide 1</dc:title>
</cp:coreProperties>
</file>