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2D0CD-7644-4765-BE44-A605F89E8E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D12EB-5099-4EF6-81A8-34E60A594F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E87CF-D9C8-4B8E-AA48-6D883A7007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15AF9-0F66-43F4-893C-9DD070DF70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14020-E0AC-42D3-B10D-F3DC346294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8A39E-3F78-45C7-991F-7FE101028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1AA47-BA93-42D5-8127-0F6B2569F5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36276-BF5E-40B4-B0BC-5C19F54F17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CC8D8-DFC3-4B49-8CD6-2B7F8F18CC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045E2-6E4D-4B0A-A774-EB0611F327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5C897-1530-4B21-86D3-DDF2FDB764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93259-7C72-4CD6-87DE-A22E3AA6B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5A6E2-73A6-4BC9-87A4-2F02C4C16D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EF6CB-7035-4486-8B85-5645E07097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041A0-1796-4AC1-9959-16CD1F6181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903FD-4804-4867-AD42-E004731BE8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497F3-1EB2-4DA5-A623-3623891E1D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59CD8-0503-4A27-A3D8-1B1F1DB930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E7C2E-FDB1-4B4C-827C-006857A3ED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93953-9BC5-4F51-9DB3-D5FF901679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2AD8E-E2C8-4D7A-BDE8-6410C41624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77ECC-3FE7-4F84-86DC-A86EAF9BA2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BD79A-546C-4779-A1A2-6767FC5170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SPACE SHUTTLE BLEW UP IN 2003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HOENI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09480" y="762120"/>
            <a:ext cx="79250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IRD WAS SAID TO HAVE RISEN FROM THE ASH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TTO  VON  BISMAR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380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GERMAN STATESMAN WAS KNOWN AS THE IRON CHANCELL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R  WALTER  RALEIG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76240" y="75240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XPLORER, SOLDIER, POET, AND COURT FAVORITE OF ELIZABETH I WAS EXECUTED IN 161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USTIN  POW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19040" y="762120"/>
            <a:ext cx="8344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"THE INTERNATIONAL MAN OF MYSTERY" AND "THE SPY WHO SHAGGED 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LYMPIA  DUKAK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7168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AN OSCAR FOR HER ROLE IN "MOONSTRUCK", AND IS A COUSIN OF THE 1988 DEMOCRATIC NOMINEE FOR PRESID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ERRE  TRUDEA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04720" y="762120"/>
            <a:ext cx="815364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PRIME MINISTER OF CANADA FROM 1968 TO 198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DEN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523880" y="762120"/>
            <a:ext cx="6172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LEAVING ON A JET PLA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IRD WAS SAID TO HAVE RISEN FROM THE ASH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90960"/>
            <a:ext cx="8382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OSTON  STRANG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76240" y="762120"/>
            <a:ext cx="73915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ICKNAME GIVEN TO SERIAL KILLER ALBERT DE SALV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ACE  SHUTTLE  COLUMB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90720" y="762120"/>
            <a:ext cx="71625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SPACE SHUTTLE BLEW UP IN 2003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533520" y="4876920"/>
            <a:ext cx="8153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U.S.  STATE  CAPIT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GERMAN STATESMAN WAS KNOWN AS THE IRON CHANCELL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XPLORER, SOLDIER, POET, AND COURT FAVORITE OF ELIZABETH I WAS EXECUTED IN 161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38120" y="762120"/>
            <a:ext cx="82677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"THE INTERNATIONAL MAN OF MYSTERY" AND "THE SPY WHO SHAGGED M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95360" y="723960"/>
            <a:ext cx="81532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AN OSCAR FOR HER ROLE IN "MOONSTRUCK", AND IS A COUSIN OF THE 1988 DEMOCRATIC NOMINEE FOR PRESID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PRIME MINISTER OF CANADA FROM 1968 TO 1984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371600" y="761760"/>
            <a:ext cx="6400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LEAVING ON A JET PLAN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ICKNAME GIVEN TO SERIAL KILLER ALBERT DE SALV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5T04:47:45Z</dcterms:created>
  <dc:creator>Jennifer Budzinski</dc:creator>
  <dc:description/>
  <dc:language>en-US</dc:language>
  <cp:lastModifiedBy>Erich Friedman</cp:lastModifiedBy>
  <dcterms:modified xsi:type="dcterms:W3CDTF">2020-08-23T18:37:59Z</dcterms:modified>
  <cp:revision>348</cp:revision>
  <dc:subject/>
  <dc:title>Slide 1</dc:title>
</cp:coreProperties>
</file>