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1FA6-FAB5-4F07-B573-3FD895924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05BC-735B-4D1F-A652-117F59C2F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4401-9436-4EA9-BF98-71025BD25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FC45-CD6D-48DE-9B7D-908BA5654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319E-EDF7-43D6-86D0-E942E6E4F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08CE-58B1-4D13-973C-2245BF04C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CFCF-467B-4CA8-A48F-7B934BB4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8999-E5F5-4E87-896D-A95E1E49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EC50-78F8-4245-A3BB-92B01322C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D576-B608-4856-B820-77494279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C352-7A92-4490-AF81-8104BDD05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A238-3CB8-44BC-9188-10A0479B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E2E0-2DCB-4A24-BB69-FDD54B31D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A5A5-6C21-42CC-8489-10ECCA48C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1751-9982-4BA5-B45D-2109E50C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8999-F260-487F-8D9F-B86B5ED49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991D-7CAE-4975-9D5D-871DF1DD8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8AEC-5E0B-4B35-8549-0A09F140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20AF-5716-424F-ADFB-AE867043D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E1BD-1998-46B2-9E64-2A0AC4B1D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B777-6753-411D-9BA5-3D64D0EAC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7F7A-FE51-4267-AFA6-1CB05E9F2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63FBA-E76F-4BE1-9BC0-6568DDE2F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BLEW UP IN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WAS SAID TO HAVE RISEN FROM THE AS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O  VON  BISMAR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RMAN STATESMAN WAS KNOWN AS THE IRON CHANCEL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  WALTER  RAL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524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PLORER, SOLDIER, POET, AND COURT FAVORITE OF ELIZABETH I WAS EXECUTED IN 16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IN  P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INTERNATIONAL MAN OF MYSTERY" AND "THE SPY WHO SHAGGED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IA  DUKA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HER ROLE IN "MOONSTRUCK", AND IS A COUSIN OF THE 1988 DEMOCRATIC NOMINEE F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RE  TRUD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4720" y="762120"/>
            <a:ext cx="8153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CANADA FROM 1968 TO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WAS SAID TO HAVE RISEN FROM THE ASH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09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STON  STRANG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GIVEN TO SERIAL KILLER ALBERT DE SAL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  SHUTTLE  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BLEW UP IN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U.S.  STATE  CA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RMAN STATESMAN WAS KNOWN AS THE IRON CHANCEL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PLORER, SOLDIER, POET, AND COURT FAVORITE OF ELIZABETH I WAS EXECUTED IN 16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INTERNATIONAL MAN OF MYSTERY" AND "THE SPY WHO SHAGGED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2396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HER ROLE IN "MOONSTRUCK", AND IS A COUSIN OF THE 1988 DEMOCRATIC NOMINEE F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CANADA FROM 1968 TO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GIVEN TO SERIAL KILLER ALBERT DE SALV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4:47:45Z</dcterms:created>
  <dc:creator>Jennifer Budzinski</dc:creator>
  <dc:description/>
  <dc:language>en-US</dc:language>
  <cp:lastModifiedBy>Erich Friedman</cp:lastModifiedBy>
  <dcterms:modified xsi:type="dcterms:W3CDTF">2020-08-23T18:37:59Z</dcterms:modified>
  <cp:revision>348</cp:revision>
  <dc:subject/>
  <dc:title>Slide 1</dc:title>
</cp:coreProperties>
</file>