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0C3B-F32E-4EBA-BA98-AB700421C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9425-4AA9-4B0D-97F9-59AA45FEE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7776-89E1-4494-B4C8-F19FBF9D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83A9-CDC8-4744-B38A-8C8810D9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4333-6FB3-40B9-A0B3-5DA406F1E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2A38-E743-49AB-BBAB-C94B05E92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8A78-6CDD-4520-AC65-2C0C6332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3ABF-1D85-43BC-9157-13982560D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C264-2C83-4CEB-B95C-D59AA63FD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4E97-6115-4D22-9D46-F6F9F6CC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F281-492D-4B36-8C1D-68B6A323D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FC9F-F129-4FA5-8EBE-6E13959FB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4143-00C3-4311-9C0B-690B34AE2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1668-D9FB-4B72-A2A4-A91318CAD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CC6C-A625-4186-A098-D2CEF905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102A-431C-412E-ACBB-8A10FBCFD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20C8-C373-4CA7-9615-DDB453155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708E-C0BE-489A-A3CA-1B16D9E7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3B94-DF7C-4DE3-B910-EFDCF390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8F34-B10C-4262-83FC-DE93A4750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FE0F-55E9-4C69-9919-734E9416B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6D65-CA68-4A03-A4E3-FBB8468AE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803-0A9F-46F9-8369-29D554593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AN ED.S. OR PSY.S. DEGR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GEANT–AT–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JOB IS IT TO MAINTAIN ORDER AND SECURITY FOR A LEGISLATIV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  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STRONAUT IN "SPACE ODDITY" AND 4 OTHER DAVID BOWIE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EL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MAN FO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VATE  D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INA TURNER'S BEST-SELLING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EUTENANT  GOVER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ECOND IN COMMAND OF A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  D'S  SEAF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52560" y="762120"/>
            <a:ext cx="7238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CHAIN HAS THIS LO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CaptainDs.jpg"/>
          <p:cNvPicPr/>
          <p:nvPr/>
        </p:nvPicPr>
        <p:blipFill>
          <a:blip r:embed="rId1"/>
          <a:stretch/>
        </p:blipFill>
        <p:spPr>
          <a:xfrm>
            <a:off x="1981080" y="2514600"/>
            <a:ext cx="5181840" cy="231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PORAL  PUNISH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PHRASE REFERS TO THE SPANKING OR PADDLING OF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JOB IS IT TO MAINTAIN ORDER AND SECURITY FOR A LEGISLATIVE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  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AMERICAN SOAP OPERA STILL IN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AN ED.S. OR PSY.S.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ARMY  R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ASTRONAUT IN "SPACE ODDITY" AND 4 OTHER DAVID BOWIE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MAN FO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INA TURNER'S BEST-SELLING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ECOND IN COMMAND OF A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T-FOOD CHAIN HAS THIS LOG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CaptainDs.jpg"/>
          <p:cNvPicPr/>
          <p:nvPr/>
        </p:nvPicPr>
        <p:blipFill>
          <a:blip r:embed="rId1"/>
          <a:stretch/>
        </p:blipFill>
        <p:spPr>
          <a:xfrm>
            <a:off x="1919160" y="2743200"/>
            <a:ext cx="5305680" cy="23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PHRASE REFERS TO THE SPANKING OR PADDLING OF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-RUNNING AMERICAN SOAP OPERA STILL IN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2:22:14Z</dcterms:created>
  <dc:creator>Jennifer Budzinski</dc:creator>
  <dc:description/>
  <dc:language>en-US</dc:language>
  <cp:lastModifiedBy>Erich Friedman</cp:lastModifiedBy>
  <dcterms:modified xsi:type="dcterms:W3CDTF">2020-08-26T18:35:34Z</dcterms:modified>
  <cp:revision>423</cp:revision>
  <dc:subject/>
  <dc:title>Slide 1</dc:title>
</cp:coreProperties>
</file>