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FD6-5ECC-4FE2-A85D-72CCD154A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F8FE-B2A3-434A-8F8D-007675ECF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A323-265F-417E-A4EA-EF84A62DF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77EB-A2AA-4607-9BB2-9D9756F6F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0E04-62C1-484E-9C31-151895F3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F607-1766-45C0-AFFB-238C176FF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93F9-1BC5-4695-9BE2-491CC390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7991-ACA4-4CCB-8C6A-4B12B160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B693-6E5A-49FE-AD83-CF658BAF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08E8-61E8-4A9A-8641-712457AA3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8B2C-3857-40A7-B633-DCBFC234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CA50-4732-4EC0-A508-BC8DD355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F112-48B7-4157-9DD1-368DF888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03AF-DF1E-47A8-A4F1-B8BE2087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D296-1CD4-495C-B116-8468B1EE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BDF9-3C47-4F01-BFFF-F66FAE216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8B29-4B34-4553-A59B-68867A75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323C-5F35-4B31-8914-5D567801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FE8E-0E57-418E-9BBD-E5E3F33B8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8B97-4291-4E95-9D76-E01441E5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B50A-B001-430A-BDF5-1A2381626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E65C-86AA-4CFC-BD8A-2310348C0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29E3-5093-42FB-A975-88D0158F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AN ED.S. OR PSY.S. DEG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GEANT–AT–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JOB IS IT TO MAINTAIN ORDER AND SECURITY FOR A LEGISLATIV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  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STRONAUT IN "SPACE ODDITY" AND 4 OTHER DAVID BOWIE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EL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MAN FO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  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INA TURNER'S BEST-SELLING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EUTENANT  GOVER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SECOND IN COMMAND OF A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  D'S  SEA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52560" y="762120"/>
            <a:ext cx="7238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CHAIN HAS THIS L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CaptainDs.jpg"/>
          <p:cNvPicPr/>
          <p:nvPr/>
        </p:nvPicPr>
        <p:blipFill>
          <a:blip r:embed="rId1"/>
          <a:stretch/>
        </p:blipFill>
        <p:spPr>
          <a:xfrm>
            <a:off x="1981080" y="2514600"/>
            <a:ext cx="5181840" cy="23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PORAL  PUNISH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PHRASE REFERS TO THE SPANKING OR PADDLING OF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JOB IS IT TO MAINTAIN ORDER AND SECURITY FOR A LEGISLATIVE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  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AMERICAN SOAP OPERA STILL IN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AN ED.S. OR PSY.S.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ARMY  R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STRONAUT IN "SPACE ODDITY" AND 4 OTHER DAVID BOWIE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MAN FO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INA TURNER'S BEST-SELLING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SECOND IN COMMAND OF A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CHAIN HAS THIS LOG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CaptainDs.jpg"/>
          <p:cNvPicPr/>
          <p:nvPr/>
        </p:nvPicPr>
        <p:blipFill>
          <a:blip r:embed="rId1"/>
          <a:stretch/>
        </p:blipFill>
        <p:spPr>
          <a:xfrm>
            <a:off x="1919160" y="2743200"/>
            <a:ext cx="5305680" cy="23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PHRASE REFERS TO THE SPANKING OR PADDLING OF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AMERICAN SOAP OPERA STILL IN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2:22:14Z</dcterms:created>
  <dc:creator>Jennifer Budzinski</dc:creator>
  <dc:description/>
  <dc:language>en-US</dc:language>
  <cp:lastModifiedBy>Erich Friedman</cp:lastModifiedBy>
  <dcterms:modified xsi:type="dcterms:W3CDTF">2020-08-26T18:35:34Z</dcterms:modified>
  <cp:revision>423</cp:revision>
  <dc:subject/>
  <dc:title>Slide 1</dc:title>
</cp:coreProperties>
</file>