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2776-955D-4DC7-BD23-59495E9B3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326A-3421-465C-B49B-644EA663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DED7-4066-441E-84E3-6E000D45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F22C-CEBE-4CAD-9951-18C1E509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2630-EF27-401C-AE6A-EFD5026C2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DB1B-F7DE-4C69-8DAA-864B9C36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FEFE-0542-4FE5-9ABA-13E9EEAC2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64B3-3C6D-4A62-80AE-EF2380E93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4622-F0E8-40BA-8716-F70EE8E86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922C-FA14-4EE3-921F-E04193799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4473-E695-44BB-BDE8-768FABD1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88F7-7E5C-4745-A773-F21074FA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7F41-3A16-4FC3-8832-994B7CCC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0D2-7332-45EC-A461-67804C7E1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5FC-F974-4322-BBFC-5FF87523C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3048-DB72-40BE-9EB8-EADD1562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127F-698B-4A83-BEE5-41DA36956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3B7E-4595-4549-926C-33FF3AFA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3927-FF63-49A1-B4A2-F8F30FB3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7A4C-0195-4103-B2C6-D95F8B71F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F9DD-4869-4020-9F15-CCDB8489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794E-1363-4F40-93E5-8F756CE0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6364-0DE0-4D67-A431-3CB7ADBF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AN ED.S. OR PSY.S. DEG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GEANT–AT–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JOB IS IT TO MAINTAIN ORDER AND SECURITY FOR A LEGISLATIV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  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STRONAUT IN "SPACE ODDITY" AND 4 OTHER DAVID BOWIE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EL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MAN FO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  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INA TURNER'S BEST-SELLING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EUTENANT  GOVER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SECOND IN COMMAND OF A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  D'S  SEA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52560" y="762120"/>
            <a:ext cx="7238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CHAIN HAS THIS L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CaptainDs.jpg"/>
          <p:cNvPicPr/>
          <p:nvPr/>
        </p:nvPicPr>
        <p:blipFill>
          <a:blip r:embed="rId1"/>
          <a:stretch/>
        </p:blipFill>
        <p:spPr>
          <a:xfrm>
            <a:off x="1981080" y="2514600"/>
            <a:ext cx="5181840" cy="23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PORAL  PUNISH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PHRASE REFERS TO THE SPANKING OR PADDLING OF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JOB IS IT TO MAINTAIN ORDER AND SECURITY FOR A LEGISLATIVE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  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AMERICAN SOAP OPERA STILL IN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AN ED.S. OR PSY.S.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ARMY  R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STRONAUT IN "SPACE ODDITY" AND 4 OTHER DAVID BOWIE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MAN FO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INA TURNER'S BEST-SELLING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SECOND IN COMMAND OF A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CHAIN HAS THIS LOG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CaptainDs.jpg"/>
          <p:cNvPicPr/>
          <p:nvPr/>
        </p:nvPicPr>
        <p:blipFill>
          <a:blip r:embed="rId1"/>
          <a:stretch/>
        </p:blipFill>
        <p:spPr>
          <a:xfrm>
            <a:off x="1919160" y="2743200"/>
            <a:ext cx="5305680" cy="23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PHRASE REFERS TO THE SPANKING OR PADDLING OF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AMERICAN SOAP OPERA STILL IN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2:22:14Z</dcterms:created>
  <dc:creator>Jennifer Budzinski</dc:creator>
  <dc:description/>
  <dc:language>en-US</dc:language>
  <cp:lastModifiedBy>Erich Friedman</cp:lastModifiedBy>
  <dcterms:modified xsi:type="dcterms:W3CDTF">2020-08-26T18:35:34Z</dcterms:modified>
  <cp:revision>423</cp:revision>
  <dc:subject/>
  <dc:title>Slide 1</dc:title>
</cp:coreProperties>
</file>