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165-190F-42E8-94EC-D799ECDD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0B4B-3048-4CDA-8B92-103470C9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B66-BB3C-4DB5-82C0-3B666353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96D9-A665-48E0-B676-49C6D570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40DD-3BB5-4BEC-89C9-7EEFE79F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8CF4-0186-4308-B3DA-060D61F5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D48D-8ADC-4DE7-A1DB-C5C88BF3D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0023-FE95-438E-9B04-5F947988D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F55-D008-4F0F-9CCF-AECB0E7CE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5CE2-9A26-4D73-B693-EC862CAB0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4075-D714-4786-9D90-C9615691B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96A3-074A-41C1-8ACD-F49F42F3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A83-D3E6-4C5F-B4E0-09DC5DC9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EFB6-2841-43E8-A1BA-A7BC2CB5F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31C5-8677-41F0-B9B2-5D1502CA7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5CC1-1FE5-4DD0-80FF-58FCCE23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A48B-306B-4C06-9E12-BA064406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3DF2-B176-4CC8-BFA5-2387A963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3037-ECFB-4A0D-BDA3-B10EE2796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EB74-14F6-4414-8FC5-E482AC89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AB0B-2D13-4D38-8A15-0447C618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D4FC-09C4-4583-BD59-4A0E5102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2647-EF88-4614-B94D-D7C59C6C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IS WRITTEN BY JIM DAV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14680" y="762120"/>
            <a:ext cx="5715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AT A COLLEGE IS ABOVE DEPARTMENT CHAIRMAN BUT BELOW PROVOST 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 OXIDE IS THE MOST COMMON INGREDIENT IN WHAT COLOR OF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68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IOR ADVISOR TO NIXON, FORD, AND REAGAN RAN FOR PRESIDENT IN 1992, 1996 &amp;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EKTRA", "13 GOING ON 30", AND "MIRACLES FROM HEA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NDY THE SHERIFF ON "THE ANDY GRIFFITH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ON "MODERN FAMILY" HAS ERIC STONESTREET" WON 2 EMMYS FOR PORTRAY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62040" y="762120"/>
            <a:ext cx="6019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TO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IS WRITTEN BY JIM DAV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WITH  FIRST  NAME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AT A COLLEGE IS ABOVE DEPARTMENT CHAIRMAN BUT BELOW PROVOST 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 OXIDE IS THE MOST COMMON INGREDIENT IN WHAT COLOR OF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IOR ADVISOR TO NIXON, FORD, AND REAGAN RAN FOR PRESIDENT IN 1992, 1996 &amp;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EKTRA", "13 GOING ON 30", AND "MIRACLES FROM HEA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NDY THE SHERIFF ON "THE ANDY GRIFFITH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ON "MODERN FAMILY" HAS ERIC STONESTREET" WON 2 EMMYS FOR PORTRAYI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TO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20:29:48Z</dcterms:created>
  <dc:creator>Jennifer Budzinski</dc:creator>
  <dc:description/>
  <dc:language>en-US</dc:language>
  <cp:lastModifiedBy>Erich Friedman</cp:lastModifiedBy>
  <dcterms:modified xsi:type="dcterms:W3CDTF">2020-08-26T18:36:46Z</dcterms:modified>
  <cp:revision>408</cp:revision>
  <dc:subject/>
  <dc:title>Slide 1</dc:title>
</cp:coreProperties>
</file>