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E4B0-74C0-44EC-99A4-67FBB5C8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9463-68E4-4749-8711-4C5F16799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8B0F-6975-49E2-9880-CB94C997B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F80E-D93E-43D8-A178-40CBFA8F1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BBF-ED28-47DA-91C1-43E8E94C5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2133-B1CB-4521-9724-A93A5C6C5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EE50-C9C8-4200-8F73-7EDB0B59C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F2DF-8C28-48A2-A3EA-14747B1CE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2E10-3EC4-4DDF-91E8-1114604C0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26CF-8DBE-41BB-B70C-F50CF0141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5953-651E-4389-B48D-6AA44603C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5CEF-AC52-4CF9-A4A0-0CBD002EE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964B-50C3-470F-8C24-1DD156A4C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20C4-76FA-4BC4-B756-6D81AF0C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7C44-2FAE-4AC7-B645-D4BB47C5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A09C-1F88-48BC-B6CC-B98AD306D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C7B1-5BC0-4F2F-A55C-D575E027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4E4-65E6-4C1E-8EC9-BFD7C8081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5175-DF97-4170-8CF9-1D6BDFB58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FAFB-14AE-4F06-8EE3-19ADE972F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FF42-BB86-40F5-ADFE-5D10B89F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3306-ADD6-434C-835A-DFDC3DE31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2A35-F2A9-44FD-B1A7-0E88EB729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IS WRITTEN BY JIM DAV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714680" y="762120"/>
            <a:ext cx="5715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ISCON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AT A COLLEGE IS ABOVE DEPARTMENT CHAIRMAN BUT BELOW PROVOST 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 OXIDE IS THE MOST COMMON INGREDIENT IN WHAT COLOR OF PIG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68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IOR ADVISOR TO NIXON, FORD, AND REAGAN RAN FOR PRESIDENT IN 1992, 1996 &amp;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EKTRA", "13 GOING ON 30", AND "MIRACLES FROM HEA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ANDY THE SHERIFF ON "THE ANDY GRIFFITH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ON "MODERN FAMILY" HAS ERIC STONESTREET" WON 2 EMMYS FOR PORTRAY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62040" y="762120"/>
            <a:ext cx="6019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ISCON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TO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IS WRITTEN BY JIM DAV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WITH  FIRST  NAME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AT A COLLEGE IS ABOVE DEPARTMENT CHAIRMAN BUT BELOW PROVOST 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 OXIDE IS THE MOST COMMON INGREDIENT IN WHAT COLOR OF PIG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IOR ADVISOR TO NIXON, FORD, AND REAGAN RAN FOR PRESIDENT IN 1992, 1996 &amp;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EKTRA", "13 GOING ON 30", AND "MIRACLES FROM HEAV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ANDY THE SHERIFF ON "THE ANDY GRIFFITH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ON "MODERN FAMILY" HAS ERIC STONESTREET" WON 2 EMMYS FOR PORTRAYI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TO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20:29:48Z</dcterms:created>
  <dc:creator>Jennifer Budzinski</dc:creator>
  <dc:description/>
  <dc:language>en-US</dc:language>
  <cp:lastModifiedBy>Erich Friedman</cp:lastModifiedBy>
  <dcterms:modified xsi:type="dcterms:W3CDTF">2020-08-26T18:36:46Z</dcterms:modified>
  <cp:revision>408</cp:revision>
  <dc:subject/>
  <dc:title>Slide 1</dc:title>
</cp:coreProperties>
</file>