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E0BD-E446-45B5-AD4A-B9A09E7A1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CE9-75B5-4CD3-9223-0EBA34F81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0C99-0536-422B-8FFB-F787C5D05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4686-8331-495E-A450-EF10C5247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E7FB-B165-46A0-AED2-C3CF9DF92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6060-5560-4304-AFC0-7CC586F7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7D54-33C9-45F7-983D-EB5CFA255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40A1-19B7-444F-956A-991BF1122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B53-13AE-458C-99BA-DB7B882B8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0983-4FC4-4C93-8A2C-0C0B4282B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349A-7F46-4432-9581-92355FDCB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142C-FE9C-4803-9ABA-52EB5CCA2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ABEE-0071-43AB-B941-D627A0C8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0C4B-AADE-4AF4-8B27-D2F69222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8A8A-56AC-4F27-8ECA-9080722A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A2F0-E455-4FF9-85C3-8ECF92C5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E35F-5021-4F6C-9089-F0DA3C58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DA79-7C41-4908-AD8D-139467E94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1940-5D6C-4A91-ACC0-C8FE12592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92EE-DD50-47DC-A29C-09F77DC0D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E1CF-DC6A-4316-B4F8-595E96F04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7B09-8FDC-4D2C-8438-AEEE6734A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4F4A-A7D2-4E0B-B1AD-0450EABB5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IS WRITTEN BY JIM DAV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714680" y="762120"/>
            <a:ext cx="5715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ISCONS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AT A COLLEGE IS ABOVE DEPARTMENT CHAIRMAN BUT BELOW PROVOST OR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 OXIDE IS THE MOST COMMON INGREDIENT IN WHAT COLOR OF PIG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BUCHAN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68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IOR ADVISOR TO NIXON, FORD, AND REAGAN RAN FOR PRESIDENT IN 1992, 1996 &amp;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EKTRA", "13 GOING ON 30", AND "MIRACLES FROM HEA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NDY THE SHERIFF ON "THE ANDY GRIFFITH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ON "MODERN FAMILY" HAS ERIC STONESTREET" WON 2 EMMYS FOR PORTRAY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62040" y="762120"/>
            <a:ext cx="6019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WISCONS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CO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600200" y="762120"/>
            <a:ext cx="5943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TO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RIP IS WRITTEN BY JIM DAV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04920" y="43434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WITH  FIRST  NAME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SITION AT A COLLEGE IS ABOVE DEPARTMENT CHAIRMAN BUT BELOW PROVOST OR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ON OXIDE IS THE MOST COMMON INGREDIENT IN WHAT COLOR OF PIG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NIOR ADVISOR TO NIXON, FORD, AND REAGAN RAN FOR PRESIDENT IN 1992, 1996 &amp;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EKTRA", "13 GOING ON 30", AND "MIRACLES FROM HEA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ANDY THE SHERIFF ON "THE ANDY GRIFFITH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ON "MODERN FAMILY" HAS ERIC STONESTREET" WON 2 EMMYS FOR PORTRAYI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ULED SPAIN FROM 1939 TO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20:29:48Z</dcterms:created>
  <dc:creator>Jennifer Budzinski</dc:creator>
  <dc:description/>
  <dc:language>en-US</dc:language>
  <cp:lastModifiedBy>Erich Friedman</cp:lastModifiedBy>
  <dcterms:modified xsi:type="dcterms:W3CDTF">2020-08-26T18:36:46Z</dcterms:modified>
  <cp:revision>408</cp:revision>
  <dc:subject/>
  <dc:title>Slide 1</dc:title>
</cp:coreProperties>
</file>