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F0DDB-4D62-4F5F-BED6-ED1794E912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1B282-4CEA-4B68-9F57-0F141F153D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4D319-9EA5-432B-ABFA-2693AC5A9B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9B209-63EC-4DC4-9BC3-7CF255B280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D1770-AE1D-4B1B-9486-FBAF16A2EF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A37DA-DB6A-4186-B7F3-2913BC7D11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7618D-32F4-4271-B841-B4296CB3C6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7E81E-4BB8-40A8-91E9-8DB0EA2C6C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9E808-06F1-4372-916E-A53C20E12D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6B5FF-5350-4CB5-A448-E0E0518B12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9BED9-97A6-4DFA-A2DC-E1D1101213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D82DF-EDF9-4426-8B1C-5C12F790B8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E39E9-0757-4E95-A242-D680015BFA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E2463-2C3B-4149-8A7F-4E9EE74644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0D810-E151-44F7-8869-7A73F35ABC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68C55-E54F-4460-8EED-6210F9CE29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E0E56-151B-49E3-9ACB-9D81DC1C0D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D9CD6-4D19-4D1E-8B27-8D771D4CE6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236BE-EE7F-4177-BC93-57EDF94AF0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585E3-BCBF-4E7A-8B58-47BA87119E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E2EF8-9C5C-4781-A4DC-E7F4EA541E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4F23A-80E4-4897-8495-BAE11B9BA4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C5423-661F-4475-80E1-3605224878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295280" y="990360"/>
            <a:ext cx="65534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EOPLE           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533520" y="761760"/>
            <a:ext cx="80769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THE CURRENT HOST OF "THE TONIGHT SHOW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PEOPLE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ETH  MEY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876240" y="762120"/>
            <a:ext cx="7391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HOSTED THE EMMY AWARDS IN 2014, THE GOLDEN GLOBES IN 2018, AND HAS HIS OWN LATE NIGHT TALK SHOW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RED  ARMIS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685800" y="762120"/>
            <a:ext cx="77724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CREATED AND STARRED IN "PORTLANDIA", AND IS THE BANDLEADER FOR THE PREVIOUS ANSW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76920"/>
            <a:ext cx="838224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L  FRANK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609480" y="762120"/>
            <a:ext cx="79250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ENATOR FROM MINNESOTA RESIGNED IN 2018 AFTER SEXUAL MISCONDUCT ALLEGATION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876920"/>
            <a:ext cx="84582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ASON  SUDEIK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838080" y="762120"/>
            <a:ext cx="74678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TARRED IN "SLEEPING WITH OTHER PEOPLE", "HORRIBLE BOSSES", AND "WE'RE THE MILLER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ILL  FOR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571680" y="762120"/>
            <a:ext cx="80010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HAS BEEN NOMINATED FOR 3 EMMYS FOR ACTING AND WRITING THE SERIES "LAST MAN ON EARTH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MY  POEHL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457200" y="797040"/>
            <a:ext cx="82296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A GOLDEN GLOBE FOR PORTRAYING LESLIE IN "PARKS AND RECREATIO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ILL  FERR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533520" y="762120"/>
            <a:ext cx="80769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TARRED IN "ELF", THE "ANCHORMAN" FRANCHISE, AND "TALLADEGA NIGHT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838080" y="762120"/>
            <a:ext cx="74678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HOSTED THE EMMY AWARDS IN 2014, THE GOLDEN GLOBES IN 2018, AND HAS HIS OWN LATE NIGHT TALK SHOW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380880" y="4876920"/>
            <a:ext cx="83822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IKE  MY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685800" y="762120"/>
            <a:ext cx="77724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THE TITLE ROLES IN "AUSTIN POWERS" AND "WAYNE'S WORLD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IMMY  FALL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609480" y="762120"/>
            <a:ext cx="792504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THE CURRENT HOST OF "THE TONIGHT SHOW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838080" y="4343400"/>
            <a:ext cx="746784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2000"/>
          </a:bodyPr>
          <a:p>
            <a:pPr marL="178200" indent="-178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ONG–TIME  CAST  MEMBERS ON  "SATURDAY  NIGHT  LIVE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PEOPLE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609480" y="761760"/>
            <a:ext cx="7925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CREATED AND STARRED IN "PORTLANDIA", AND IS THE BANDLEADER FOR THE PREVIOUS ANSW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609480" y="762120"/>
            <a:ext cx="79250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ENATOR FROM MINNESOTA RESIGNED IN 2018 AFTER SEXUAL MISCONDUCT ALLEGATION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TARRED IN "SLEEPING WITH OTHER PEOPLE", "HORRIBLE BOSSES", AND "WE'RE THE MILLER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647640" y="72396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HAS BEEN NOMINATED FOR 3 EMMYS FOR ACTING AND WRITING THE SERIES "LAST MAN ON EARTH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A GOLDEN GLOBE FOR PORTRAYING LESLIE IN "PARKS AND RECREATION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685800" y="76176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TARRED IN "ELF", THE "ANCHORMAN" FRANCHISE, AND "TALLADEGA NIGHT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533520" y="762120"/>
            <a:ext cx="807696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THE TITLE ROLES IN "AUSTIN POWERS" AND "WAYNE'S WORLD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04T10:05:23Z</dcterms:created>
  <dc:creator>Jennifer Budzinski</dc:creator>
  <dc:description/>
  <dc:language>en-US</dc:language>
  <cp:lastModifiedBy>Erich Friedman</cp:lastModifiedBy>
  <dcterms:modified xsi:type="dcterms:W3CDTF">2020-08-26T22:52:44Z</dcterms:modified>
  <cp:revision>365</cp:revision>
  <dc:subject/>
  <dc:title>Slide 1</dc:title>
</cp:coreProperties>
</file>