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1A71-FE90-4A38-ABDF-2ED4FBC96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17F9-3923-4F77-8682-3387BA6E5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95B6-EDE6-4E53-AA6A-2B56CF371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249A-C6DF-4A90-A407-C5C84270D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C8DF-A1BF-4003-9AAF-D50679266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5FA8-5ACA-4EAD-B059-D76724B0A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6DC4-A65E-4288-971F-7BE7F0EEB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2BC6-A314-4422-BF44-F0D1D9E0A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8C18-20FF-4DCF-972B-3EB5116E5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DD08-06B1-4C64-A0DF-E0998194B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CD3E-EDF6-42D6-95C4-8D0F32A4A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3AA6-32F5-42E4-BF72-16FC27C14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3ED7-1096-40EB-A8EF-7AAFA6C5A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E23A-8AD7-4D30-83CA-355FC24F3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7855-35EB-4961-8AB3-AAD5CCE2D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6C2D-A575-4EE0-9DAE-B0E3F1682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CD96-F9F0-412F-B6FC-CCBA03FE4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A7FD-1EEA-4F58-84A0-7F54C55BD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FF8E-A72F-48AB-B3D4-514612CB3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B762-FB32-4A71-A056-5E0116FDA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E853-C69E-4A6A-B7B1-A010A05CD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4D89-9DFC-45E8-8507-6033E3185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D59C-C0F4-47E3-8E91-FDE43D3D8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990360"/>
            <a:ext cx="6553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CURRENT HOST OF "THE TONIGHT SH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TH  MEY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EMMY AWARDS IN 2014, THE GOLDEN GLOBES IN 2018, AND HAS HIS OWN LATE NIGHT TALK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D  ARMI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REATED AND STARRED IN "PORTLANDIA", AND IS THE BANDLEADER FOR THE PREVIOUS ANSW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  FRAN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NATOR FROM MINNESOTA RESIGNED IN 2018 AFTER SEXUAL MISCONDUCT ALLEG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SON  SUDEIK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LEEPING WITH OTHER PEOPLE", "HORRIBLE BOSSES", AND "WE'RE THE MILL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  FO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NOMINATED FOR 3 EMMYS FOR ACTING AND WRITING THE SERIES "LAST MAN ON EAR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Y  POEH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9704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GOLDEN GLOBE FOR PORTRAYING LESLIE IN "PARKS AND RECREA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  FERR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ELF", THE "ANCHORMAN" FRANCHISE, AND "TALLADEGA NIGH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EMMY AWARDS IN 2014, THE GOLDEN GLOBES IN 2018, AND HAS HIS OWN LATE NIGHT TALK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KE  MY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"AUSTIN POWERS" AND "WAYNE'S WOR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MY  FA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CURRENT HOST OF "THE TONIGHT SH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8080" y="4343400"/>
            <a:ext cx="7467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G–TIME  CAST  MEMBERS ON  "SATURDAY  NIGHT  LIV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REATED AND STARRED IN "PORTLANDIA", AND IS THE BANDLEADER FOR THE PREVIOUS ANSW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NATOR FROM MINNESOTA RESIGNED IN 2018 AFTER SEXUAL MISCONDUCT ALLEG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LEEPING WITH OTHER PEOPLE", "HORRIBLE BOSSES", AND "WE'RE THE MILL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2396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NOMINATED FOR 3 EMMYS FOR ACTING AND WRITING THE SERIES "LAST MAN ON EAR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GOLDEN GLOBE FOR PORTRAYING LESLIE IN "PARKS AND RECREA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ELF", THE "ANCHORMAN" FRANCHISE, AND "TALLADEGA NIGH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"AUSTIN POWERS" AND "WAYNE'S WOR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4T10:05:23Z</dcterms:created>
  <dc:creator>Jennifer Budzinski</dc:creator>
  <dc:description/>
  <dc:language>en-US</dc:language>
  <cp:lastModifiedBy>Erich Friedman</cp:lastModifiedBy>
  <dcterms:modified xsi:type="dcterms:W3CDTF">2020-08-26T22:52:44Z</dcterms:modified>
  <cp:revision>365</cp:revision>
  <dc:subject/>
  <dc:title>Slide 1</dc:title>
</cp:coreProperties>
</file>