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2E31-35D4-4DF5-BD47-A876F31AF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39DD-C1EA-4507-8AE0-AE1030BC1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8C99-0D4F-47BA-8935-C40FE0979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5654-032F-45A8-A55E-D403AA8B4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E56B-76FB-499F-9867-6BAA53A37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4093-9B22-4E6D-9DB7-54BF44E6A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103C-1C2E-4D72-8C83-B1062B5F4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728C-E0AC-4F07-A821-105D40434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EA7F-73B6-4823-AF36-9340EC8C1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457D-2A43-4B0E-B924-7967E202F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F5F8-5009-4956-AF8A-BD58C5009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6B9E-F03C-4759-B975-8AC1E99A8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AB7F-773B-4E2F-A609-20C66F1C0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C6DC-0A23-44FE-875A-BFAF091CE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AED9-4CB0-45CA-88EB-583030A2C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17FA-6381-4A39-A652-F5421AB7B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B5A5-A1C7-4350-A283-A9D5C956A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59D2-C51B-4767-9AC1-983C95814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A665-12B0-439B-B9F7-59631AC91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EFDE-92DD-40A0-99A6-CE0303720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5D41-C685-4976-BF2D-18BC01F73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EDD4-963B-4478-9BF7-914070605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84CA-521B-44DE-B978-480A13E48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99036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URRENT HOST OF "THE TONIGHT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TH  MEY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EMMY AWARDS IN 2014, THE GOLDEN GLOBES IN 2018, AND HAS HIS OWN LATE NIGHT TALK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  ARMI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AND STARRED IN "PORTLANDIA", AND IS THE BANDLEADER FOR THE PREVIOUS ANS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FRAN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ATOR FROM MINNESOTA RESIGNED IN 2018 AFTER SEXUAL MISCONDUCT ALLEG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SON  SUDEIK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LEEPING WITH OTHER PEOPLE", "HORRIBLE BOSSES", AND "WE'RE THE MILL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FO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NOMINATED FOR 3 EMMYS FOR ACTING AND WRITING THE SERIES "LAST MAN ON EAR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Y  POEH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9704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OLDEN GLOBE FOR PORTRAYING LESLIE IN "PARKS AND RECRE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FERR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ELF", THE "ANCHORMAN" FRANCHISE, AND "TALLADEGA NIGH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EMMY AWARDS IN 2014, THE GOLDEN GLOBES IN 2018, AND HAS HIS OWN LATE NIGHT TALK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E  MY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AUSTIN POWERS" AND "WAYNE'S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FA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URRENT HOST OF "THE TONIGHT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343400"/>
            <a:ext cx="7467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G–TIME  CAST  MEMBERS ON  "SATURDAY  NIGHT  LIV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AND STARRED IN "PORTLANDIA", AND IS THE BANDLEADER FOR THE PREVIOUS ANSW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ATOR FROM MINNESOTA RESIGNED IN 2018 AFTER SEXUAL MISCONDUCT ALLEG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LEEPING WITH OTHER PEOPLE", "HORRIBLE BOSSES", AND "WE'RE THE MILL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NOMINATED FOR 3 EMMYS FOR ACTING AND WRITING THE SERIES "LAST MAN ON EAR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OLDEN GLOBE FOR PORTRAYING LESLIE IN "PARKS AND RECRE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ELF", THE "ANCHORMAN" FRANCHISE, AND "TALLADEGA NIGH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AUSTIN POWERS" AND "WAYNE'S WOR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4T10:05:23Z</dcterms:created>
  <dc:creator>Jennifer Budzinski</dc:creator>
  <dc:description/>
  <dc:language>en-US</dc:language>
  <cp:lastModifiedBy>Erich Friedman</cp:lastModifiedBy>
  <dcterms:modified xsi:type="dcterms:W3CDTF">2020-08-26T22:52:44Z</dcterms:modified>
  <cp:revision>365</cp:revision>
  <dc:subject/>
  <dc:title>Slide 1</dc:title>
</cp:coreProperties>
</file>