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2C88-6B1E-449B-910B-E0B89294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A640-8F62-4816-884D-C0C824A84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307A-6659-42C3-93FF-FDDB3DE9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E0A5-735D-4492-9588-81CCB3FC1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728F-22B9-478B-853F-54B09CA6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54FE-5D29-4E37-AA79-922E9ABF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F337-B5DD-4FA7-B14A-02E8F590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1EF3-4E2A-4CDE-AAE0-3EC1DC67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5EE3-F151-401A-8F9C-4027B5DF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2B37-88A4-4F98-BC23-475013C8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7AD0-F4CB-4DE9-AAEA-A42B265A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3FED-9227-4CF6-A09A-1A079139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94F4-6486-4076-BD8F-D1598045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B298-FCFE-45CC-92CD-883F9B2D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EEC-2221-4833-BACB-8C60625C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F8BB-1801-4BBE-8287-8C594A6C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9045-9A96-4C8C-985F-A742C319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A156-AB89-4C5B-9CB6-F25D6FDEC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29E1-02BC-44CE-AF53-DAD8D3778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7E5-942F-4DD5-8E24-186AE9F1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6032-ACAF-4624-9A47-AA6A49502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7F4C-3384-4B74-96FB-646335D0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9D6D-28BF-4908-B242-07EB613A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ON A HORSE RACE WILL PAY OFF IF YOUR HORSE FINISHES FIRST, SECOND, OR TH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KEANU REEVES AND SANDRA BULLOCK IN A FAST-MOVING 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006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ABOUT A WIDOWER TYING 1000'S OF BALLOONS TO HIS HOUSE WAS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ANY, WHAT IS A SHORT STEM WITH FLESHY LEAVES THAT FUNCTION AS A FOOD STORAGE ORGAN DURING DORMANC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006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ALCOHOLIC BEVERAGE IN THE WEST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IS CONSISTENTLY VOTED THE BEST ALBUM OF ALL TIME BY A FEMALE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KEANU REEVES AND SANDRA BULLOCK IN A FAST-MOVING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IPOD THAT APPLE IS CURRENTLY PRODU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ON A HORSE RACE WILL PAY OFF IF YOUR HORSE FINISHES FIRST, SECOND, OR TH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71600" y="4800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L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ABOUT A WIDOWER TYING 1000'S OF BALLOONS TO HIS HOUSE WAS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ANY, WHAT IS A SHORT STEM WITH FLESHY LEAVES THAT FUNCTIONS AS A FOOD STORAGE ORGAN DURING DORMANC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ALCOHOLIC BEVERAGE IN THE WEST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IS CONSISTENTLY VOTED THE BEST ALBUM OF ALL TIME BY A FEMALE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IPOD THAT APPLE IS CURRENTLY PRODU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2:01:08Z</dcterms:created>
  <dc:creator>Jennifer Budzinski</dc:creator>
  <dc:description/>
  <dc:language>en-US</dc:language>
  <cp:lastModifiedBy>Erich Friedman</cp:lastModifiedBy>
  <dcterms:modified xsi:type="dcterms:W3CDTF">2020-08-26T22:54:35Z</dcterms:modified>
  <cp:revision>457</cp:revision>
  <dc:subject/>
  <dc:title>Slide 1</dc:title>
</cp:coreProperties>
</file>