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D33E6-9AAE-4029-B8DE-CE8B4E7D0E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AD2AA-AA3B-4DA1-880F-0124CD8E62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3B96B-24CB-4108-87BC-5499A145D0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CA111-DBBB-4916-91C3-6DA1E47FE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9C49F-50D3-4AEF-ACAF-5987CA1D0A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2A792-93F0-4CCD-8A67-7D44C63CB0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B6D8B-514A-4C07-94C9-4D82E9CF51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B8043-C851-4E75-B4E2-1F5515C563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6F9B8-2BB2-4D44-96CF-1D3FCE411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782A9-BCDD-4BAA-B469-B13B412B07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57AB4-519C-4BC1-8AEA-1FFBF0D06C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CA370-E868-4AEE-9000-A0EA6A9AC4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95361-3617-4EE7-908B-41B1F80B14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D48FF-1F18-43E6-8556-1812822634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9BB95-95FB-4AD2-8710-E1847D81C5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A3118-90D7-4BF5-B58B-0BB6DC9E65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619A8-FB98-4981-9130-C95F7F14B1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99C17-F98F-4984-9364-978213CDB3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585A8-93E2-499B-9E7F-9C823476AA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A740E-0153-41C7-BAA4-31B865290E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3F822-C2DB-4C2C-9EDA-B4AD0BEA4F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04FC7-2AEF-4C03-A394-D175A9147F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062F8-A750-4F46-BFF4-DE8EFCA0E8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BET ON A HORSE RACE WILL PAY OFF IF YOUR HORSE FINISHES FIRST, SECOND, OR THIR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533520" y="4800600"/>
            <a:ext cx="8076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E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00280" y="762120"/>
            <a:ext cx="7543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4 FILM STARRED KEANU REEVES AND SANDRA BULLOCK IN A FAST-MOVING BU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00600"/>
            <a:ext cx="6095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LEE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3 PARODY FILM STARRED WOODY ALLEN AS A MAN CRYOGENICALLY FROZEN FOR 200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19040" y="4800600"/>
            <a:ext cx="8305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533520" y="762120"/>
            <a:ext cx="80769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9 PIXAR FILM ABOUT A WIDOWER TYING 1000'S OF BALLOONS TO HIS HOUSE WAS NOMINATED FOR AN OSCAR FOR BEST PIC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00600"/>
            <a:ext cx="8534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00280" y="76212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RITTEN ENGLISH, WHAT IS THE MOST COMMON 4-LETTER WORD STARTING WITH THE LETTER "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00600"/>
            <a:ext cx="6858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L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380880" y="762120"/>
            <a:ext cx="8382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BOTANY, WHAT IS A SHORT STEM WITH FLESHY LEAVES THAT FUNCTION AS A FOOD STORAGE ORGAN DURING DORMANCY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295280" y="4800600"/>
            <a:ext cx="6477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33520" y="762120"/>
            <a:ext cx="80769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R ALCOHOLIC BEVERAGE IN THE WESTERN HEMISPHE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00600"/>
            <a:ext cx="5867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7168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ONI MITCHELL ALBUM IS CONSISTENTLY VOTED THE BEST ALBUM OF ALL TIME BY A FEMALE ART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4 FILM STARRED KEANU REEVES AND SANDRA BULLOCK IN A FAST-MOVING BU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104840" y="4800600"/>
            <a:ext cx="6934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U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ONLY IPOD THAT APPLE IS CURRENTLY PRODUC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00600"/>
            <a:ext cx="8382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723960" y="762120"/>
            <a:ext cx="7696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BET ON A HORSE RACE WILL PAY OFF IF YOUR HORSE FINISHES FIRST, SECOND, OR THI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71600" y="4800600"/>
            <a:ext cx="8153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FOLLOW  "LIGHT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3 PARODY FILM STARRED WOODY ALLEN AS A MAN CRYOGENICALLY FROZEN FOR 200 YE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9 PIXAR FILM ABOUT A WIDOWER TYING 1000'S OF BALLOONS TO HIS HOUSE WAS NOMINATED FOR AN OSCAR FOR BEST PIC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RITTEN ENGLISH, WHAT IS THE MOST COMMON 4-LETTER WORD STARTING WITH THE LETTER "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BOTANY, WHAT IS A SHORT STEM WITH FLESHY LEAVES THAT FUNCTIONS AS A FOOD STORAGE ORGAN DURING DORMANCY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R ALCOHOLIC BEVERAGE IN THE WESTERN HEMISPHE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ONI MITCHELL ALBUM IS CONSISTENTLY VOTED THE BEST ALBUM OF ALL TIME BY A FEMALE ARTI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ONLY IPOD THAT APPLE IS CURRENTLY PRODUC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30T12:01:08Z</dcterms:created>
  <dc:creator>Jennifer Budzinski</dc:creator>
  <dc:description/>
  <dc:language>en-US</dc:language>
  <cp:lastModifiedBy>Erich Friedman</cp:lastModifiedBy>
  <dcterms:modified xsi:type="dcterms:W3CDTF">2020-08-26T22:54:35Z</dcterms:modified>
  <cp:revision>457</cp:revision>
  <dc:subject/>
  <dc:title>Slide 1</dc:title>
</cp:coreProperties>
</file>