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3355-7F37-48F8-94B3-B9BB9376E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6A3A-C70A-4F3B-B0C6-DE1C0CA1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B570-DBBB-4FAE-9135-C68746A35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787B-5ADA-448D-956B-6A32F5050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5A0ED-2413-4997-9DB1-DE2AF174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16A7-B826-47A4-8F58-954300FF8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3485-FF37-486C-AA85-4B1A13A06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FFC6-E8E0-4CC0-AC4D-DFE4190E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82EE-502E-4F21-BD21-67143B5A4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78A2-F5C8-4641-A0F0-DDC2177B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B666-16F3-4352-9CC7-2F44CEB24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8D90-08FC-4EA0-BA98-42F5A2B73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F96B-0016-4A21-BFB8-48D3B3AC8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BFB7-1230-4081-B083-BD6283CE3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0C86-9BEF-48A9-BA5F-BE15C2089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6401-3F07-4CE0-828F-82911DC9A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F4F9-CDF3-48DF-B1FB-DE4327B1F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D9BF-D4C3-4B8A-99CF-98F2F202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A3C4-3735-41C3-AA21-4F2A0F49A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0F36-DBD9-4B00-8CF6-56A9965BD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41ED-B5A6-43F2-A3D6-6EFE6B0BD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E047-F6CC-4A6B-945D-4BA4D435E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57D3-D50B-4050-8E21-97AE1430C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ON A HORSE RACE WILL PAY OFF IF YOUR HORSE FINISHES FIRST, SECOND, OR TH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KEANU REEVES AND SANDRA BULLOCK IN A FAST-MOVING B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006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ABOUT A WIDOWER TYING 1000'S OF BALLOONS TO HIS HOUSE WAS NOMINATED FOR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ANY, WHAT IS A SHORT STEM WITH FLESHY LEAVES THAT FUNCTION AS A FOOD STORAGE ORGAN DURING DORMANC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00600"/>
            <a:ext cx="6477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ALCOHOLIC BEVERAGE IN THE WEST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IS CONSISTENTLY VOTED THE BEST ALBUM OF ALL TIME BY A FEMALE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KEANU REEVES AND SANDRA BULLOCK IN A FAST-MOVING 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IPOD THAT APPLE IS CURRENTLY PRODU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ON A HORSE RACE WILL PAY OFF IF YOUR HORSE FINISHES FIRST, SECOND, OR TH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71600" y="480060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L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ABOUT A WIDOWER TYING 1000'S OF BALLOONS TO HIS HOUSE WAS NOMINATED FOR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ANY, WHAT IS A SHORT STEM WITH FLESHY LEAVES THAT FUNCTIONS AS A FOOD STORAGE ORGAN DURING DORMANC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ALCOHOLIC BEVERAGE IN THE WESTERN HEMI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IS CONSISTENTLY VOTED THE BEST ALBUM OF ALL TIME BY A FEMALE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IPOD THAT APPLE IS CURRENTLY PRODU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2:01:08Z</dcterms:created>
  <dc:creator>Jennifer Budzinski</dc:creator>
  <dc:description/>
  <dc:language>en-US</dc:language>
  <cp:lastModifiedBy>Erich Friedman</cp:lastModifiedBy>
  <dcterms:modified xsi:type="dcterms:W3CDTF">2020-08-26T22:54:35Z</dcterms:modified>
  <cp:revision>457</cp:revision>
  <dc:subject/>
  <dc:title>Slide 1</dc:title>
</cp:coreProperties>
</file>