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4DA3-B339-454F-85E4-7FC2A02A1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F03E-E63C-41FF-B941-95EE1F779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3F4A-08A3-45AB-8EB8-A711ACCD8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D746-6E5A-4423-A503-0A15E37AB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2C88-9F0D-43D9-BAFC-47C12B017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438C-B9A6-4703-A415-A0DE19E9F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0563-F706-4BFE-A13D-2769D6B8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D89D-2BDD-402D-A334-4CD51CC9D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CD65-7371-4CE7-9890-564FA0829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187B-FB71-4BBA-9984-8D5FCA470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B54C-A452-424B-B8F8-5F4216789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61D8-043F-4F0F-9303-F282CBA34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DE08-611E-48AE-8167-DA63C9BA2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6639-B114-4D1B-9CAE-6F7A6EA32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CE0A-949F-4CB9-ABBD-03BD48BF4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5AD5-AF20-4F18-908D-63455614B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5C7-1C3F-4C98-93A6-DA3F7A71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9397-B948-4FF6-A9E6-02C8F204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D692-CFC1-4EA5-BEF1-2D15B152C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5C8B-3836-443B-BBBE-A5720D045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3E13-4A02-47F4-8949-79FFCEBBC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02A3-A481-426E-A251-57B9A1BB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F3AB-A110-43EC-99B2-03ED7AA4C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BLE PARABLE FROM LUKE 15 IS ABOUT A FATHER'S FORGIVEN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INST  ALL OD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1984 JEFF BRIDGES FILM, AND THE PHIL COLLINS POWER BALLAD THAT WAS ITS SOUNDTRACK, AND HIS FIRST #1 SOLO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ZING 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OST RECOGNIZED CHRISTIAN FOLK HYM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ILY  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MICHAEL J. FOX PORTRAY ALEX P. KEA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62040" y="762120"/>
            <a:ext cx="60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PAUL BUNYAN'S O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Y  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SUNG SONG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GENRES OF MUSIC: ROCK, POP, COUNTRY, AND RAP, WHICH HAS THE LOWEST S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GA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HITE, WINGED STALLION FROM GREEK MYTH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1984 JEFF BRIDGES FILM, AND THE PHIL COLLINS POWER BALLAD THAT WAS ITS SOUNDTRACK, AND HIS FIRST #1 SOLO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 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OCKEY TERM FOR A TEMPORARY NUMERICAL ADVANTAGE OF PLAYERS, DUE TO PENAL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DIGAL 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BLE PARABLE FROM LUKE 15 IS ABOUT A FATHER'S FORGIVE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LE  STEEL  NO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OST RECOGNIZED CHRISTIAN FOLK HYM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MICHAEL J. FOX PORTRAY ALEX P. KEA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PAUL BUNYAN'S O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SUNG SONG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GENRES OF MUSIC: ROCK, POP, COUNTRY, AND RAP, WHICH HAS THE LOWEST S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HITE, WINGED STALLION FROM GREEK MYTH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OCKEY TERM FOR A TEMPORARY NUMERICAL ADVANTAGE OF PLAYERS, DUE TO PENAL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8T14:48:02Z</dcterms:created>
  <dc:creator>Jennifer Budzinski</dc:creator>
  <dc:description/>
  <dc:language>en-US</dc:language>
  <cp:lastModifiedBy>Erich Friedman</cp:lastModifiedBy>
  <dcterms:modified xsi:type="dcterms:W3CDTF">2020-08-26T22:56:12Z</dcterms:modified>
  <cp:revision>385</cp:revision>
  <dc:subject/>
  <dc:title>Slide 1</dc:title>
</cp:coreProperties>
</file>