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0E30E-3EA1-430B-A854-49F61944A8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1BBB1-402B-4138-A3F8-6739DC712D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F7E44-17A2-4166-AB4B-1327FFC478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D58DD-D531-44A5-9B60-6106FD9BCA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0B125-8778-4764-AC1D-CD4B13918D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20F6C-281A-40A9-8C82-277518FAE4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A1284-7522-4CC8-92BD-676C738EB2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C29FA-7726-4A26-AE3D-79D2BFC7A8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4D2EB-AF91-4802-B6ED-1C1ADA8C98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FFDF7-38A0-4D74-8138-3C072F28E5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CF8F4-30D0-4146-8E98-EEE1B8BEAE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C6084-6175-40CD-B70F-511966691B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F3DCB-B26A-4C19-B67B-A7DEFEDD97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9A554-5D2F-4218-B020-ED9973C7A7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A241D-875C-4FFF-B239-1B9C06B3C7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6C80A-08C5-411A-9015-62CA875171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B571E-B1A9-4412-B94B-78658259A0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CCD90-8B3C-4E9D-9D67-860FEB1892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EB21E-0829-403E-907C-3376C9C018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AC940-CD39-4625-A581-11B05E6E56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24920-A1F0-4398-AC08-E0A9F80C64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87E56-45E1-49CF-B779-BCE3BEC8A5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ED5AB-F7E0-4257-BD55-F73A16D8A1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600200" y="1523880"/>
            <a:ext cx="5943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IBLE PARABLE FROM LUKE 15 IS ABOUT A FATHER'S FORGIVENES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GAINST  ALL OD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457200" y="762120"/>
            <a:ext cx="8229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A 1984 JEFF BRIDGES FILM, AND THE PHIL COLLINS POWER BALLAD THAT WAS ITS SOUNDTRACK, AND HIS FIRST #1 SOLO HI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8484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MAZING  GR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762120" y="762120"/>
            <a:ext cx="7619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MOST RECOGNIZED CHRISTIAN FOLK HYM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4582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MILY  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762120" y="762120"/>
            <a:ext cx="76197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WHAT TV SHOW DID MICHAEL J. FOX PORTRAY ALEX P. KEAT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836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562040" y="762120"/>
            <a:ext cx="6019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LOR WAS PAUL BUNYAN'S OX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81160" y="4876920"/>
            <a:ext cx="6781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PPY  BIRTH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219320" y="762120"/>
            <a:ext cx="670536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SUNG SONG IN THE WORL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UNT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09480" y="762120"/>
            <a:ext cx="79250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F THE 4 GENRES OF MUSIC: ROCK, POP, COUNTRY, AND RAP, WHICH HAS THE LOWEST SAL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GAS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723960" y="762120"/>
            <a:ext cx="76960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WHITE, WINGED STALLION FROM GREEK MYTHOLOG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19040" y="7621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A 1984 JEFF BRIDGES FILM, AND THE PHIL COLLINS POWER BALLAD THAT WAS ITS SOUNDTRACK, AND HIS FIRST #1 SOLO HI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OWER  PL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457200" y="762120"/>
            <a:ext cx="82296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HOCKEY TERM FOR A TEMPORARY NUMERICAL ADVANTAGE OF PLAYERS, DUE TO PENALTI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RODIGAL  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47640" y="762120"/>
            <a:ext cx="78487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IBLE PARABLE FROM LUKE 15 IS ABOUT A FATHER'S FORGIVENES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52280" y="4876920"/>
            <a:ext cx="8839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NIELLE  STEEL  NOV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6197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MOST RECOGNIZED CHRISTIAN FOLK HYM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647640" y="762120"/>
            <a:ext cx="78487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WHAT TV SHOW DID MICHAEL J. FOX PORTRAY ALEX P. KEAT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1447920" y="762120"/>
            <a:ext cx="62481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LOR WAS PAUL BUNYAN'S OX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SUNG SONG IN THE WORL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F THE 4 GENRES OF MUSIC: ROCK, POP, COUNTRY, AND RAP, WHICH HAS THE LOWEST SAL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723960" y="761760"/>
            <a:ext cx="76960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WHITE, WINGED STALLION FROM GREEK MYTHOLOG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HOCKEY TERM FOR A TEMPORARY NUMERICAL ADVANTAGE OF PLAYERS, DUE TO PENALTI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18T14:48:02Z</dcterms:created>
  <dc:creator>Jennifer Budzinski</dc:creator>
  <dc:description/>
  <dc:language>en-US</dc:language>
  <cp:lastModifiedBy>Erich Friedman</cp:lastModifiedBy>
  <dcterms:modified xsi:type="dcterms:W3CDTF">2020-08-26T22:56:12Z</dcterms:modified>
  <cp:revision>385</cp:revision>
  <dc:subject/>
  <dc:title>Slide 1</dc:title>
</cp:coreProperties>
</file>