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410B-8CB8-421A-8DAA-059BD7079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C087-7CF5-487D-A65B-8BCA59EC8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6FB9-4F41-4584-9F11-401D269D2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C7B3-6789-43F6-A5EF-F2552D358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676E-B03C-43D3-A615-6EAAC4908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2720-9C03-4B98-9995-9299ACA3A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3135-1C61-4E30-A712-1EEA77C5F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EA4A-71AE-4298-9E58-F06C46B55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6951-FF72-45FB-AF80-FF1202EBC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D5DA-8E8C-4C2A-A004-96F420085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F672-68D8-4C3D-8C64-956FEB395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1B2B-7DBF-4367-A2BB-DA6D02255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7296-E436-46FF-BCB6-B4513942D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1FE5-9708-4FA6-B7A2-CF733ADF8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E7D1-18DC-4DDF-ADE7-774FDDEC4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F3A2-2E35-4849-B118-29B91DD22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A7AB-C119-467F-9871-3F114CA13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7038-3836-48A5-9232-8AF3B79CE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419D-A591-4FA5-9F7B-144BCE46E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38FE-EF0C-481A-A1AF-740D95ACA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507D-9BF8-44E1-B813-93CBA3764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0AA6-C452-4D83-A584-9FAD1FDB4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F84F-CCFB-43F4-B7C9-FAE04BFCD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BLE PARABLE FROM LUKE 15 IS ABOUT A FATHER'S FORGIVEN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GAINST  ALL OD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 1984 JEFF BRIDGES FILM, AND THE PHIL COLLINS POWER BALLAD THAT WAS ITS SOUNDTRACK, AND HIS FIRST #1 SOLO H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AZING  G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OST RECOGNIZED CHRISTIAN FOLK HYM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MILY  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TV SHOW DID MICHAEL J. FOX PORTRAY ALEX P. KEA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83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562040" y="762120"/>
            <a:ext cx="601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WAS PAUL BUNYAN'S O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PPY  BIRTH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19320" y="762120"/>
            <a:ext cx="67053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SUNG SONG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4 GENRES OF MUSIC: ROCK, POP, COUNTRY, AND RAP, WHICH HAS THE LOWEST S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GA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WHITE, WINGED STALLION FROM GREEK MYTHO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 1984 JEFF BRIDGES FILM, AND THE PHIL COLLINS POWER BALLAD THAT WAS ITS SOUNDTRACK, AND HIS FIRST #1 SOLO H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WER  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OCKEY TERM FOR A TEMPORARY NUMERICAL ADVANTAGE OF PLAYERS, DUE TO PENAL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DIGAL  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BLE PARABLE FROM LUKE 15 IS ABOUT A FATHER'S FORGIVEN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2280" y="4876920"/>
            <a:ext cx="883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IELLE  STEEL  NOV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OST RECOGNIZED CHRISTIAN FOLK HYM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TV SHOW DID MICHAEL J. FOX PORTRAY ALEX P. KEA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447920" y="762120"/>
            <a:ext cx="6248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WAS PAUL BUNYAN'S O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SUNG SONG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4 GENRES OF MUSIC: ROCK, POP, COUNTRY, AND RAP, WHICH HAS THE LOWEST S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WHITE, WINGED STALLION FROM GREEK MYTHOLO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OCKEY TERM FOR A TEMPORARY NUMERICAL ADVANTAGE OF PLAYERS, DUE TO PENALT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8T14:48:02Z</dcterms:created>
  <dc:creator>Jennifer Budzinski</dc:creator>
  <dc:description/>
  <dc:language>en-US</dc:language>
  <cp:lastModifiedBy>Erich Friedman</cp:lastModifiedBy>
  <dcterms:modified xsi:type="dcterms:W3CDTF">2020-08-26T22:56:12Z</dcterms:modified>
  <cp:revision>385</cp:revision>
  <dc:subject/>
  <dc:title>Slide 1</dc:title>
</cp:coreProperties>
</file>