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9F74-653B-4147-8672-A9C3E8471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DEA8-8D99-4135-8796-6FB8B1C54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8E61-7BC3-480E-A389-7E18B8EFA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16B0-E83A-4541-A86B-D6231C889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527C-2042-4247-B40E-D33F03D18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DF88-0AAE-485A-A88D-710796CF0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79FC-63EB-46B3-9CDB-A76BCADB1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00FA-C0B8-402E-98C2-7A07AB2A2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D2AC-C1C5-4ED4-953A-C2BA484C2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371D-FAC9-429E-A078-F8A289525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580A-3D76-48E1-8DE7-87E0D60CC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B0BE-6624-4939-B3DD-4E0F6ADAD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4817-89DF-4FEF-9861-4C6083BCE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E63B-A754-4699-B634-2D21B0F37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2BAF-6292-48A6-9D3A-D3BD329D5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7DBF-6428-4BBD-B11A-39A89D5F4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C0ED-FE32-4433-B99D-FFFD41E17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18DB-A5D5-46E1-B791-74D01DC39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FCE6-6751-4E72-A45E-B5CEB5AA8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EBF8-6B2B-439C-92FF-7E49FE044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3F70-A51A-4951-863E-ECB4B17B1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9DA4-ABDB-4B4D-96F7-92E262EB0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F3E2-D77F-426E-BD21-6C177F85F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RODUCED THE RONETTES, THE CRYSTALS, JOHN LENNON, AND GEORGE HARRISON, BEFORE BEING FOUND GUILTY OF MU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AREC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RAY BOLGER PLAY IN "THE WIZARD OF OZ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  JUSTICE  FOR  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LAST 4 WORDS OF THE PLEDGE OF ALLEGI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04920" y="48769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CONTAINS THE LYRICS "ALL I CAN TELL IS BROTHER YOU HAVE TO WA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980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  OF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ENT TO #1 IN 1959 WHEN SUNG BY PHIL PHILLIPS AND AGAIN IN 1985 WHEN SUNG BY THE HONEYDRIPP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219320" y="4876920"/>
            <a:ext cx="6705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K  T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COMIC STRIP INTRODUCED 2-WAY WRIST RADIOS IN 1946, FORESHADOWING THE SMARTWAT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IAMI NBA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Y  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YPICALLY, WHAT IS THE ADMINISTRATION BUILDING OF A MUNICIPAL GOVERNMEN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RAY BOLGER PLAY IN "THE WIZARD OF OZ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VIL'S  ADVOC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A PERSON WHO EXPRESSES A CONTENTIOUS OPINION IN ORDER TO PROVOKE DEB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SP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RODUCED THE RONETTES, THE CRYSTALS, JOHN LENNON, AND GEORGE HARRISON, BEFORE BEING FOUND GUILTY OF MU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8580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AL  PACINO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LAST 4 WORDS OF THE PLEDGE OF ALLEGI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CONTAINS THE LYRICS "ALL I CAN TELL IS BROTHER YOU HAVE TO WA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ENT TO #1 IN 1959 WHEN SUNG BY PHIL PHILLIPS AND AGAIN IN 1985 WHEN SUNG BY THE HONEYDRIPP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COMIC STRIP INTRODUCED 2-WAY WRIST RADIOS IN 1946, FORESHADOWING THE SMARTWAT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IAMI NBA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YPICALLY, WHAT IS THE ADMINISTRATION BUILDING OF A MUNICIPAL GOVERNMEN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A PERSON WHO EXPRESSES A CONTENTIOUS OPINION IN ORDER TO PROVOKE DEB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04:06:28Z</dcterms:created>
  <dc:creator>Jennifer Budzinski</dc:creator>
  <dc:description/>
  <dc:language>en-US</dc:language>
  <cp:lastModifiedBy>Erich Friedman</cp:lastModifiedBy>
  <dcterms:modified xsi:type="dcterms:W3CDTF">2020-08-26T22:57:36Z</dcterms:modified>
  <cp:revision>411</cp:revision>
  <dc:subject/>
  <dc:title>Slide 1</dc:title>
</cp:coreProperties>
</file>