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E242-09FC-46AA-A41F-84CCE5944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EAEE-B349-46F0-8156-DF4E9812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74AF-8CD7-4D96-887F-FC0F5A491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CEED-9FB4-4B93-9E4B-E9D49EA81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5161-63DD-4EFE-B071-5DA3D33F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6E6B-8E70-4048-8211-A7789DF9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9530-A14A-40E2-9843-633EBC46E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7E5-4ED4-47FF-B6EB-CE6378E4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D3A-5D56-4684-BBBC-80AF7503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71D6-3067-493C-A433-5EB9192F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73A4-1154-43A2-98A1-286CF8729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189-FED0-49AA-B979-56E0F8FB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274B-DC6F-4D91-85F3-1FABEEE47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9C57-97AF-4EC5-84CE-0449C7072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5484-4EE0-4559-BF3A-4B19F12A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0A69-A83D-45F2-B55C-2EBBEFCD9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6C24-3A14-4C4C-9EAC-17A70681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BE24-425B-4F5B-8E6A-9A49596B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1BBF-6EBF-436A-ADF7-F209DBEC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94EC-0E3C-4D4C-B5F8-255DF20D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5325-6CF2-40DE-B088-FB3B9C7B7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EBA1-4456-4EF2-B322-83F2CBA5C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0F5B-AF35-41C9-9E09-9A575B95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THE RONETTES, THE CRYSTALS, JOHN LENNON, AND GEORGE HARRISON, BEFORE BEING FOUND GUILTY OF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JUSTICE  FOR 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4 WORDS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ALL I CAN TELL IS BROTHER YOU HAVE TO WA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OF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1 IN 1959 WHEN SUNG BY PHIL PHILLIPS AND AGAIN IN 1985 WHEN SUNG BY THE HONEYDRIPP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INTRODUCED 2-WAY WRIST RADIOS IN 1946, FORESHADOWING THE SMARTWAT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AMI NBA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Y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LY, WHAT IS THE ADMINISTRATION BUILDING OF A MUNICIPAL GOVERNM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'S  ADVO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ERSON WHO EXPRESSES A CONTENTIOUS OPINION IN ORDER TO PROVOKE DEB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THE RONETTES, THE CRYSTALS, JOHN LENNON, AND GEORGE HARRISON, BEFORE BEING FOUND GUILTY OF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AL  PACINO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4 WORDS OF THE PLEDGE OF ALLEGI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ALL I CAN TELL IS BROTHER YOU HAVE TO WA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1 IN 1959 WHEN SUNG BY PHIL PHILLIPS AND AGAIN IN 1985 WHEN SUNG BY THE HONEYDRIPP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INTRODUCED 2-WAY WRIST RADIOS IN 1946, FORESHADOWING THE SMARTWAT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AMI NBA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LY, WHAT IS THE ADMINISTRATION BUILDING OF A MUNICIPAL GOVERNM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ERSON WHO EXPRESSES A CONTENTIOUS OPINION IN ORDER TO PROVOKE DEB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04:06:28Z</dcterms:created>
  <dc:creator>Jennifer Budzinski</dc:creator>
  <dc:description/>
  <dc:language>en-US</dc:language>
  <cp:lastModifiedBy>Erich Friedman</cp:lastModifiedBy>
  <dcterms:modified xsi:type="dcterms:W3CDTF">2020-08-26T22:57:36Z</dcterms:modified>
  <cp:revision>411</cp:revision>
  <dc:subject/>
  <dc:title>Slide 1</dc:title>
</cp:coreProperties>
</file>