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86C2-5D14-4C9F-9699-EAED5DB3D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302C-8113-4316-97D6-0C30B1E8B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7AFE-DF05-48F0-AC33-1A5E230ED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C9D4-9CDC-482C-BE18-8FD08251B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3140-3616-4C00-A883-D821BB5D5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2AC6-6634-40A0-A410-B90A575C8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E82E-8657-4EC2-8F4C-76ECE067D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5144-F3D9-48B6-A3EA-54BA394EA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22D9-02C8-4757-A4C5-B0BD19F59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A275-8858-440A-BF2A-AA68B0C37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CC84-24EE-4521-B8C2-C314124B2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F4C4-153E-4BFD-8507-9B6BE8DFC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FE1B-0853-44DE-8BF6-6B624538D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EE71-40DD-4FE5-B5EE-6CC02CF9E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840F-7F21-466C-9AC3-BA90ABA77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EFD5-5D2E-44BD-B822-D75B02EBC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BCB7-507B-49D1-9DCE-1F7872D68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F0A5-0A5D-4D94-A5D4-5DC532F79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EE4B-AC12-4FDE-A3C4-B1983537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9265-FACB-46A6-9D8A-6BD215132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AAEB-89AE-4C0D-B553-14385D959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D3C2-502F-4D7A-B783-8E2188358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FC15-C253-4B2C-845B-63821F506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THE RONETTES, THE CRYSTALS, JOHN LENNON, AND GEORGE HARRISON, BEFORE BEING FOUND GUILTY OF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EC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"THE WIZARD OF O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  JUSTICE  FOR 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4 WORDS OF THE PLEDGE OF ALLEGI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ALL I CAN TELL IS BROTHER YOU HAVE TO WA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  OF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ENT TO #1 IN 1959 WHEN SUNG BY PHIL PHILLIPS AND AGAIN IN 1985 WHEN SUNG BY THE HONEYDRIPP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  T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COMIC STRIP INTRODUCED 2-WAY WRIST RADIOS IN 1946, FORESHADOWING THE SMARTWAT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AMI NBA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Y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ICALLY, WHAT IS THE ADMINISTRATION BUILDING OF A MUNICIPAL GOVERNM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RAY BOLGER PLAY IN "THE WIZARD OF O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VIL'S  ADVO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PERSON WHO EXPRESSES A CONTENTIOUS OPINION IN ORDER TO PROVOKE DEB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SP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THE RONETTES, THE CRYSTALS, JOHN LENNON, AND GEORGE HARRISON, BEFORE BEING FOUND GUILTY OF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AL  PACINO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4 WORDS OF THE PLEDGE OF ALLEGI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ALL I CAN TELL IS BROTHER YOU HAVE TO WAI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ENT TO #1 IN 1959 WHEN SUNG BY PHIL PHILLIPS AND AGAIN IN 1985 WHEN SUNG BY THE HONEYDRIPP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COMIC STRIP INTRODUCED 2-WAY WRIST RADIOS IN 1946, FORESHADOWING THE SMARTWAT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AMI NBA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ICALLY, WHAT IS THE ADMINISTRATION BUILDING OF A MUNICIPAL GOVERNME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PERSON WHO EXPRESSES A CONTENTIOUS OPINION IN ORDER TO PROVOKE DEB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04:06:28Z</dcterms:created>
  <dc:creator>Jennifer Budzinski</dc:creator>
  <dc:description/>
  <dc:language>en-US</dc:language>
  <cp:lastModifiedBy>Erich Friedman</cp:lastModifiedBy>
  <dcterms:modified xsi:type="dcterms:W3CDTF">2020-08-26T22:57:36Z</dcterms:modified>
  <cp:revision>411</cp:revision>
  <dc:subject/>
  <dc:title>Slide 1</dc:title>
</cp:coreProperties>
</file>