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6CB3-531F-468C-9BA4-9CB89EB7E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B0FD-3E9A-4CBD-AC2C-8EB904AEE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E431-B3AE-42CC-A360-14EFB1280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67FA-66CE-49BC-A512-D93B3ABAA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27AE-EAA4-4D0D-89EC-221C04070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0DC2-A6F7-4E91-8369-B35F69F8C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981B-B4B7-49F3-B68E-680B3F8E1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E6D5-9C88-41A8-B53A-A89B0EDAA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8A7B-5D46-4165-94E5-560A694E1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3060-40B5-4C35-9E2E-9A11CDCB1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F857-EB48-4A00-BF6C-856E8DFF6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0C33-16A3-4D09-9A73-875321463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8FB3-5B22-48F2-ADEE-6987A9E5A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E7FB-4448-433C-AEA1-2D4713866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D7AE-86E7-4D77-9D7E-5B021B7C1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6F52-D944-4C03-A7B5-EFF73CF1B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803A-32EC-42BB-A874-74CE1DD66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AB31-0CA8-44D4-9711-0499D7509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ECA4-DFCA-4DFD-B64B-5346BA9F1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A98A-48BD-45D7-A8CB-F810C9B7C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81FA-1EE8-457A-8D37-0ED34040A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4702-5169-42B8-B5AF-56A4CD812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66D2-E5AA-43E4-95B8-6CDACB208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  OF MARGARET BROWN, A NOTORIOUS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SHOPLIFTER &amp; PICKPOCK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  P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WOODY'S ROMANTIC INTEREST IN THE FILM "TOY STORY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  HAD  A  LITTLE  LA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THING THAT THOMAS EDISON RECORDED ON HIS NEWLY INVENTED PHONOGRA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MPTY  DUMP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COHOLIC DRINK CONTAINS CRANBERRY JUICE, ORANGE JUICE, EGGS, TRIPLE SEC, AND VODK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AND  J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STARS ADAM SANDLER PLAYING BOTH A MAN AND HIS SI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39800"/>
            <a:ext cx="79250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OF CHANCE WAS ORIGINALLY CALLED BEA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  GOES  THE  WEAS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IS MOST COMMONLY PLAYED BY JACK-IN-THE-BOX CHILDREN'S TO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K–A–DOODLE–D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ND IS A ROOSTER FAMOUS FOR MAKING EARLY IN THE MOR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WOODY'S ROMANTIC INTEREST IN THE FILM "TOY STORY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  CROSS  B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BREAD IS TRADITIONALLY EATEN ON GOOD FRIDAY IN ENG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D  MOTHER  HUBB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  OF MARGARET BROWN, A NOTORIOUS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SHOPLIFTER &amp; PICKPOCK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NURSERY  RH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THING THAT THOMAS EDISON RECORDED ON HIS NEWLY INVENTED PHONOGRAP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COHOLIC DRINK CONTAINS CRANBERRY JUICE, ORANGE JUICE, EGGS, TRIPLE SEC, AND VODK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STARS ADAM SANDLER PLAYING BOTH A MAN AND HIS SI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OF CHANCE WAS ORIGINALLY CALLED BEAN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IS MOST COMMONLY PLAYED BY JACK-IN-THE-BOX CHILDREN'S TO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ND IS A ROOSTER FAMOUS FOR MAKING EARLY IN THE MOR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BREAD IS TRADITIONALLY EATEN ON GOOD FRIDAY IN ENG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17:38:39Z</dcterms:created>
  <dc:creator>Jennifer Budzinski</dc:creator>
  <dc:description/>
  <dc:language>en-US</dc:language>
  <cp:lastModifiedBy>Erich Friedman</cp:lastModifiedBy>
  <dcterms:modified xsi:type="dcterms:W3CDTF">2020-08-26T22:59:24Z</dcterms:modified>
  <cp:revision>404</cp:revision>
  <dc:subject/>
  <dc:title>Slide 1</dc:title>
</cp:coreProperties>
</file>