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6C80-1F29-4E95-BA45-F07CD1A88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F8A0-6E19-4F06-A319-C5A78E659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C18E-D733-42C4-A57E-545E38B65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102C-AAD2-4CA0-87C9-1B7904377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E236-9DF5-4C50-9CC8-73F2145ED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E5F7-4432-4A6A-8F97-E45D7BCAB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433D-0B52-4CA9-B262-7CB544C96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98E4-235F-487B-AAA1-3D983A8C4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9A39-35FD-45EC-A7BD-6FFA9F403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8F1A-9524-403D-B989-C2A9CEFA3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7C39-05C0-4DA3-87AF-6496B8D43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1045-2B70-4766-B18B-F4D8EB80A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5D86-FE82-4E00-B418-9B4C9D4FC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8715-18BA-402D-AD59-82D2F3A76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D055-6A78-40FB-833E-6BA006E9B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4D19-44F6-4F0C-8141-26E54C549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2D01-F17F-4183-B0A1-51E375C78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6E6E-7FA0-499C-AA37-AC396A0AE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C47D-0314-4763-B70D-D79EF8CD1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EBF0-3B50-402C-A415-0E97EB627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10D0-DC94-4976-AC10-8EC48056A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D045-7ECE-407F-BBE6-465A33166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342A-41EC-42C0-9403-A7CF9C118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  OF MARGARET BROWN, A NOTORIOUS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SHOPLIFTER &amp; PICKPOCK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  P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WOODY'S ROMANTIC INTEREST IN THE FILM "TOY STORY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  HAD  A  LITTLE  LAM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THING THAT THOMAS EDISON RECORDED ON HIS NEWLY INVENTED PHONOGRA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MPTY  DUMP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COHOLIC DRINK CONTAINS CRANBERRY JUICE, ORANGE JUICE, EGGS, TRIPLE SEC, AND VODK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AND  J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FILM STARS ADAM SANDLER PLAYING BOTH A MAN AND HIS SI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N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39800"/>
            <a:ext cx="79250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OF CHANCE WAS ORIGINALLY CALLED BEAN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  GOES  THE  WEAS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IS MOST COMMONLY PLAYED BY JACK-IN-THE-BOX CHILDREN'S TO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CK–A–DOODLE–D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ND IS A ROOSTER FAMOUS FOR MAKING EARLY IN THE MOR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WOODY'S ROMANTIC INTEREST IN THE FILM "TOY STORY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T  CROSS  BU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BREAD IS TRADITIONALLY EATEN ON GOOD FRIDAY IN ENG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D  MOTHER  HUBB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  OF MARGARET BROWN, A NOTORIOUS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SHOPLIFTER &amp; PICKPOCK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NURSERY  RH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THING THAT THOMAS EDISON RECORDED ON HIS NEWLY INVENTED PHONOGRAP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COHOLIC DRINK CONTAINS CRANBERRY JUICE, ORANGE JUICE, EGGS, TRIPLE SEC, AND VODK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FILM STARS ADAM SANDLER PLAYING BOTH A MAN AND HIS SI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OF CHANCE WAS ORIGINALLY CALLED BEAN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IS MOST COMMONLY PLAYED BY JACK-IN-THE-BOX CHILDREN'S TO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ND IS A ROOSTER FAMOUS FOR MAKING EARLY IN THE MOR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BREAD IS TRADITIONALLY EATEN ON GOOD FRIDAY IN ENG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17:38:39Z</dcterms:created>
  <dc:creator>Jennifer Budzinski</dc:creator>
  <dc:description/>
  <dc:language>en-US</dc:language>
  <cp:lastModifiedBy>Erich Friedman</cp:lastModifiedBy>
  <dcterms:modified xsi:type="dcterms:W3CDTF">2020-08-26T22:59:24Z</dcterms:modified>
  <cp:revision>404</cp:revision>
  <dc:subject/>
  <dc:title>Slide 1</dc:title>
</cp:coreProperties>
</file>