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625B-D28B-4C42-B7B9-47216EE64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FE14-7DD9-4A3D-A4CF-70BC5EB0A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024B-3A8E-4293-9163-C5175F51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7111-C918-44CE-B4FD-708D87FBC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82C5-431C-449A-8014-2A66B5E8A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AA26-7692-4AF4-9C4C-17B1F1B9D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630F-B00D-468D-B783-AC0395DED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5BB3-E624-4766-98AE-6D1B6321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7085-1B3C-44BD-92C0-BCCCDB841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5CD0-9337-409C-A5F2-D3BD8D73A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8ABD-C933-47DF-B1FE-3202AD23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C938-263A-40A6-B746-1B0C760C3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CECC-C2CB-475B-B192-A86438110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93AB-ACB8-4EE9-8CB5-453683508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6A98-278F-4657-8A83-2A20A74D2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0CBC-899B-4438-84F6-D6D9A611A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BC3B-0272-438F-A36C-9880E6F4F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D125-C3E9-49BF-B841-5BAB5BFFB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E83C-4AF2-4C47-ACCE-61EB4576C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C9B3-C1A0-4847-9DA8-2F6D903C1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5F8C-44F2-4777-A6D6-A9030CCBC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623D-8D0B-4134-87E9-47FEE8AB9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520E-4621-44F6-8169-4B6E2EB62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  OF MARGARET BROWN, A NOTORIOUS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HOPLIFTER &amp; PICKPOC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  P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OODY'S ROMANTIC INTEREST IN THE FILM "TOY STOR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HAD  A  LITTLE  LA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HING THAT THOMAS EDISON RECORDED ON HIS NEWLY INVENTED PHONO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TY  DUMP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CONTAINS CRANBERRY JUICE, ORANGE JUICE, EGGS, TRIPLE SEC, AND VOD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AND  J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S ADAM SANDLER PLAYING BOTH A MAN AND HIS 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39800"/>
            <a:ext cx="792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OF CHANCE WAS ORIGINALLY CALLED BEA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  GOES  THE  WEA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MOST COMMONLY PLAYED BY JACK-IN-THE-BOX CHILDREN'S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K–A–DOODLE–D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ND IS A ROOSTER FAMOUS FOR MAKING EARLY IN THE MO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OODY'S ROMANTIC INTEREST IN THE FILM "TOY STOR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CROSS  B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READ IS TRADITIONALLY EATEN ON GOOD FRIDAY IN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MOTHER  HUBB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  OF MARGARET BROWN, A NOTORIOUS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HOPLIFTER &amp; PICKPOC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URSERY  RH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HING THAT THOMAS EDISON RECORDED ON HIS NEWLY INVENTED PHONOGRAP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CONTAINS CRANBERRY JUICE, ORANGE JUICE, EGGS, TRIPLE SEC, AND VOD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S ADAM SANDLER PLAYING BOTH A MAN AND HIS S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OF CHANCE WAS ORIGINALLY CALLED BEAN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MOST COMMONLY PLAYED BY JACK-IN-THE-BOX CHILDREN'S T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ND IS A ROOSTER FAMOUS FOR MAKING EARLY IN THE MOR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READ IS TRADITIONALLY EATEN ON GOOD FRIDAY IN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7:38:39Z</dcterms:created>
  <dc:creator>Jennifer Budzinski</dc:creator>
  <dc:description/>
  <dc:language>en-US</dc:language>
  <cp:lastModifiedBy>Erich Friedman</cp:lastModifiedBy>
  <dcterms:modified xsi:type="dcterms:W3CDTF">2020-08-26T22:59:24Z</dcterms:modified>
  <cp:revision>404</cp:revision>
  <dc:subject/>
  <dc:title>Slide 1</dc:title>
</cp:coreProperties>
</file>