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8336-72DB-4C04-AEB9-8CA9586F3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A5E9-ADAA-4187-8461-C8D8A3698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50F6-A837-4710-9DF3-C0C77F4EC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D60F-8157-46B6-9475-1C41A1FCB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834A-3375-4BF0-A841-85D0455BD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F5D8-5B54-41DD-9BB5-B61423A8A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6F72-1FE5-4FEF-8FBB-E8BD19086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1519-66D0-44EC-B0D8-CCA9DDB16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B4EC-F539-49F2-B616-278E5D0BD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5EE3-4442-47EF-81F1-6C218859E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0F8B-BDC8-41D3-8A1F-707672112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1D9A-FE82-4C05-8D3A-289553D9D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AD28-9D29-48EC-AD91-8773265F2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C2F1-410D-4FC5-ABD0-92E0026B2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AAC9-CFFC-4044-B3DA-5F696B7A8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DE59-A2E3-4023-B071-F8B859FF1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5372A-DC4E-42DD-B0B1-6AECC1052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AA84-05DD-4D54-ADAB-20CE3AAE9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0439-228F-4EE3-A0AC-16468BC58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A08E-DC68-4A37-B0CE-DFEB2BC04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DF06-1FCA-4647-9F01-E07EDA52C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80B4-BF7A-4193-B551-2A73709F8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9DD14-7D5C-4B2F-924E-E1BB4B85D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FILL IN THE BLANK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APA'S GOT A BRAND NEW 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MES BROW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LEEPING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ZZ TOP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 CAN ____ IT OU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HAR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DEPECHE MOD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S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MA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PPENWOL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M YOUR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ICE-T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2280" y="762120"/>
            <a:ext cx="8839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____ NAMED SU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NY CAS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ANK GOD I'M A COUNTR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DENVER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42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RRY THAT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AND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5420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'T LOOK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ST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IN THE HIGH LIFE AGAI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VE WINWOOD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YE OF THE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URVIVO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VE GOT A ____ BY THE TAIL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UCK OWEN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G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FOUR SEAS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OVER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VIS PRESLE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 CAN ____ IT OUT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HARD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DEPECHE MOD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ET ____ I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EAG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THE RAINBOW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UDY GARLAND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APA'S GOT A BRAND NEW 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MES BROW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LEEPING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ZZ TOP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00280" y="487692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"PAP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MA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PPENWOLF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M YOUR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ICE-T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52280" y="762120"/>
            <a:ext cx="8839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____ NAMED SU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NY CAS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ANK GOD I'M A COUNTR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DENVER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RRY THAT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AND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'T LOOK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STO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IN THE HIGH LIFE AGAI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VE WINWOOD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YE OF THE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URVIVO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VE GOT A ____ BY THE TAIL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UCK OWEN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G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FOUR SEASON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OVER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VIS PRESLEY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ET ____ IT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EAGL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THE RAINBOW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UDY GARLAND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2:14:49Z</dcterms:created>
  <dc:creator>Jennifer Budzinski</dc:creator>
  <dc:description/>
  <dc:language>en-US</dc:language>
  <cp:lastModifiedBy>Erich Friedman</cp:lastModifiedBy>
  <dcterms:modified xsi:type="dcterms:W3CDTF">2020-08-26T23:01:49Z</dcterms:modified>
  <cp:revision>406</cp:revision>
  <dc:subject/>
  <dc:title>Slide 1</dc:title>
</cp:coreProperties>
</file>