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EA45-0D3F-4B8E-B8D5-4E2B87844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66A2-6401-4B0F-94B4-A1EC4E771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9C37-3719-49CA-ACD5-6C64396B7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254A-152D-433C-9D82-790574CF2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7934-F0F1-425E-8F58-C0015A753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0664-05C9-4887-A075-B5C36043D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5408-FF9C-4E3A-B85A-6EDA96123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3C33-7876-430A-AA91-37467CC53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EE8E-5616-4A2F-9775-58AAA232B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8B28-C882-4613-BC41-5E5CA1A62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4516-0AC6-46B5-8749-FDC48A44F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BA18-3454-46AF-906C-6EB4B6801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2D74-4C6F-42FB-B92E-D5C15B3BD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134F-D409-41E2-95D6-BC00DC4A4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2D8F-95D9-4986-811A-0AE30F4F6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D481-2BAC-420C-B17D-DCA5B62E1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63B8-0EDB-4597-A82A-2C06CA6F1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E5DE-29DB-442B-AE53-58C51CC9F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69B8-965E-42DA-BE05-F1702AF4A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156A-2D24-45C0-A3EA-BD41A1D53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B157-CF16-49B5-A49E-6C519C87A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5496-23B7-4BDD-8564-31A4895A6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6EB2-F46F-4FE4-B310-F2C8D7B45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8076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AL FILL IN THE BLANK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PAPA'S GOT A BRAND NEW 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AMES BROWN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LEEPING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ZZ TOP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WORD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E CAN ____ IT OUT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EATL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HARD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DEPECHE MOD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S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333440" y="762120"/>
            <a:ext cx="6477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MAN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TEPPENWOL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'M YOUR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ICE-T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52280" y="762120"/>
            <a:ext cx="8839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 ____ NAMED SU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NY CAS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ANK GOD I'M A COUNTRY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DENVER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42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ARRY THAT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EATL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AND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5420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ON'T LOOK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OST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IN THE HIGH LIFE AGAIN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TEVE WINWOOD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EYE OF THE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URVIVO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'VE GOT A ____ BY THE TAIL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UCK OWEN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AG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FOUR SEAS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OVER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LVIS PRESLEY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E CAN ____ IT OUT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EATLE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HARD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DEPECHE MODE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ET ____ IT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EAGL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THE RAINBOW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UDY GARLAND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28600" y="762120"/>
            <a:ext cx="8686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PAPA'S GOT A BRAND NEW 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AMES BROW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LEEPING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ZZ TOP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00280" y="4876920"/>
            <a:ext cx="7543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FOLLOW  "PAPE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WORD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MAN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TEPPENWOLF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'M YOUR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ICE-T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52280" y="762120"/>
            <a:ext cx="8839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 ____ NAMED SU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NY CAS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ANK GOD I'M A COUNTRY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DENVER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ARRY THAT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EATLE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AND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ON'T LOOK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OSTON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IN THE HIGH LIFE AGAIN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TEVE WINWOOD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EYE OF THE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URVIVOR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'VE GOT A ____ BY THE TAIL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UCK OWEN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AG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FOUR SEASON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OVER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LVIS PRESLEY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ET ____ IT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EAGLE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THE RAINBOW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UDY GARLAND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2:14:49Z</dcterms:created>
  <dc:creator>Jennifer Budzinski</dc:creator>
  <dc:description/>
  <dc:language>en-US</dc:language>
  <cp:lastModifiedBy>Erich Friedman</cp:lastModifiedBy>
  <dcterms:modified xsi:type="dcterms:W3CDTF">2020-08-26T23:01:49Z</dcterms:modified>
  <cp:revision>406</cp:revision>
  <dc:subject/>
  <dc:title>Slide 1</dc:title>
</cp:coreProperties>
</file>