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617D-B449-4B96-8454-1D917CAD6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0B6B-98DF-4C94-B5AA-6DCD0FDF2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32ED-61FC-49B1-81F8-DCD46C642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430F-338C-4167-80B8-9A23A7474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422-FAB6-4A92-919A-9CF3B7287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88B4-53DD-4106-B51B-34756A514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CAA2-68AA-4A36-850F-648FE9052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3653-765C-4593-A2AD-95E31B174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BB09-B02D-4E42-B6F7-08607BB1C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0951-1CBF-4DAB-AC2E-E6E2C2BE4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EB6C-79DF-455B-9661-9A30010B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39D-626D-4D61-A818-6B90B681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5452-D5EA-4E62-B97B-BBA2F4650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378-1D61-4EBC-9924-B992836E2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205E-5B2D-4A50-88EE-A76B8AE2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F17-98CA-4C3A-B0EA-D76F503A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4024-0C69-4A53-98A5-6F2CFA1B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F221-F26E-4BAE-B42D-ADED99FA8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0CDE-BDB9-48FB-BE78-5073A8866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73A-CE7D-4794-9EEC-0DDA2F217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B173-93DF-45DC-B631-041804BAD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F82D-B266-48A8-BBFE-95EF08628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7E3E-F194-4B37-B850-802E18211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PA'S GOT A BRAND NEW 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BROW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LEEPING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ZZ TOP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CAN ____ IT OU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R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EPECHE MOD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M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YOUR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CE-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280" y="762120"/>
            <a:ext cx="8839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____ NAMED SU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GOD I'M A COUNTR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DENV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42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RRY THAT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AN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5420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LOOK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S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IN THE HIGH LIFE AGAI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VE WINWOO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YE OF 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VE GOT A ____ BY THE TAIL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UCK OWE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G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FOUR SEAS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OVER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CAN ____ IT OU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RD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EPECHE MOD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T ____ I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HE RAINBOW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UDY GARLAN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PA'S GOT A BRAND NEW 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BROW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LEEPING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ZZ TOP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PAP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MA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YOUR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CE-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762120"/>
            <a:ext cx="8839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____ NAMED SU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GOD I'M A COUNTR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DENV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RRY THAT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AN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LOOK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STO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IN THE HIGH LIFE AGAI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VE WINWOO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YE OF 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VE GOT A ____ BY THE TAIL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UCK OWEN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G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FOUR SEASON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OVER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T ____ I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HE RAINBOW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UDY GARLAN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2:14:49Z</dcterms:created>
  <dc:creator>Jennifer Budzinski</dc:creator>
  <dc:description/>
  <dc:language>en-US</dc:language>
  <cp:lastModifiedBy>Erich Friedman</cp:lastModifiedBy>
  <dcterms:modified xsi:type="dcterms:W3CDTF">2020-08-26T23:01:49Z</dcterms:modified>
  <cp:revision>406</cp:revision>
  <dc:subject/>
  <dc:title>Slide 1</dc:title>
</cp:coreProperties>
</file>