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4B82-8134-438C-84E1-8F156363E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2438-844F-4280-9745-CE0798117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0BF4-C887-4C01-813C-A41C766D6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9040-79F7-40D1-BA09-DE1DFF97D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E0EE-CFFD-4C09-B106-DD696A90C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DE85-BC04-4FA4-A7BE-5B0C52660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3976-BF3C-4DFE-87F1-2672CD1B9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F7E5-0137-49BC-AB61-0BF2CEBBE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6FB4-E193-4F55-BFE8-15A0E863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4577-6F23-4D16-B034-061DFFEBF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6B59-5315-4E95-84B2-4B19F5372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B796-D113-4E5C-9DD1-802771DEF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25D6-A3DF-4718-90BE-D8E22485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EC03-7C99-42B3-9CCE-FFDC3A2C4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6FC3-186C-45B2-9943-FE9C6D82F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87CF-786C-4926-B3E3-B296C756D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49BB-4E2D-4C19-AC79-AE419250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32FD-58FC-4308-A1E7-8E9219960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08C1-1866-45B4-8B22-FF9F633C2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95B4-AB7A-4E50-A10E-82EBD54A8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4EB9-7238-417B-BB9C-BA934E1B7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1B29-3A72-4C3B-8A88-9D1E8EC4C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580A-A80B-4282-AC49-E4AF70AFC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WO LARGEST ANTITRUST SETTLEMENTS EVER WERE RELATED TO FEES OF WHAT I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HAS COMPLETELY DIFFERENT MEANINGS IN WRESTLING, BOWLING, AND CH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OSSIBLE SCORE ON THE MATH S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0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STANFORD UNIVERSITY'S SPORTS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952560" y="76032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0 DUET WITH BEYONCÉ DOES LADY GAGA CHEW OUT A FRIEND WHO CALLS HER UP IN A NOISY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'S THE TOP-LEVEL USDA GRADE FOR BEEF, HIGHER THAN "CHOICE" OR "SELE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38360" y="480060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IAL 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NEFITS WILL MOST AMERICANS BE ELIGIBLE FOR, BUT DOUBT THAT THEY WILL ACTUALLY RECE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HAS COMPLETELY DIFFERENT MEANINGS IN WRESTLING, BOWLING, AND CH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1320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80880" y="990720"/>
            <a:ext cx="5105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EREAL SPOKES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Lucky,_the_Leprechaun_(General_Mills'_mascot).jpg"/>
          <p:cNvPicPr/>
          <p:nvPr/>
        </p:nvPicPr>
        <p:blipFill>
          <a:blip r:embed="rId1"/>
          <a:stretch/>
        </p:blipFill>
        <p:spPr>
          <a:xfrm>
            <a:off x="5867280" y="457200"/>
            <a:ext cx="2743200" cy="48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DIT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WO LARGEST ANTITRUST SETTLEMENTS EVER WERE RELATED TO FEES OF WHAT I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0200" y="426708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NUMB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OSSIBLE SCORE ON THE MATH S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STANFORD UNIVERSITY'S SPORTS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0 DUET WITH BEYONCÉ DOES LADY GAGA CHEW OUT A FRIEND WHO CALLS HER UP IN A NOISY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'S THE TOP-LEVEL USDA GRADE FOR BEEF, HIGHER THAN "CHOICE" OR "SELEC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NEFITS WILL MOST AMERICANS BE ELIGIBLE FOR, BUT DOUBT THAT THEY WILL ACTUALLY RECE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5181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EREAL SPOKES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Lucky,_the_Leprechaun_(General_Mills'_mascot).jpg"/>
          <p:cNvPicPr/>
          <p:nvPr/>
        </p:nvPicPr>
        <p:blipFill>
          <a:blip r:embed="rId1"/>
          <a:stretch/>
        </p:blipFill>
        <p:spPr>
          <a:xfrm>
            <a:off x="5867280" y="457200"/>
            <a:ext cx="27432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2:46:38Z</dcterms:created>
  <dc:creator>Jennifer Budzinski</dc:creator>
  <dc:description/>
  <dc:language>en-US</dc:language>
  <cp:lastModifiedBy>Erich Friedman</cp:lastModifiedBy>
  <dcterms:modified xsi:type="dcterms:W3CDTF">2020-08-26T23:04:39Z</dcterms:modified>
  <cp:revision>454</cp:revision>
  <dc:subject/>
  <dc:title>Slide 1</dc:title>
</cp:coreProperties>
</file>