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BD39-43EE-4577-9DC2-C177DC91E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9A51-D2E4-4557-91E1-1A019A1B1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5D6D-5D67-4973-95C7-5D28B1124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F61C-DF4A-4BB1-8397-058F01CD3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7887-0C66-41F2-9D29-746C3672D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70E9-3C02-423B-8B11-56AB54ADB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D476-8D6B-4BDB-8BD4-E5D8608A1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F8C1-FA3E-4A64-8064-E22AD9410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8167-CAE0-4825-B852-3DBE3012C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83C6-09C0-4F84-A4EA-B987BA503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C9FF-D65E-422E-946D-8D9E0454D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5113-B910-4D50-A90A-BD1633535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6C22-5576-431B-829C-010F0232B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5B62-D413-493D-84BD-5F6E7ED66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C8F8-C9F6-4CE4-A046-326936151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6FDB-C4A8-4595-B388-105DF9654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BC86-5749-4717-A6F7-0B2751A03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EF48-84E7-40E7-8F6B-685AEB90B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9AEE-7EE1-4C05-816F-898036644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9F37-F464-4EE4-9B63-89C9D1D05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BF7E-00CE-43CC-9C5B-01FD109A3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105F-A5CF-455C-B58B-9BE136922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77EE-204D-4BD2-A9D6-33551A0DA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WO LARGEST ANTITRUST SETTLEMENTS EVER WERE RELATED TO FEES OF WHAT I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533520" y="480060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HAS COMPLETELY DIFFERENT MEANINGS IN WRESTLING, BOWLING, AND CH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0060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4-LETTER WORD STARTING WITH THE LETTER "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19040" y="48006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143000" y="762120"/>
            <a:ext cx="6858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POSSIBLE SCORE ON THE MATH S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00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DI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457200" y="7603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FOR STANFORD UNIVERSITY'S SPORTS TEA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0060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LEPH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952560" y="760320"/>
            <a:ext cx="7238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0 DUET WITH BEYONCÉ DOES LADY GAGA CHEW OUT A FRIEND WHO CALLS HER UP IN A NOISY CLU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333440" y="480060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'S THE TOP-LEVEL USDA GRADE FOR BEEF, HIGHER THAN "CHOICE" OR "SELEC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638360" y="480060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CIAL  SECU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NEFITS WILL MOST AMERICANS BE ELIGIBLE FOR, BUT DOUBT THAT THEY WILL ACTUALLY RECE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HAS COMPLETELY DIFFERENT MEANINGS IN WRESTLING, BOWLING, AND CH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066680" y="4813200"/>
            <a:ext cx="3962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C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380880" y="990720"/>
            <a:ext cx="5105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CEREAL SPOKES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Lucky,_the_Leprechaun_(General_Mills'_mascot).jpg"/>
          <p:cNvPicPr/>
          <p:nvPr/>
        </p:nvPicPr>
        <p:blipFill>
          <a:blip r:embed="rId1"/>
          <a:stretch/>
        </p:blipFill>
        <p:spPr>
          <a:xfrm>
            <a:off x="5867280" y="457200"/>
            <a:ext cx="2743200" cy="486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EDIT  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WO LARGEST ANTITRUST SETTLEMENTS EVER WERE RELATED TO FEES OF WHAT I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600200" y="4267080"/>
            <a:ext cx="6019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NUMBE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4-LETTER WORD STARTING WITH THE LETTER "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POSSIBLE SCORE ON THE MATH S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FOR STANFORD UNIVERSITY'S SPORTS TEA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0 DUET WITH BEYONCÉ DOES LADY GAGA CHEW OUT A FRIEND WHO CALLS HER UP IN A NOISY CLU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'S THE TOP-LEVEL USDA GRADE FOR BEEF, HIGHER THAN "CHOICE" OR "SELEC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NEFITS WILL MOST AMERICANS BE ELIGIBLE FOR, BUT DOUBT THAT THEY WILL ACTUALLY RECEI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914040"/>
            <a:ext cx="5181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CEREAL SPOKES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Lucky,_the_Leprechaun_(General_Mills'_mascot).jpg"/>
          <p:cNvPicPr/>
          <p:nvPr/>
        </p:nvPicPr>
        <p:blipFill>
          <a:blip r:embed="rId1"/>
          <a:stretch/>
        </p:blipFill>
        <p:spPr>
          <a:xfrm>
            <a:off x="5867280" y="457200"/>
            <a:ext cx="2743200" cy="486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30T12:46:38Z</dcterms:created>
  <dc:creator>Jennifer Budzinski</dc:creator>
  <dc:description/>
  <dc:language>en-US</dc:language>
  <cp:lastModifiedBy>Erich Friedman</cp:lastModifiedBy>
  <dcterms:modified xsi:type="dcterms:W3CDTF">2020-08-26T23:04:39Z</dcterms:modified>
  <cp:revision>454</cp:revision>
  <dc:subject/>
  <dc:title>Slide 1</dc:title>
</cp:coreProperties>
</file>