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5604-EC08-4C8D-AA74-9D1CAB9F4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CBE2-5976-4B5D-8A62-69F4CECD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0E1B-5E8F-450A-AFEC-2071FAA0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758BA-D58D-48F4-825A-4C7435E2F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696E-95A6-4166-B7C5-4E9502497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9F5E-C85A-4DE1-BA5B-BB7A60928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04FD-4112-4B50-A482-F696F8808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5D67-C973-41F6-BEAB-A8E78E505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E298-B086-4EE2-B7F1-2595C91F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9AB5-99F8-4D70-8F0B-C1D7D3E56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D956-A8F2-4825-8439-BCEEC18DA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499A-5344-4618-AD63-E65C6C528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A552-82D3-4403-8C2F-89A9730E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E0FC-8875-412C-9493-0A718A0E8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C206-E0E2-4756-89BE-36AA02BE1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711A-8D91-4E28-B27B-77A930FC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7461-1534-4957-AF0F-F638444C7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5B83C-130D-437D-85B1-E8F04F775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6F51-3276-4836-BC97-0A84E1BC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C457-938A-405F-98EB-7D6501D9E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00F4-8E08-4C87-86F2-619C2992C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3E9C-8125-4C85-93B2-D53314514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684B-AB5A-4680-B340-98AC0C8C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WO LARGEST ANTITRUST SETTLEMENTS EVER WERE RELATED TO FEES OF WHAT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COMPLETELY DIFFERENT MEANINGS IN WRESTLING, BOWLING, AND CH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OSSIBLE SCORE ON THE MATH S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03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TANFORD UNIVERSITY'S SPORTS TE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52560" y="76032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DUET WITH BEYONCÉ DOES LADY GAGA CHEW OUT A FRIEND WHO CALLS HER UP IN A NOISY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TOP-LEVEL USDA GRADE FOR BEEF, HIGHER THAN "CHOICE" OR "SELEC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38360" y="48006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IAL  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EFITS WILL MOST AMERICANS BE ELIGIBLE FOR, BUT DOUBT THAT THEY WILL ACTUALLY RECE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HAS COMPLETELY DIFFERENT MEANINGS IN WRESTLING, BOWLING, AND CH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13200"/>
            <a:ext cx="3962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80880" y="990720"/>
            <a:ext cx="5105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EREAL SPOKES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Lucky,_the_Leprechaun_(General_Mills'_mascot).jpg"/>
          <p:cNvPicPr/>
          <p:nvPr/>
        </p:nvPicPr>
        <p:blipFill>
          <a:blip r:embed="rId1"/>
          <a:stretch/>
        </p:blipFill>
        <p:spPr>
          <a:xfrm>
            <a:off x="5867280" y="457200"/>
            <a:ext cx="274320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DIT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WO LARGEST ANTITRUST SETTLEMENTS EVER WERE RELATED TO FEES OF WHAT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26708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NUMB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4-LETTER WORD STARTING WITH THE LETTER "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POSSIBLE SCORE ON THE MATH S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STANFORD UNIVERSITY'S SPORTS TE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0 DUET WITH BEYONCÉ DOES LADY GAGA CHEW OUT A FRIEND WHO CALLS HER UP IN A NOISY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TOP-LEVEL USDA GRADE FOR BEEF, HIGHER THAN "CHOICE" OR "SELEC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NEFITS WILL MOST AMERICANS BE ELIGIBLE FOR, BUT DOUBT THAT THEY WILL ACTUALLY RECE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914040"/>
            <a:ext cx="5181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CEREAL SPOKES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Lucky,_the_Leprechaun_(General_Mills'_mascot).jpg"/>
          <p:cNvPicPr/>
          <p:nvPr/>
        </p:nvPicPr>
        <p:blipFill>
          <a:blip r:embed="rId1"/>
          <a:stretch/>
        </p:blipFill>
        <p:spPr>
          <a:xfrm>
            <a:off x="5867280" y="457200"/>
            <a:ext cx="27432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2:46:38Z</dcterms:created>
  <dc:creator>Jennifer Budzinski</dc:creator>
  <dc:description/>
  <dc:language>en-US</dc:language>
  <cp:lastModifiedBy>Erich Friedman</cp:lastModifiedBy>
  <dcterms:modified xsi:type="dcterms:W3CDTF">2020-08-26T23:04:39Z</dcterms:modified>
  <cp:revision>454</cp:revision>
  <dc:subject/>
  <dc:title>Slide 1</dc:title>
</cp:coreProperties>
</file>