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37443-765C-4425-B568-63075DB04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EC1E-FD47-4200-A180-B15FBB96A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1B52-98CB-4ABC-8D7F-7FA0ED8C2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4274-A038-4D9E-BB6C-27558E724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863D-8539-4157-82E8-9217230DE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D317-1BEA-4711-987E-1C92202F4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3693-F40F-4210-9005-CB3769B99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9388-157F-435C-A907-8AE047973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FA8F-72A1-403E-985A-207B6E4F2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FFEC-363D-414B-80BC-96E7949AD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9A7C-1ED7-47E9-8982-B737F638C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EA0E-63B4-4FC3-AB83-C03F184ED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DC33-003B-40FA-B5BA-5CD38278D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E25C-9314-4CF5-8528-238BB11E7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0AD8-A5B2-4469-B115-12A5EF4CA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EA40-9583-4FC0-962B-3DE62853C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2300-AA0E-4B2C-97EF-85C815E73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2FC9-4762-4BF3-A393-365E6328B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1EE9-66A5-4C61-986F-BCA7ADBB3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CF21-5105-4AA4-99AC-81FE71BF6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2A54-A4F9-4709-B0E9-5DBB06EED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C706-3E80-412C-89CA-B755B6EE5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4386-9A7B-48AF-B190-A9F80CC8C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71560" y="1066680"/>
            <a:ext cx="5600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INITIALS E.A. WON A TONY FOR "LI'L ABNER" AND WAS NOMINATED FOR 5 EMMY AWARDS FOR HER OWN SHOW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TON  BER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TEXACO STAR THEATER" WAS THE FIRST MAJOR TV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D  CAES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HOSTED "YOUR SHOW OF SHOWS" IN THE 50'S AND HIS OWN SHOW IN THE 6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THAN  WI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CCENTRIC, IMPROVISATIONAL COMIC WAS NOMINATED 8 TIMES FOR "BEST COMEDY ALBUM", WINNING TW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DY  HACK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'S FILMS INCLUDE "THE MUSIC MAN", "THE LOVE BUG", AND    "THE LITTLE MERM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THEL  M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4772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GOT RHYTHM", "ANNIE GET YOUR GUN", AND "EVERYTHING'S COMING UP ROSE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R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9056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EENAGER TO BE NOMINATED FOR AN OSCAR, FOR "BABES IN AR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SIL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, KNOWN AS "THE KING OF CHUTZPAH", HAD HIS OWN SHOW IN THE 5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ST OF "TEXACO STAR THEATER" WAS THE FIRST MAJOR TV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–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WITH INITIALS T.T. STARRED IN "BACHELOR FLAT" AND "HOW TO MURDER YOUR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IE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INITIALS E.A. WON A TONY FOR "LI'L ABNER" AND WAS NOMINATED FOR 5 EMMY AWARDS FOR HER OWN SH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34340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STARRED  IN  "IT'S  A MAD, MAD, MAD, MAD  WORL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HOSTED "YOUR SHOW OF SHOWS" IN THE 50'S AND HIS OWN SHOW IN THE 6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CCENTRIC, IMPROVISATIONAL COMIC WAS NOMINATED 8 TIMES FOR "BEST COMEDY ALBUM", WINNING TW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'S FILMS INCLUDE "THE MUSIC MAN", "THE LOVE BUG", AND    "THE LITTLE MERM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GOT RHYTHM", "ANNIE GET YOUR GUN", AND "EVERYTHING'S COMING UP ROSE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EENAGER TO BE NOMINATED FOR AN OSCAR, FOR "BABES IN ARM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, KNOWN AS "THE KING OF CHUTZPAH", HAD HIS OWN SHOW IN THE 5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WITH INITIALS T.T. STARRED IN "BACHELOR FLAT" AND "HOW TO MURDER YOUR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2T00:38:58Z</dcterms:created>
  <dc:creator>Jennifer Budzinski</dc:creator>
  <dc:description/>
  <dc:language>en-US</dc:language>
  <cp:lastModifiedBy>Erich Friedman</cp:lastModifiedBy>
  <dcterms:modified xsi:type="dcterms:W3CDTF">2020-08-26T23:06:03Z</dcterms:modified>
  <cp:revision>392</cp:revision>
  <dc:subject/>
  <dc:title>Slide 1</dc:title>
</cp:coreProperties>
</file>