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F27C-6A11-4621-BA69-92DD581A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92AE-4B70-4D05-9635-1FBBC154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9EC-E34D-416F-B81F-CBDD5E330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734-81DD-43B6-9A2C-DE0085365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1FF5-D22E-4CB9-A0D0-ACBA8887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20C-33DE-4C50-91D4-499E5328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29A-2559-459F-92EA-EA45A98B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AD2-33B8-41F7-8C34-B6481103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FD90-8DBB-4819-A6B2-F40C625F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4D3-FF26-4692-A6DC-F310672A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5BBE-93DC-4C49-BB9D-69CA3FE7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8285-799B-4D6F-8577-FD7D646D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4616-99D1-4FEB-97AB-653326C3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CFFD-2F6C-49C1-A1F4-35B55863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C96-AE9D-427E-B4B9-E6A0E114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811F-55FD-4421-86CB-59DD3511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7D03-C077-41F1-82CD-7195695B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9B39-19F6-4B00-B7AE-C0B17A22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03BB-BD1A-4B3C-8F82-FC129C47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68C8-7C3C-439C-9C57-5DA66CEA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8766-A75A-4119-AAC1-91CC9612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FC3-EBD9-4DD3-86FE-58DFB8F1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5F2C-F235-451B-B395-6085A9BC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71560" y="1066680"/>
            <a:ext cx="5600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E.A. WON A TONY FOR "LI'L ABNER" AND WAS NOMINATED FOR 5 EMMY AWARDS FOR HER OWN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TON  BER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TEXACO STAR THEATER" WAS THE FIRST MAJOR TV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YOUR SHOW OF SHOWS" IN THE 50'S AND HIS OWN SHOW IN THE 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CENTRIC, IMPROVISATIONAL COMIC WAS NOMINATED 8 TIMES FOR "BEST COMEDY ALBUM", WINNING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A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'S FILMS INCLUDE "THE MUSIC MAN", "THE LOVE BUG", AND   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L  M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4772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GOT RHYTHM", "ANNIE GET YOUR GUN", AND "EVERYTHING'S COMING UP ROSE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9056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ENAGER TO BE NOMINATED FOR AN OSCAR, FOR "BABES IN AR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IL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, KNOWN AS "THE KING OF CHUTZPAH", HAD HIS OWN SHOW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TEXACO STAR THEATER" WAS THE FIRST MAJOR TV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–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ITH INITIALS T.T. STARRED IN "BACHELOR FLAT" AND "HOW TO MURDER YOUR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IE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E.A. WON A TONY FOR "LI'L ABNER" AND WAS NOMINATED FOR 5 EMMY AWARDS FOR HER OWN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TARRED  IN  "IT'S  A MAD, MAD, MAD, MAD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YOUR SHOW OF SHOWS" IN THE 50'S AND HIS OWN SHOW IN THE 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CENTRIC, IMPROVISATIONAL COMIC WAS NOMINATED 8 TIMES FOR "BEST COMEDY ALBUM", WINNING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'S FILMS INCLUDE "THE MUSIC MAN", "THE LOVE BUG", AND   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GOT RHYTHM", "ANNIE GET YOUR GUN", AND "EVERYTHING'S COMING UP ROSE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ENAGER TO BE NOMINATED FOR AN OSCAR, FOR "BABES IN AR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, KNOWN AS "THE KING OF CHUTZPAH", HAD HIS OWN SHOW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ITH INITIALS T.T. STARRED IN "BACHELOR FLAT" AND "HOW TO MURDER YOUR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0:38:58Z</dcterms:created>
  <dc:creator>Jennifer Budzinski</dc:creator>
  <dc:description/>
  <dc:language>en-US</dc:language>
  <cp:lastModifiedBy>Erich Friedman</cp:lastModifiedBy>
  <dcterms:modified xsi:type="dcterms:W3CDTF">2020-08-26T23:06:03Z</dcterms:modified>
  <cp:revision>392</cp:revision>
  <dc:subject/>
  <dc:title>Slide 1</dc:title>
</cp:coreProperties>
</file>