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F867-8EA0-4C9D-826F-8FBFEC9A1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0BFC-83D7-45B7-960B-3D257DE57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2773-C00D-4B78-927F-CA4B44F8A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C2F7-B783-4E80-9A07-0768B17C7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B8CE-A3B8-46B4-8075-A2F214173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81BC-D74E-43FF-9575-10BF93244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B5EB-523B-4383-928D-0E71949F0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453D-2825-4C0B-B85B-C521C58FB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B128-1545-465A-9BDF-66F0BC171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0C73-3E23-4167-92E5-DB9BBA616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04FC-CF5D-49CA-A016-F0519A5EC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17EF-6EFB-42D2-BDCB-D1458A03C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92FE-1B92-40A6-9AFF-77E68967D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1C6B-72CD-4715-A613-0BDBA571E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4BA7-7EB5-437F-87C4-6BF91C213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BB67-61AA-486B-B8AD-3EC497F47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B2F4-BC74-4EAB-81FF-FAAF07B78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B113-D573-43AB-A2F4-B10F6385F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B21D-24DA-4D5D-B9E9-CC262F1F3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062D-2723-49A5-BEDB-556A2DC8C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745B-8860-4255-A1C0-F142EB903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9F66-09BF-484E-94A5-7D37A1225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B1B9-505A-4F96-9720-DE97A46D3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771560" y="1066680"/>
            <a:ext cx="5600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ITH INITIALS E.A. WON A TONY FOR "LI'L ABNER" AND WAS NOMINATED FOR 5 EMMY AWARDS FOR HER OWN SHOW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TON  BER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ST OF "TEXACO STAR THEATER" WAS THE FIRST MAJOR TV ST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D  CAES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HOSTED "YOUR SHOW OF SHOWS" IN THE 50'S AND HIS OWN SHOW IN THE 6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ATHAN  WI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CCENTRIC, IMPROVISATIONAL COMIC WAS NOMINATED 8 TIMES FOR "BEST COMEDY ALBUM", WINNING TW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DDY  HACKE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ACTOR'S FILMS INCLUDE "THE MUSIC MAN", "THE LOVE BUG", AND    "THE LITTLE MERMAI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THEL  MER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47720"/>
            <a:ext cx="754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 GOT RHYTHM", "ANNIE GET YOUR GUN", AND "EVERYTHING'S COMING UP ROSES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KEY  RO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43080" y="790560"/>
            <a:ext cx="8458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EENAGER TO BE NOMINATED FOR AN OSCAR, FOR "BABES IN ARM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  SIL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ACTOR, KNOWN AS "THE KING OF CHUTZPAH", HAD HIS OWN SHOW IN THE 5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ST OF "TEXACO STAR THEATER" WAS THE FIRST MAJOR TV ST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RRY – THO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ACTOR WITH INITIALS T.T. STARRED IN "BACHELOR FLAT" AND "HOW TO MURDER YOUR WIF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IE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ITH INITIALS E.A. WON A TONY FOR "LI'L ABNER" AND WAS NOMINATED FOR 5 EMMY AWARDS FOR HER OWN SHOW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34340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STARRED  IN  "IT'S  A MAD, MAD, MAD, MAD  WORL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HOSTED "YOUR SHOW OF SHOWS" IN THE 50'S AND HIS OWN SHOW IN THE 6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CCENTRIC, IMPROVISATIONAL COMIC WAS NOMINATED 8 TIMES FOR "BEST COMEDY ALBUM", WINNING TW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ACTOR'S FILMS INCLUDE "THE MUSIC MAN", "THE LOVE BUG", AND    "THE LITTLE MERMAI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 GOT RHYTHM", "ANNIE GET YOUR GUN", AND "EVERYTHING'S COMING UP ROSES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EENAGER TO BE NOMINATED FOR AN OSCAR, FOR "BABES IN ARM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ACTOR, KNOWN AS "THE KING OF CHUTZPAH", HAD HIS OWN SHOW IN THE 5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ACTOR WITH INITIALS T.T. STARRED IN "BACHELOR FLAT" AND "HOW TO MURDER YOUR WIF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2T00:38:58Z</dcterms:created>
  <dc:creator>Jennifer Budzinski</dc:creator>
  <dc:description/>
  <dc:language>en-US</dc:language>
  <cp:lastModifiedBy>Erich Friedman</cp:lastModifiedBy>
  <dcterms:modified xsi:type="dcterms:W3CDTF">2020-08-26T23:06:03Z</dcterms:modified>
  <cp:revision>392</cp:revision>
  <dc:subject/>
  <dc:title>Slide 1</dc:title>
</cp:coreProperties>
</file>