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B363-B370-4603-8F7C-258E92507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C01F-1155-4854-8F9D-845E73F1D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A81B-552B-4AAB-B6D8-B0AA371D7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1FFB-D056-4666-99F9-9E3B9E1B8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A365-DAE9-47D5-9268-F07ACA60F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C03A-0951-43EB-AD53-506CFBAF8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6D30-F8DD-4D72-9A0C-BA4F720AE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DEFD-19C6-4095-B6AA-4847A34D5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F5B2-C46D-4EA3-B093-CE41CCE06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DDC0-2AE2-49E7-BF0B-5B8A0B12F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A09F-5CB0-4CF0-B73E-CD5245C61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38D8-8BD1-4F44-9B48-FCD4C7A14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4CA6-8906-4160-A410-5388E5D0C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E1F7-0D31-49BC-859F-6E53785F9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07F0-244A-4503-A490-1764ABD01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282A-B618-4034-9F64-C93390A69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E5A5-12AC-4748-A336-82F1CBFDA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2B45-873D-4DFC-8030-7822DEC82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69D2-2295-4498-B90E-30ADA83F7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B319-900D-4D6F-862F-704A1DD65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AEF9-15D6-43B0-91E6-721F2D34D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4951-ABD9-402C-B2D0-D38B10610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9927-8C05-4734-8F95-C1A5F5774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NATURE DOCUMENTARY COST $8 MILLION TO MAKE AND GROSSED $127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77760" y="48769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SW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414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FILM DID NATALIE PORTMAN WIN BEST ACTRESS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KEN  LI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ANIMATED FILM HAD THE TAG LINE "THIS TIME THE SKY REALLY IS FALL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REE  DAYS  OF  THE  CON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POLITICAL THRILLER FILM STARRED ROBERT REDFORD AND FAYE DUNAW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CK  S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1933 MARX BROTHERS FILM IS NOW GENERALLY CONSIDERED TO BE THEIR FINEST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LTESE  FAL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1 FILM NOIR STARRING HUMPHREY BOGART AND MARY ASTOR IS ABOUT A JEWEL-ENCRUSTED STATUET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HAW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ANTASY FILM SET IN 1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EUROPE STARRED MATTHEW BRODERICK AND MICHELLE PFEIFF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4956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FLEW  OVER  THE  CUCKOO'S  N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FILM ABOUT MENTAL ILLNESS WON OSCARS FOR BEST FILM, ACTOR, ACTRESS, DIRECTOR, AND SCREEN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FILM DID NATALIE PORTMAN WIN BEST ACTRESS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  KILL  A  MOCKINGB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8240"/>
            <a:ext cx="71625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1962 FILM DID  GREGORY PECK WIN AN BEST ACTOR FOR PLAYING ATTICUS FI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CH  OF  THE  PENGU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NATURE DOCUMENTARY COST $8 MILLION TO MAKE AND GROSSED $127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BIRDS  IN  THE 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ANIMATED FILM HAD THE TAG LINE "THIS TIME THE SKY REALLY IS FALL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POLITICAL THRILLER FILM STARRED ROBERT REDFORD AND FAYE DUNAW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1933 MARX BROTHERS FILM IS NOW GENERALLY CONSIDERED TO BE THEIR FINEST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1 FILM NOIR STARRING HUMPHREY BOGART AND MARY ASTOR IS ABOUT A JEWEL-ENCRUSTED STATUET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ANTASY FILM SET IN 1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EUROPE STARRED MATTHEW BRODERICK AND MICHELLE PFEIFF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FILM ABOUT MENTAL ILLNESS WON OSCARS FOR BEST FILM, ACTOR, ACTRESS, DIRECTOR, AND SCREENP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1962 FILM DID  GREGORY PECK WIN AN BEST ACTOR FOR PLAYING ATTICUS FIN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4T03:10:37Z</dcterms:created>
  <dc:creator>Jennifer Budzinski</dc:creator>
  <dc:description/>
  <dc:language>en-US</dc:language>
  <cp:lastModifiedBy>Erich Friedman</cp:lastModifiedBy>
  <dcterms:modified xsi:type="dcterms:W3CDTF">2020-08-23T18:41:31Z</dcterms:modified>
  <cp:revision>336</cp:revision>
  <dc:subject/>
  <dc:title>Slide 1</dc:title>
</cp:coreProperties>
</file>