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C5F7-D3C6-4F56-A808-831E3D17C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636D-A25A-4633-842B-61B42D535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410E-76D9-4E44-9C7E-4FFB7E00B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8B3F-039E-4230-8F52-D93183E0B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84E5-EFFB-4418-B2F1-EBF6DF6F3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47A6-BEF1-4B7B-9C37-053C8F368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B4E4-2A8F-4D2C-BAA5-B488C0F2D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4122-D76A-44F7-8161-40A650310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CF3B-81E5-4C12-9893-38B3462A8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62C6-9EAA-4384-8D08-1D4B4DBB4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14DE-90DD-4109-A329-E9A9A6FF6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AE91-1905-4489-9C7B-4F0466E96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15D0-1B8E-401B-8D05-2D9EAFDD1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BD67-462F-4107-9A5E-CB62DEC0B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D2112-83C7-478F-9428-3BB23D3B3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3022-B987-43EF-B4AF-631669204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C8AD-6A89-40BF-9947-71D435067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68ED-261C-4972-BC0E-4016AFF79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2BEB-923B-4EF5-8E61-10BE95CE0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E295-7F41-4323-9F3C-652B53FB7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BCF5-6CA7-41AC-BEC7-9C185F448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7D70-962C-40D7-9F43-BF96787DF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EA1F-4BD9-4C86-8414-AFE93227A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NATURE DOCUMENTARY COST $8 MILLION TO MAKE AND GROSSED $127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77760" y="4876920"/>
            <a:ext cx="71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SW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414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ILM DID NATALIE PORTMAN WIN BEST ACTRESS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KEN  LI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ANIMATED FILM HAD THE TAG LINE "THIS TIME THE SKY REALLY IS FAL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  DAYS  OF  THE  CON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POLITICAL THRILLER FILM STARRED ROBERT REDFORD AND FAYE DUNA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CK  S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1933 MARX BROTHERS FILM IS NOW GENERALLY CONSIDERED TO BE THEIR FINEST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ALTESE  FAL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1 FILM NOIR STARRING HUMPHREY BOGART AND MARY ASTOR IS ABOUT A JEWEL-ENCRUSTED STATUET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HAW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ANTASY FILM SET IN 1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EUROPE STARRED MATTHEW BRODERICK AND MICHELLE PFEIFF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4956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FLEW  OVER  THE  CUCKOO'S  N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FILM ABOUT MENTAL ILLNESS WON OSCARS FOR BEST FILM, ACTOR, ACTRESS, DIRECTOR, AND SCREEN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FILM DID NATALIE PORTMAN WIN BEST ACTRESS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  KILL  A  MOCKING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8240"/>
            <a:ext cx="71625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62 FILM DID  GREGORY PECK WIN AN BEST ACTOR FOR PLAYING ATTICUS FIN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H  OF  THE  PENGU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NATURE DOCUMENTARY COST $8 MILLION TO MAKE AND GROSSED $127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IRDS  IN  THE 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ANIMATED FILM HAD THE TAG LINE "THIS TIME THE SKY REALLY IS FALL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POLITICAL THRILLER FILM STARRED ROBERT REDFORD AND FAYE DUNA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1933 MARX BROTHERS FILM IS NOW GENERALLY CONSIDERED TO BE THEIR FINEST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1 FILM NOIR STARRING HUMPHREY BOGART AND MARY ASTOR IS ABOUT A JEWEL-ENCRUSTED STATUET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ANTASY FILM SET IN 1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EUROPE STARRED MATTHEW BRODERICK AND MICHELLE PFEIFF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 FILM ABOUT MENTAL ILLNESS WON OSCARS FOR BEST FILM, ACTOR, ACTRESS, DIRECTOR, AND SCREEN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62 FILM DID  GREGORY PECK WIN AN BEST ACTOR FOR PLAYING ATTICUS FIN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4T03:10:37Z</dcterms:created>
  <dc:creator>Jennifer Budzinski</dc:creator>
  <dc:description/>
  <dc:language>en-US</dc:language>
  <cp:lastModifiedBy>Erich Friedman</cp:lastModifiedBy>
  <dcterms:modified xsi:type="dcterms:W3CDTF">2020-08-23T18:41:31Z</dcterms:modified>
  <cp:revision>336</cp:revision>
  <dc:subject/>
  <dc:title>Slide 1</dc:title>
</cp:coreProperties>
</file>