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5521-5E04-47A1-BF1D-789B9701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CC5F-E1CE-4125-8A2D-54D49365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E84-9FC6-498B-963B-4A321CFB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577-BE32-4010-A130-29BD61BF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846-8FB6-4CB8-94D3-AA562A9C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35BE-15E2-4D31-8A61-957C15DC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1E8-60CC-46CD-86B9-A47FB339C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EB3D-A10F-40AE-A8DA-6B2B71F48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0E58-4207-484D-A59B-D79A2094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9DB8-8905-4A44-A619-C840DB97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3AAC-78F2-4E7A-A036-FAB4713C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A6D3-DB36-4053-9616-964EB26E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E5F-413C-4ADC-BC5F-33E27ACC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9954-1F9A-40BC-BEED-D8E9564F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52E-6A20-4C9B-B6BC-EB912206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CAB3-9C98-4504-9345-E9F55FB89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4C1-5F2E-49AE-B7B7-766F7F71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581-0C9F-41A3-BE3E-CF55F180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5D3-0306-4B92-B55D-097D9458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B48D-B947-4DC5-AB29-4E40CA9A8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912-5FA4-44BA-A3FA-5A897FD8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2D2-722A-4FB1-AD65-338123A59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8D4E-35BC-45C9-9873-4DFFCA72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77760" y="48769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14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AYS  OF  THE  CON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  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HAW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956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8240"/>
            <a:ext cx="7162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H  OF  THE  PENG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IRDS  IN  THE 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3:10:37Z</dcterms:created>
  <dc:creator>Jennifer Budzinski</dc:creator>
  <dc:description/>
  <dc:language>en-US</dc:language>
  <cp:lastModifiedBy>Erich Friedman</cp:lastModifiedBy>
  <dcterms:modified xsi:type="dcterms:W3CDTF">2020-08-23T18:41:31Z</dcterms:modified>
  <cp:revision>336</cp:revision>
  <dc:subject/>
  <dc:title>Slide 1</dc:title>
</cp:coreProperties>
</file>