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477C-7288-457C-8847-AEC9F1D24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9EA6-1A04-42DF-A8C4-6ABC6223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0D3C-3A51-4D0C-A699-581DDFE85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A944-18F2-47FA-999A-FBC992E4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C269-E02F-4CED-9D18-058AF72F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452C-B377-4D63-90F2-154391EE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B279-0DA6-4658-A90E-AF30AAF7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ED7-90BF-443F-865F-8D8037F01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3BE8-7F58-4712-9877-B7EDD94F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9669-6011-4382-9F04-5A5FADE8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37FC-3C85-4A22-A32D-76797AACE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9A9F-4C82-47D1-8C9C-13F4C30BA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746C-F379-4EC1-97A0-D49F4029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AE78-6695-4D39-8D50-443E4FAB7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DFDA-726F-4F91-948D-92FB6A734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B3FE-0D2E-4973-AAA9-609E7951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C48F-44B5-4329-8C6F-A51C2B44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4C92-081A-43DF-9B57-C1DC15A4A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AD6D-7B50-4421-8B65-3A339E64A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DD0-54E6-4642-89B6-EF7CE514B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B882-D69B-4AB2-B4BB-1CD853BA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17B8-3EBE-40E5-BFD6-3B5C98E4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E59E-08F9-478D-9CC4-718A018A2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VIVOR HIT SONG APPEARED IN "ROCKY III" AND "THE KARATE K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GAGA SONG WAS THE BEST-SELLING SONG OF 2009 WORLD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HEART  WILL  GO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INE DION SONG WAS THE THEME SONG FOR "TITANIC" AND THE BEST-SELLING SINGLE OF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#1 HIT IN AMERICA AND BEST-SELLING SINGLE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PS  DON'T  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IRA SONG WAS THE BEST-SELLING SINGLE OF THE 2000'S DEC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L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57480" y="752400"/>
            <a:ext cx="6629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LOGGINS #1 SONG IS THE TITLE SONG OF A 1984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D  IN  YOUR  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TTING CREW'S ONLY SONG TO REACH THE TOP OF THE MUSIC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2019240" y="4336920"/>
            <a:ext cx="5105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'T  GET  YOU  OUT  OF  MY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HIT SONG IS KYLIE MINOGUE'S BEST-SELLING SINGLE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GAGA SONG WAS THE BEST-SELLING SONG OF 2009 WORLD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OLPH  THE  RED-NOSED  REIN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NE AUTRY HOLIDAY SONG SOLD MORE THAN 12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  OF  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VIVOR HIT SONG APPEARED IN "ROCKY III" AND "THE KARATE K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305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BODY 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0976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INE DION SONG WAS THE THEME SONG FOR "TITANIC" AND THE BEST-SELLING SINGLE OF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#1 HIT IN AMERICA AND BEST-SELLING SINGLE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IRA SONG WAS THE BEST-SELLING SINGLE OF THE 2000'S DEC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LOGGINS #1 SONG IS THE TITLE SONG OF A 1984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TTING CREW'S ONLY SONG TO REACH THE TOP OF THE MUSIC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HIT SONG IS KYLIE MINOGUE'S BEST-SELLING SINGLE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NE AUTRY HOLIDAY SONG SOLD MORE THAN 12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01:13:11Z</dcterms:created>
  <dc:creator>Jennifer Budzinski</dc:creator>
  <dc:description/>
  <dc:language>en-US</dc:language>
  <cp:lastModifiedBy>Erich Friedman</cp:lastModifiedBy>
  <dcterms:modified xsi:type="dcterms:W3CDTF">2020-08-27T11:32:35Z</dcterms:modified>
  <cp:revision>387</cp:revision>
  <dc:subject/>
  <dc:title>Slide 1</dc:title>
</cp:coreProperties>
</file>