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8A36-0A22-449E-80AE-C08645FC0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536C-2D0D-49AC-91FF-62CD8D606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1C6F-DEE5-4471-9471-3028155B4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3F5D-E1DA-4045-89F4-593B91FDC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0E38-B398-4897-A458-45F778239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E53D-1A32-4F4A-8DF8-982E8F3EE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6454-D50D-4999-BBC7-5141093ED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092E-EF0B-4610-B6F3-DBD736CC0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3076-BDBC-45CE-9F79-B9D28D16F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00FC-EEB3-42B7-BDCB-7A26EAA72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7AD4-63BA-487A-8631-91F2F47A1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92D9-94F1-4356-AF38-767DE4597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BCDA-A677-4A96-9F72-974F8702C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3C1E-E053-49FF-879A-D36C2F9D0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D65C-BF6B-4D23-A8FC-0BDBD28E9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4AD8-4343-43F0-A2DB-50BBEC281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F9C4-9EE3-46B3-BD5E-0DECDE002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41FC-3F6D-4B05-AC37-5E3A25992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1A4A-54A4-4F0E-AB95-3C4DBA7B6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0CB2-6C2E-4B3D-906A-0593CA38B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0BC3-7B50-46E3-830A-6F38990BC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5CF1-E04B-4C3B-8DB8-B35098E1C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82A2-70A6-41A6-8217-A9D4ECD4D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RVIVOR HIT SONG APPEARED IN "ROCKY III" AND "THE KARATE K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ER  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DY GAGA SONG WAS THE BEST-SELLING SONG OF 2009 WORLDW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HEART  WILL  GO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INE DION SONG WAS THE THEME SONG FOR "TITANIC" AND THE BEST-SELLING SINGLE OF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TO  HOLD  YOUR 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RST #1 HIT IN AMERICA AND BEST-SELLING SINGLE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PS  DON'T  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IRA SONG WAS THE BEST-SELLING SINGLE OF THE 2000'S DEC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L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57480" y="752400"/>
            <a:ext cx="6629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LOGGINS #1 SONG IS THE TITLE SONG OF A 1984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D  IN  YOUR  A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UTTING CREW'S ONLY SONG TO REACH THE TOP OF THE MUSIC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2019240" y="4336920"/>
            <a:ext cx="5105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'T  GET  YOU  OUT  OF  MY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HIT SONG IS KYLIE MINOGUE'S BEST-SELLING SINGLE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DY GAGA SONG WAS THE BEST-SELLING SONG OF 2009 WORLDW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343400"/>
            <a:ext cx="655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DOLPH  THE  RED-NOSED  REIN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9 GENE AUTRY HOLIDAY SONG SOLD MORE THAN 12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  OF  THE  T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RVIVOR HIT SONG APPEARED IN "ROCKY III" AND "THE KARATE K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305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BODY 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0976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INE DION SONG WAS THE THEME SONG FOR "TITANIC" AND THE BEST-SELLING SINGLE OF 199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RST #1 HIT IN AMERICA AND BEST-SELLING SINGLE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IRA SONG WAS THE BEST-SELLING SINGLE OF THE 2000'S DEC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LOGGINS #1 SONG IS THE TITLE SONG OF A 1984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UTTING CREW'S ONLY SONG TO REACH THE TOP OF THE MUSIC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HIT SONG IS KYLIE MINOGUE'S BEST-SELLING SINGLE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9 GENE AUTRY HOLIDAY SONG SOLD MORE THAN 12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01:13:11Z</dcterms:created>
  <dc:creator>Jennifer Budzinski</dc:creator>
  <dc:description/>
  <dc:language>en-US</dc:language>
  <cp:lastModifiedBy>Erich Friedman</cp:lastModifiedBy>
  <dcterms:modified xsi:type="dcterms:W3CDTF">2020-08-27T11:32:35Z</dcterms:modified>
  <cp:revision>387</cp:revision>
  <dc:subject/>
  <dc:title>Slide 1</dc:title>
</cp:coreProperties>
</file>