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3D0A-20E1-447E-85C8-64C43F087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E351-5FD7-4084-AFC5-CAA5CB4D1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CBB6-0DD2-40F3-BFD3-86BDF4FD2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CDCC-C459-4BDA-B429-820953999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E825-90EB-42CB-A5C3-DDBAC03AC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1274-63A6-4577-A012-101E4AAA8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6D9D-9274-4772-8ADA-8FBD318F6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E0A1-8946-4E5C-BD48-483B4A033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4BA0-C17E-4697-B46D-C7D1CE8B2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C06D-EE9A-41C9-91BE-ED493CCBF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16594-4BFA-4773-98AE-E51FBF6DE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9D5C-9F05-45A9-88E5-848BC8823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4109-FB15-4137-B80F-F05904483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33A2-AD3F-453E-9BA3-7CB8C99CE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330B-49A8-415F-90AD-263407669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0976-850D-4A1B-98B1-CB196C50B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67F2-AEFE-4B67-A1FB-25D9CABB0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A090E-1A2E-4A22-B6F9-FF0B5D2AF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FF085-5ABA-4A04-9597-E809FDA94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F7F8-A306-4490-B4D1-AD7DDC29F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6652-76A7-40BB-8064-214826A37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71B7-9BEF-4F37-A641-9A47F355E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8053-A89D-43C0-B5D2-82191771B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RVIVOR HIT SONG APPEARED IN "ROCKY III" AND "THE KARATE K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KER  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DY GAGA SONG WAS THE BEST-SELLING SONG OF 2009 WORLDW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HEART  WILL  GO  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LINE DION SONG WAS THE THEME SONG FOR "TITANIC" AND THE BEST-SELLING SINGLE OF 199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WANT  TO  HOLD  YOUR  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EATLES' FIRST #1 HIT IN AMERICA AND BEST-SELLING SINGLE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PS  DON'T  L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IRA SONG WAS THE BEST-SELLING SINGLE OF THE 2000'S DEC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TLO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57480" y="752400"/>
            <a:ext cx="6629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NNY LOGGINS #1 SONG IS THE TITLE SONG OF A 1984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ED  IN  YOUR  A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UTTING CREW'S ONLY SONG TO REACH THE TOP OF THE MUSIC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2019240" y="4336920"/>
            <a:ext cx="5105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'T  GET  YOU  OUT  OF  MY  H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HIT SONG IS KYLIE MINOGUE'S BEST-SELLING SINGLE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DY GAGA SONG WAS THE BEST-SELLING SONG OF 2009 WORLDW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343400"/>
            <a:ext cx="6553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DOLPH  THE  RED-NOSED  REIND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9 GENE AUTRY HOLIDAY SONG SOLD MORE THAN 12 MILLION COP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  OF  THE  T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RVIVOR HIT SONG APPEARED IN "ROCKY III" AND "THE KARATE K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3520" y="4876920"/>
            <a:ext cx="8305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BODY  P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0976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LINE DION SONG WAS THE THEME SONG FOR "TITANIC" AND THE BEST-SELLING SINGLE OF 199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EATLES' FIRST #1 HIT IN AMERICA AND BEST-SELLING SINGLE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IRA SONG WAS THE BEST-SELLING SINGLE OF THE 2000'S DECA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NNY LOGGINS #1 SONG IS THE TITLE SONG OF A 1984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UTTING CREW'S ONLY SONG TO REACH THE TOP OF THE MUSIC CH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HIT SONG IS KYLIE MINOGUE'S BEST-SELLING SINGLE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9 GENE AUTRY HOLIDAY SONG SOLD MORE THAN 12 MILLION COP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01:13:11Z</dcterms:created>
  <dc:creator>Jennifer Budzinski</dc:creator>
  <dc:description/>
  <dc:language>en-US</dc:language>
  <cp:lastModifiedBy>Erich Friedman</cp:lastModifiedBy>
  <dcterms:modified xsi:type="dcterms:W3CDTF">2020-08-27T11:32:35Z</dcterms:modified>
  <cp:revision>387</cp:revision>
  <dc:subject/>
  <dc:title>Slide 1</dc:title>
</cp:coreProperties>
</file>