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0B1-3AD5-4CCC-8C8F-F6BB28AA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65F-784E-4A02-A325-0594EC78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473-90D7-4D27-B369-8545F507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89B-D62D-4447-88F6-2F3931D0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C301-D951-49BB-A590-0DD1FD07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AF52-931A-45A3-8208-7C2DEC969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657-BE09-4409-AB21-C893EA5F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AA3-EE1C-41C7-B65C-3F552C0E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048-2291-440E-86F9-3049842E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D40E-3A57-45D3-B6E6-BB8E5571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74E-A01B-48AD-BD83-4B3DAA9E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B2BB-E404-4FC0-89D3-758D90C3E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3ED7-9B86-4633-A2E8-398F0064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D12-54E5-47AF-BAE8-494CE867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AB2-AB66-4EC4-A629-EA877A09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75D-E699-41DF-A5A9-845EF9BC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5B6-315C-4568-810D-4DFF6679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CF4B-CCF1-41FC-8534-50172CDC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57C-0C39-4B59-895B-32EBC427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B882-E54B-4342-956F-725E63C6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C851-ED0C-44F5-8C95-F33440A0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33C-D39B-40FF-8484-DDF455F36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5CD-9714-4DED-AD71-478A8330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OB)  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ITCHHI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KEN  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  IN  THE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EIL  YOUNG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20:10:08Z</dcterms:created>
  <dc:creator>Jennifer Budzinski</dc:creator>
  <dc:description/>
  <dc:language>en-US</dc:language>
  <cp:lastModifiedBy>Erich Friedman</cp:lastModifiedBy>
  <dcterms:modified xsi:type="dcterms:W3CDTF">2020-08-27T11:34:08Z</dcterms:modified>
  <cp:revision>396</cp:revision>
  <dc:subject/>
  <dc:title>Slide 1</dc:title>
</cp:coreProperties>
</file>