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4ACF-0353-4D64-87A6-6A379EEF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165E-C67E-4EA9-8A6E-B7FAFC3D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D67-4AF6-412C-BCB6-1CB00DAD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500-E624-4992-A8E1-BB55559D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C374-B36F-4C5C-9663-6A90661E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82E7-D5C3-416B-B2DD-C801A684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E8DA-2DD1-4BA1-8D04-B662940C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622-294B-4B85-8B6A-278A5D27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EBF-8A52-4A1D-BA84-61C33E90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1C2-CC8F-40CD-B5F3-CC9FF56F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8B2-635F-4FFD-80E9-8E1B89B8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82C-8363-4AA8-923A-E1B900D8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E565-61AD-434D-A8B1-2F168166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1B39-D9DF-4F23-A3D7-BA3DF46E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A3F0-8290-4B52-BDC1-2AA3A135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D98-6F41-478E-9B9C-8AD05491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B4C-73FB-42AF-81A1-FECAB758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E0E-4B98-4642-B3DB-0E19CE2E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BC9B-CFB1-415F-BF91-C9952ED4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727-0C0D-480C-B3E7-257E2727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3935-AD19-403C-8984-DEC5452C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203-B8CA-416A-9DC7-AD11DA46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A0BA-242F-448E-AF96-E08128AF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OB)  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ITCHHI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KEN  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  IN  THE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EIL  YOUNG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20:10:08Z</dcterms:created>
  <dc:creator>Jennifer Budzinski</dc:creator>
  <dc:description/>
  <dc:language>en-US</dc:language>
  <cp:lastModifiedBy>Erich Friedman</cp:lastModifiedBy>
  <dcterms:modified xsi:type="dcterms:W3CDTF">2020-08-27T11:34:08Z</dcterms:modified>
  <cp:revision>396</cp:revision>
  <dc:subject/>
  <dc:title>Slide 1</dc:title>
</cp:coreProperties>
</file>