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90EA-894A-4817-9E24-F42FD4247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FA7C-49B6-4ECE-9DCB-1F37A634B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2E83-BF40-43B9-B061-FD1DF15D8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B283-4103-4625-8317-ACAD81FD1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190A-517F-460E-9214-F97E7BBC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84D4-9689-4F03-A4E6-36C888C66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E102-01D8-4F6A-974D-702621046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77D7-C243-4EF1-B6FE-F62663937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33CF-5A1C-4C9D-B8C5-287ABC29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9C02-CDBF-45E8-87DD-491E54B2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C0D5-5481-4F2D-A023-486C7B2BD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579E-7E41-48A6-B3CD-953E04D5D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A56D-4790-45DA-9CD0-ABD6B5C7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0245-16E6-4701-8213-F49754A00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77DC-BB0D-40C8-9B94-B5E3A0E76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EB9C-99BF-40CB-A36A-32352D52D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DCD4-4F36-441B-81B2-86B5454BD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79B7-BCF3-4EA5-A4F5-8A4D23011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D644-4FB6-43B7-90F9-3F8BF655A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438A-5142-4AAF-BA57-A19DF52D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0734-2963-4510-8398-3F4726B89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80597-15CB-4752-A389-F3DA06FE2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0152-356B-463A-B7C1-CEC826365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FULL MOON NEAREST THE FIRST DAY OF AUTUM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  THE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POST-APOCALYPTIC FILM STARRED AVA GARDNER, GREGORY PECK, FRED ASTAIRE, AND ANTHONY PERK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OB)  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AST NAME OF THE PRESIDENT OF SOUTH AFRICA  2009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ITCHHI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ANTHOLOGY TV SERIES, KNOWN AS "LA VOYAGEUR" IN FRANCE, AIRED ON HBO 1983-1987 AND USA 1989-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AND  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ETALS ARE THE MOST TRADED ON THE PRECIOUS METALS MAR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SYLLABLE ADJECTIVE IS USED FOR THOSE WHO HAVE CHANGED G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KEN  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JOHN TRAVOLTA AND CHRISTIAN SLATER AS PILOTS IN THE AIR FORCE TRYING TO RECOVER STOLEN NUCLEAR WEAP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U.S. CAPITOL DOME IS KNOWN AS THE STATUE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POST-APOCALYPTIC FILM STARRED AVA GARDNER, GREGORY PECK, FRED ASTAIRE, AND ANTHONY PERK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K  IN  THE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PHOR IS REALIZED IN ROBERT FROST'S POEM THAT ENDS "I TOOK THE ONE LESS TRAVELED BY, AND THAT HAS MADE ALL THE DIFFER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FULL MOON NEAREST THE FIRST DAY OF AUTUM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7692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EIL  YOUNG  ALB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AST NAME OF THE PRESIDENT OF SOUTH AFRICA  2009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ANTHOLOGY TV SERIES, KNOWN AS "LA VOYAGEUR" IN FRANCE, AIRED ON HBO 1983-1987 AND USA 1989-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ETALS ARE THE MOST TRADED ON THE PRECIOUS METALS MAR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SYLLABLE ADJECTIVE IS USED FOR THOSE WHO HAVE CHANGED G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JOHN TRAVOLTA AND CHRISTIAN SLATER AS PILOTS IN THE AIR FORCE TRYING TO RECOVER STOLEN NUCLEAR WEAP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U.S. CAPITOL DOME IS KNOWN AS THE STATUE OF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PHOR IS REALIZED IN ROBERT FROST'S POEM THAT ENDS "I TOOK THE ONE LESS TRAVELED BY, AND THAT HAS MADE ALL THE DIFFER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20:10:08Z</dcterms:created>
  <dc:creator>Jennifer Budzinski</dc:creator>
  <dc:description/>
  <dc:language>en-US</dc:language>
  <cp:lastModifiedBy>Erich Friedman</cp:lastModifiedBy>
  <dcterms:modified xsi:type="dcterms:W3CDTF">2020-08-27T11:34:08Z</dcterms:modified>
  <cp:revision>396</cp:revision>
  <dc:subject/>
  <dc:title>Slide 1</dc:title>
</cp:coreProperties>
</file>