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55BA4-91B4-469C-995A-7D1176B8B4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7B0E8-0C3E-452B-940E-C6305DA361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2FE50-185C-4996-82D1-AEBCF169C2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1BA79-2D91-473E-B7EF-24B8F4CDE9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6F2DA-5E10-4C8D-9A56-459B9CE89B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33FD7-430A-464E-9DA0-59B1B8BC4E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D193B-AD33-4799-BBA0-E27F72B50A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1CF97-83E1-485D-96CF-E88CDDDF67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6851A-CB3A-4CD0-8A67-2194CB369B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A44B9-5FD8-4B4A-A97E-1D261FD512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127CD-8BC2-41AC-B50D-3EF9780868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16D36-F94E-41C4-B892-E02C68A9FF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10074-A2C1-49F9-B2FC-D588167C5C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2F349-9051-4D2F-858C-42198ABA32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0F55C-5D4D-4BB5-9BF3-B705CDB3E6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16854-64CA-4939-9222-9A512A90E5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F7A49-EA48-4D84-AD8C-0C49DD60D2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BBDCD-BD8B-4EA6-8E5F-095EB96850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F95E7-BB76-4C5A-8807-6DD82BC00B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C7CFC-CA04-405E-AD76-3084342CF7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E947D-2E3F-412C-9BC7-7E4B5543AB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19C8E-B298-4138-B257-7279BBE960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1303E-9984-4980-8C18-DACE8E4583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ONLY U.S. PRESIDENT WHO USED TO BE HEAD OF THE C.I.A.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533520" y="4800600"/>
            <a:ext cx="80769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E  PER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762120" y="762120"/>
            <a:ext cx="7619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LEAD GUITARIST FOR AEROSMIT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486080" y="4800600"/>
            <a:ext cx="6172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RAHAM  CRACK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066680" y="762120"/>
            <a:ext cx="70106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O MAKE SMORES, YOU NEED MARSHMALLOWS, CHOCOLATE, AND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19040" y="4800600"/>
            <a:ext cx="8305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RAH  HUCKABEE  SAND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990720" y="762120"/>
            <a:ext cx="71625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WHITE HOUSE PRESS SECRETARY 2017-2019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0060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RSON  WENT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876240" y="750960"/>
            <a:ext cx="7391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STARTING QUARTERBACK FOR THE PHILADELPHIA EAGLES FOR THE '16-'17 SEAS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00600"/>
            <a:ext cx="68580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PPY  GILMO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838080" y="762120"/>
            <a:ext cx="74678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1996 FILM DOES ADAM SANDLER SWITCH FROM HOCKEY TO GOLF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333440" y="4800600"/>
            <a:ext cx="6477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U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09480" y="762120"/>
            <a:ext cx="79250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APOSTLE IS CREDITED WITH WRITING MORE THAN HALF OF THE BOOKS OF THE NEW TESTAM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638360" y="4800600"/>
            <a:ext cx="5867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GATHA  CHRIST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533520" y="762120"/>
            <a:ext cx="80769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YSTERY WRITER HAS BEEN OUTSOLD ONLY BY THE BIBLE AND SHAKESPEA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723960" y="76176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LEAD GUITARIST FOR AEROSMITH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104840" y="4800600"/>
            <a:ext cx="693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NÉLOPE  CRU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800280" y="762120"/>
            <a:ext cx="7543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STARRED   IN "VANILLA SKY", "BLOW", "ALL THE PRETTY HORSES", AND "CAPTAIN CORELLI'S MANDOLI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00600"/>
            <a:ext cx="83822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ORGE  H. W.  BU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533520" y="762120"/>
            <a:ext cx="80769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ONLY U.S. PRESIDENT WHO USED TO BE HEAD OF THE C.I.A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304920" y="4267080"/>
            <a:ext cx="85341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3000"/>
          </a:bodyPr>
          <a:p>
            <a:pPr marL="181800" indent="-1818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LAST  NAMES  OF  2016  GOP  PRESIDENTIAL  CANDIDA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6197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O MAKE SMORES, YOU NEED MARSHMALLOWS, CHOCOLATE, AND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009800" y="762120"/>
            <a:ext cx="71244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WHITE HOUSE PRESS SECRETARY 2017-2019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STARTING QUARTERBACK FOR THE PHILADELPHIA EAGLES FOR THE '16-'17 SEASON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1996 FILM DOES ADAM SANDLER SWITCH FROM HOCKEY TO GOLF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APOSTLE IS CREDITED WITH WRITING MORE THAN HALF OF THE BOOKS OF THE NEW TESTAME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YSTERY WRITER HAS BEEN OUTSOLD ONLY BY THE BIBLE AND SHAKESPEAR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STARRED   IN "VANILLA SKY", "BLOW", "ALL THE PRETTY HORSES", AND "CAPTAIN CORELLI'S MANDOLI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31T17:48:58Z</dcterms:created>
  <dc:creator>Jennifer Budzinski</dc:creator>
  <dc:description/>
  <dc:language>en-US</dc:language>
  <cp:lastModifiedBy>Erich Friedman</cp:lastModifiedBy>
  <dcterms:modified xsi:type="dcterms:W3CDTF">2020-08-27T11:37:46Z</dcterms:modified>
  <cp:revision>470</cp:revision>
  <dc:subject/>
  <dc:title>Slide 1</dc:title>
</cp:coreProperties>
</file>