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1E41-28A5-423E-8733-7D542AF4D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5AC7-6710-45A0-97E6-A089FC366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BA95-2D6C-46F5-8383-6EF6A76D4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60D4-7132-402A-95AB-04E6C0F1B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8855-44D2-43EC-8D87-431D88D6D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D719-73DC-427A-88C8-D818EEE01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A310-5D51-4B4F-9DD6-725176E74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D65D-5B8A-4CE6-9C9E-B83B526C3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C45B-0D96-4F7E-90A3-C1E4A3550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2716-F9D5-4AAC-9368-DEED85A3C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C8D5-CF96-439D-8DE3-7F1282F69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BDCF-EA6C-4978-A2C9-89ECC1507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F853-E902-4519-9585-FA81EFAF9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ADA1-6A53-4C67-9447-86956D314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E58A-B9DF-4801-84AA-DC68F7599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8DAD-FE3E-48D6-B019-59DE9DA88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4AF8-8548-4513-A940-425EA7E20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366F-34DE-4396-83CB-612A32DC5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EDF6-3154-4E55-8250-6D0D9732C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1C1A-9599-40B9-A040-E48DE2ED4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6BD4-AB41-465A-964A-F1CF6F696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87B0-289C-4C74-A695-39ADBF9E6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BF2C-26B1-445C-9911-FB8AFCD43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U.S. PRESIDENT WHO USED TO BE HEAD OF THE C.I.A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006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P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GUITARIST FOR AEROSMI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86080" y="480060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HAM  CRA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MAKE SMORES, YOU NEED MARSHMALLOWS, CHOCOLAT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H  HUCKABEE  S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WHITE HOUSE PRESS SECRETARY 2017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SON  WEN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5096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FOR THE PHILADELPHIA EAGLES FOR THE '16-'17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PPY  GIL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6 FILM DOES ADAM SANDLER SWITCH FROM HOCKEY TO GO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0060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POSTLE IS CREDITED WITH WRITING MORE THAN HALF OF THE BOOKS OF THE NEW TESTA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0060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THA  CHRIS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YSTERY WRITER HAS BEEN OUTSOLD ONLY BY THE BIBLE AND SHAKESPE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GUITARIST FOR AEROSMI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006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ÉLOPE  CRU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  IN "VANILLA SKY", "BLOW", "ALL THE PRETTY HORSES", AND "CAPTAIN CORELLI'S MANDOL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H. W.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U.S. PRESIDENT WHO USED TO BE HEAD OF THE C.I.A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2670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2016  GOP  PRESIDENTIAL  CANDID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MAKE SMORES, YOU NEED MARSHMALLOWS, CHOCOLATE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09800" y="762120"/>
            <a:ext cx="7124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WHITE HOUSE PRESS SECRETARY 2017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FOR THE PHILADELPHIA EAGLES FOR THE '16-'17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6 FILM DOES ADAM SANDLER SWITCH FROM HOCKEY TO GOL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POSTLE IS CREDITED WITH WRITING MORE THAN HALF OF THE BOOKS OF THE NEW TESTA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YSTERY WRITER HAS BEEN OUTSOLD ONLY BY THE BIBLE AND SHAKESPE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  IN "VANILLA SKY", "BLOW", "ALL THE PRETTY HORSES", AND "CAPTAIN CORELLI'S MANDOL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1T17:48:58Z</dcterms:created>
  <dc:creator>Jennifer Budzinski</dc:creator>
  <dc:description/>
  <dc:language>en-US</dc:language>
  <cp:lastModifiedBy>Erich Friedman</cp:lastModifiedBy>
  <dcterms:modified xsi:type="dcterms:W3CDTF">2020-08-27T11:37:46Z</dcterms:modified>
  <cp:revision>470</cp:revision>
  <dc:subject/>
  <dc:title>Slide 1</dc:title>
</cp:coreProperties>
</file>