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5375-1D04-4B4F-844A-A5FD89E0C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D88D-12CD-41B0-837B-4E4E48B69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CFB0-402F-44AB-B7C0-5319FBCE3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A816-B979-4800-98EF-066A13AFE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B2FF-3DAB-4568-8FA7-E86AAF8D8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601C-3679-4C43-8FD3-5A3E32732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70DF-86A3-4D04-ACFE-677F3E485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C420-2DC7-4278-8CC0-A313A8059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3A5E-BE69-4C9B-8B3B-99800F7A9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0E0A-236A-45F0-9DFB-7A583C6BF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745A-8BC9-4A5E-8474-C7B1002F5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A8AD-37C3-4E6B-B79C-9227D4A83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79E8-C071-44F7-8D33-81F22A218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5149-789E-423E-AFDF-1FCE7D56E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54CB-7ED0-4536-91FE-4305BF491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2554-8EB3-46BB-99CA-5D37B0E07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101E-7DE3-463A-8DE5-6F7522480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7D67-22D5-4AE4-8571-4CD06AFAB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6F17-61B0-4A45-B5DD-3DA4C05C3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519A-0D52-4E5A-9CC8-5876D377E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19CF-2C59-4BA3-B8B0-13468EE12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93DE-2558-4207-A622-2A12ECB4C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34E9-E597-48EA-B676-4468660B2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U.S. PRESIDENT WHO USED TO BE HEAD OF THE C.I.A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006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P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GUITARIST FOR AEROSMI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86080" y="480060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HAM  CRA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MAKE SMORES, YOU NEED MARSHMALLOWS, CHOCOLAT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H  HUCKABEE  S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WHITE HOUSE PRESS SECRETARY 2017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SON  WEN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5096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FOR THE PHILADELPHIA EAGLES FOR THE '16-'17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PPY  GIL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6 FILM DOES ADAM SANDLER SWITCH FROM HOCKEY TO GO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0060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POSTLE IS CREDITED WITH WRITING MORE THAN HALF OF THE BOOKS OF THE NEW TESTA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0060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ATHA  CHRIS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YSTERY WRITER HAS BEEN OUTSOLD ONLY BY THE BIBLE AND SHAKESPE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GUITARIST FOR AEROSMI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006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ÉLOPE  CRU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  IN "VANILLA SKY", "BLOW", "ALL THE PRETTY HORSES", AND "CAPTAIN CORELLI'S MANDOL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H. W.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U.S. PRESIDENT WHO USED TO BE HEAD OF THE C.I.A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2670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2016  GOP  PRESIDENTIAL  CANDID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MAKE SMORES, YOU NEED MARSHMALLOWS, CHOCOLATE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09800" y="762120"/>
            <a:ext cx="7124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WHITE HOUSE PRESS SECRETARY 2017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FOR THE PHILADELPHIA EAGLES FOR THE '16-'17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6 FILM DOES ADAM SANDLER SWITCH FROM HOCKEY TO GOL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POSTLE IS CREDITED WITH WRITING MORE THAN HALF OF THE BOOKS OF THE NEW TESTA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YSTERY WRITER HAS BEEN OUTSOLD ONLY BY THE BIBLE AND SHAKESPE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  IN "VANILLA SKY", "BLOW", "ALL THE PRETTY HORSES", AND "CAPTAIN CORELLI'S MANDOL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1T17:48:58Z</dcterms:created>
  <dc:creator>Jennifer Budzinski</dc:creator>
  <dc:description/>
  <dc:language>en-US</dc:language>
  <cp:lastModifiedBy>Erich Friedman</cp:lastModifiedBy>
  <dcterms:modified xsi:type="dcterms:W3CDTF">2020-08-27T11:37:46Z</dcterms:modified>
  <cp:revision>470</cp:revision>
  <dc:subject/>
  <dc:title>Slide 1</dc:title>
</cp:coreProperties>
</file>