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8C51-C5F8-4EC2-9585-98830B8D8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858A-5BA3-4941-ADD4-B7E852C82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A52B-E1CF-4C4E-93AA-A13305CCA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05E4-C2AE-45DA-A25C-BC251F368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E457-D0BE-4CDD-8656-242D1D17A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6488-8DBF-4081-AFB8-04770D44A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71F0-C224-46A7-8E13-DC827FFB8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7774-EB98-4527-8A4D-B1E5EA919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2909-7C6C-4E05-8EE4-8CCEDA6B5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EA70-6EFA-4439-9C4F-91AF6AAC2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CE2C-FCAA-4BF9-A42B-0533E42D7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B00D-7883-4D2B-B2D4-8E976D069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58E5-4429-4C9C-BA34-2D6906513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D84D-0F45-493B-A141-1D46937C3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DBD4-9DA0-4AF3-A100-30B235885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6DFD-A0E5-4BF1-88A4-909609823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C73E-070E-4705-A973-4BA4D2A52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6B2B-1EC8-4743-8E4B-C2339797F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5084-C8F1-4DBF-8F11-FBDB38068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9EA7-E810-4474-A00E-1B8F9DCA7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114D-68EB-45FE-8FEE-F368966CA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8101-5BFF-4F71-91AE-666B9A5DF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18EF-8D0B-49E0-BF49-BFA0C6712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SIT-COM STARRED SHIRLEY JONES AND DAVID CASSI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0060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UM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KEITH MOON'S ROLE IN THE BAND THE WHO BEFORE HIS DEATH IN 197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0060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D  M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VICTORIAN CARD GAME IS THE LOSER THE PLAYER STUCK WITH THE QUEEN OF SPADES AT THE E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006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EN  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ORGE JONES AND TAMMY WYNETTE ALBUM WENT TO #1, IRONICALLY SINCE THEY HAD DIVORCED A YEAR EARLI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85316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52280" y="738360"/>
            <a:ext cx="8839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3" descr="Dove-logo-880x660.jpg"/>
          <p:cNvPicPr/>
          <p:nvPr/>
        </p:nvPicPr>
        <p:blipFill>
          <a:blip r:embed="rId1"/>
          <a:stretch/>
        </p:blipFill>
        <p:spPr>
          <a:xfrm>
            <a:off x="1890720" y="1981080"/>
            <a:ext cx="536256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0060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FIRST NAME OF BOTH THE PROTAGONIST OF "ORANGE IS THE NEW BLACK" AND THE AUTHOR OF THE MEMOIR THAT THE SHOW IS BASED 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AN  L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71640" y="762120"/>
            <a:ext cx="7200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CHAIKOVSKY BALLET IS ABOUT A PRINCESS TRANSFORMED BY AN EVIL SORCER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00200" y="4800600"/>
            <a:ext cx="5943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ORD'S  PR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GINS "OUR FATHER WHO ART IN HEAVEN, HALLOWED BE HIS NAME..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KEITH MOON'S ROLE IN THE BAND THE WHO BEFORE HIS DEATH IN 197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295280" y="4800600"/>
            <a:ext cx="655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NICKNAME WAS RICHARD MICHAEL GOSSAGE, AN 8-TIME ALL-STAR RELIEF PITCHER, KN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ARTRIDGE 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SIT-COM STARRED SHIRLEY JONES AND DAVID CASSI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533520" y="4267080"/>
            <a:ext cx="80769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ITEMS  GIVEN  IN  "THE  12  DAYS OF CHRISTMAS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VICTORIAN CARD GAME IS THE LOSER THE PLAYER STUCK WITH THE QUEEN OF SPADES AT THE E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ORGE JONES AND TAMMY WYNETTE ALBUM WENT TO #1, IRONICALLY SINCE THEY HAD DIVORCED A YEAR EARLI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90440" y="7621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3" descr="Dove-logo-880x660.jpg"/>
          <p:cNvPicPr/>
          <p:nvPr/>
        </p:nvPicPr>
        <p:blipFill>
          <a:blip r:embed="rId1"/>
          <a:stretch/>
        </p:blipFill>
        <p:spPr>
          <a:xfrm>
            <a:off x="1890720" y="2133720"/>
            <a:ext cx="536256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FIRST NAME OF BOTH THE PROTAGONIST OF "ORANGE IS THE NEW BLACK" AND THE AUTHOR OF THE MEMOIR THAT THE SHOW IS BASED 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33480" y="761760"/>
            <a:ext cx="7277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CHAIKOVSKY BALLET IS ABOUT A PRINCESS TRANSFORMED BY AN EVIL SORCER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GINS "OUR FATHER WHO ART IN HEAVEN, HALLOWED BE HIS NAME...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NICKNAME WAS RICHARD MICHAEL GOSSAGE, AN 8-TIME ALL-STAR RELIEF PITCHER, KN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8:05:30Z</dcterms:created>
  <dc:creator>Jennifer Budzinski</dc:creator>
  <dc:description/>
  <dc:language>en-US</dc:language>
  <cp:lastModifiedBy>Erich Friedman</cp:lastModifiedBy>
  <dcterms:modified xsi:type="dcterms:W3CDTF">2020-08-27T11:42:30Z</dcterms:modified>
  <cp:revision>414</cp:revision>
  <dc:subject/>
  <dc:title>Slide 1</dc:title>
</cp:coreProperties>
</file>