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898-36D3-474D-ABE6-EC22B19C9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C621-A816-4537-9437-0353D0F2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B462-EBC3-4DC2-A9D4-C45EF027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0BFD-5355-4C0E-9419-D8513DCC8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482-EBE9-4A02-B5BF-4F7D341B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6365-982A-4C8A-9998-12630C17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8FA-6A4A-4349-AF3A-A6EAD0EE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8DB2-B704-41F4-993E-889388E5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7D67-12DC-41AB-80CA-050535085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EBE8-7AEA-4EAA-B66A-C012AC3A1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7F1-F380-4884-8539-49196EE2D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0651-E81F-4D8A-B958-AA75F0E2A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AAF3-6E1D-4D31-8DF7-F6EB78E1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22B3-C2DE-4F5D-BC6A-20DA4314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D756-265B-4E96-BA00-0D1CF75D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B391-082D-488C-8AF4-C8AB389C7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0247-1E2F-4CCD-AA24-B293B6EB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265D-D776-4030-B2C5-617FCA4C6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2D25-B0EB-41AD-A565-F65703162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D9BE-710D-4B59-8F5B-EE0E23E1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DB9A-C55D-4634-B2D7-0C5F0796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5F09-6FAE-4003-A3E9-93AD304B1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ACD3-AFEE-4967-BAC0-EEB46CDB9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SIT-COM STARRED SHIRLEY JONES AND DAVID CASSI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KEITH MOON'S ROLE IN THE BAND THE WHO BEFORE HIS DEATH IN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VICTORIAN CARD GAME IS THE LOSER THE PLAYER STUCK WITH THE QUEEN OF SPADES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JONES AND TAMMY WYNETTE ALBUM WENT TO #1, IRONICALLY SINCE THEY HAD DIVORCED A YEAR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5316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2280" y="73836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Dove-logo-880x660.jpg"/>
          <p:cNvPicPr/>
          <p:nvPr/>
        </p:nvPicPr>
        <p:blipFill>
          <a:blip r:embed="rId1"/>
          <a:stretch/>
        </p:blipFill>
        <p:spPr>
          <a:xfrm>
            <a:off x="1890720" y="1981080"/>
            <a:ext cx="536256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NAME OF BOTH THE PROTAGONIST OF "ORANGE IS THE NEW BLACK" AND THE AUTHOR OF THE MEMOIR THAT THE SHOW IS BASED 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N  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CHAIKOVSKY BALLET IS ABOUT A PRINCESS TRANSFORMED BY AN EVIL SORCER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0060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RD'S  PR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INS "OUR FATHER WHO ART IN HEAVEN, HALLOWED BE HIS NAME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KEITH MOON'S ROLE IN THE BAND THE WHO BEFORE HIS DEATH IN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006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ICKNAME WAS RICHARD MICHAEL GOSSAGE, AN 8-TIME ALL-STAR RELIEF PITCHER,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SIT-COM STARRED SHIRLEY JONES AND DAVID CASSI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33520" y="4267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ITEMS  GIVEN  IN  "THE  12  DAYS OF CHRISTMA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VICTORIAN CARD GAME IS THE LOSER THE PLAYER STUCK WITH THE QUEEN OF SPADES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JONES AND TAMMY WYNETTE ALBUM WENT TO #1, IRONICALLY SINCE THEY HAD DIVORCED A YEAR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Dove-logo-880x660.jpg"/>
          <p:cNvPicPr/>
          <p:nvPr/>
        </p:nvPicPr>
        <p:blipFill>
          <a:blip r:embed="rId1"/>
          <a:stretch/>
        </p:blipFill>
        <p:spPr>
          <a:xfrm>
            <a:off x="1890720" y="2133720"/>
            <a:ext cx="53625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NAME OF BOTH THE PROTAGONIST OF "ORANGE IS THE NEW BLACK" AND THE AUTHOR OF THE MEMOIR THAT THE SHOW IS BASED 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CHAIKOVSKY BALLET IS ABOUT A PRINCESS TRANSFORMED BY AN EVIL SORCER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GINS "OUR FATHER WHO ART IN HEAVEN, HALLOWED BE HIS NAME..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ICKNAME WAS RICHARD MICHAEL GOSSAGE, AN 8-TIME ALL-STAR RELIEF PITCHER,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8:05:30Z</dcterms:created>
  <dc:creator>Jennifer Budzinski</dc:creator>
  <dc:description/>
  <dc:language>en-US</dc:language>
  <cp:lastModifiedBy>Erich Friedman</cp:lastModifiedBy>
  <dcterms:modified xsi:type="dcterms:W3CDTF">2020-08-27T11:42:30Z</dcterms:modified>
  <cp:revision>414</cp:revision>
  <dc:subject/>
  <dc:title>Slide 1</dc:title>
</cp:coreProperties>
</file>