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A8A-49D0-4AFE-9599-B7894089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45F4-A423-418D-AAA9-EAC778D2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0611-B4D7-40B3-80CC-1C1A3DFD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169D-A35B-48C9-B5FF-0A96908D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18E6-0B0C-41EC-A94B-9AD04BB4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4D0E-4E91-45BA-9DEF-84F4B8E8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E977-E00A-4F0E-A308-9897E21B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714B-DF3B-4F30-BF0A-78B5E1C8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6BA-22B8-4C7F-87E9-A1242F03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D5E-D0DF-4A2E-8D12-567FA92A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8D0-02E8-4486-936C-654EAAD1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3BF3-0393-432A-A1E3-B04F7836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DB5-25A0-4D8E-A160-C41C3BD7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C9C3-303D-4E7A-B8A8-6A3BFAED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513-942C-4CC8-B425-160C0DCA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FE21-4EB4-41F5-B303-66E198C4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F92B-520E-4F64-BCEB-84387419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9AA-A7C3-4B83-BEA5-C1E0A4B2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775-C1C4-4808-AB9B-53F5DC0B3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BD0D-BCA7-4D65-BE1C-30E39C07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0AD-3DC6-4731-A288-D8632C1C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9FCC-2186-4E90-8410-17C47BF3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646-FCF7-49DE-9CBC-CF163ED8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531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3836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1981080"/>
            <a:ext cx="53625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N  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D'S 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ITEMS  GIVEN  IN  "THE  12  DAYS OF CHRISTM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2133720"/>
            <a:ext cx="53625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8:05:30Z</dcterms:created>
  <dc:creator>Jennifer Budzinski</dc:creator>
  <dc:description/>
  <dc:language>en-US</dc:language>
  <cp:lastModifiedBy>Erich Friedman</cp:lastModifiedBy>
  <dcterms:modified xsi:type="dcterms:W3CDTF">2020-08-27T11:42:30Z</dcterms:modified>
  <cp:revision>414</cp:revision>
  <dc:subject/>
  <dc:title>Slide 1</dc:title>
</cp:coreProperties>
</file>