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A0C-0CF8-418C-9DA3-3B3B1898D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2279-0608-4A6F-9207-CC4D0E3B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FFF-B27D-4C18-9DB8-AB0D6F30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428A-1968-4060-A6EF-AFF0300D2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E129-9CE1-4186-820F-EA5BE4DF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1742-1655-4880-B64E-235F6EB2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CCE-2BCA-42F8-AECA-237D78B0F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289C-481F-4306-8D95-9D283C6A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BB6E-BAAE-483F-87A9-0C3193D6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05CD-6906-4634-B97F-B8B9D03F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BBF-C420-44CC-A6C9-47DA5645E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6A17-382D-4D5B-BEA3-6A3BA16D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C03-4F62-4CF6-8B80-4B66986A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5AFB-ED8F-4EB6-BFE5-768B6E01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FBAA-68C3-4155-8B9B-54A88807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E71F-E3FB-4A5D-B791-EB2CA595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3D1E-0418-4AB3-8D90-29981029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960-14EA-4098-90AE-9884E3E3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F9D-8F94-4344-A4BF-2DE1ED02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4AA-249A-4524-89CD-2C1FBE04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20E-B7C1-4811-BF4A-DAE80A28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E9D-5922-4A31-95D4-0D6FD048E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8F9-D1E0-425E-A1AC-E562CE32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IS THE ALTER EGO OF TONY ST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    OF SILENT FILM WAS FAMOUS FOR HIS PERSONA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,  CAESA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HOLLYWOOD IN THE 50'S HAS A TITLE MORE FITT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ING OF ENGLAND AFTER EDWARD V AND BEFORE HENRY V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914400"/>
            <a:ext cx="3828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 OF COOKIES ARE THE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FICATION SCHEME ASSIGNS 1 OF 12 ANIMALS TO EACH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8440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LIVES AT 221 B BAKER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9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GE  J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judge-judy.jpg"/>
          <p:cNvPicPr/>
          <p:nvPr/>
        </p:nvPicPr>
        <p:blipFill>
          <a:blip r:embed="rId1"/>
          <a:stretch/>
        </p:blipFill>
        <p:spPr>
          <a:xfrm>
            <a:off x="2438280" y="1981080"/>
            <a:ext cx="4248360" cy="28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790640" y="762120"/>
            <a:ext cx="5562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IS THE ALTER EGO OF TONY ST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8080" y="43434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OBERT  DOWNEY  JR.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      OF SILENT FILM WAS FAMOUS FOR HIS PERSONA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HOLLYWOOD IN THE 50'S HAS A TITLE MORE FITT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ING OF ENGLAND AFTER EDWARD V AND BEFORE HENRY V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240" y="952560"/>
            <a:ext cx="39625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 OF COOKIES ARE THE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FICATION SCHEME ASSIGNS 1 OF 12 ANIMALS TO EACH YEA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LIVES AT 221 B BAKER STR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udge-judy.jpg"/>
          <p:cNvPicPr/>
          <p:nvPr/>
        </p:nvPicPr>
        <p:blipFill>
          <a:blip r:embed="rId1"/>
          <a:stretch/>
        </p:blipFill>
        <p:spPr>
          <a:xfrm>
            <a:off x="2448000" y="2057400"/>
            <a:ext cx="42480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9:43:08Z</dcterms:created>
  <dc:creator>Jennifer Budzinski</dc:creator>
  <dc:description/>
  <dc:language>en-US</dc:language>
  <cp:lastModifiedBy>Erich Friedman</cp:lastModifiedBy>
  <dcterms:modified xsi:type="dcterms:W3CDTF">2020-08-27T11:44:04Z</dcterms:modified>
  <cp:revision>350</cp:revision>
  <dc:subject/>
  <dc:title>Slide 1</dc:title>
</cp:coreProperties>
</file>