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513E-9DF6-493A-94F3-8E875449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EA3-97E7-4D91-B04C-2DD273C5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C10-3AFC-4BFA-9B14-4CB627A1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3FEE-91AF-46D9-8E64-F5D57485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A7E-4E99-4634-8B95-28D53516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311-3A03-4E20-91AE-2B540B05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D720-434E-4817-9B21-69E7CFF5D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6E6-E52E-4DBC-8716-F448331D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24C-4A2A-4BB8-A8D5-9164FFB1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674-DC05-4CD6-832F-36FFE4C8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898D-AC9B-49C5-897C-E2D1C8E3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46E2-D2CB-4587-BFF7-9FAE078F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4403-9841-4FA2-A0D7-A4328AE1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1D9-6C2C-42BD-A1AB-D7A9E553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FF3E-36A1-41FB-A559-F85073E0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0207-2239-4860-A5EE-3D717E4F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2C0-8731-4152-B212-E84905720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223-DED7-4A06-83DF-43D964DD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1D49-4F9C-4AA3-A27A-B5CFDE5C0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BF7-74E7-4416-807E-532F0678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F96D-585C-4965-81BD-B85C15C55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3980-5224-41CE-BE48-AF418B47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001-109E-4FCB-A677-39A990EF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OF SILENT FILM WAS FAMOUS FOR HIS PERSONA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,  CAESA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914400"/>
            <a:ext cx="3828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8440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9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GE  J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judge-judy.jpg"/>
          <p:cNvPicPr/>
          <p:nvPr/>
        </p:nvPicPr>
        <p:blipFill>
          <a:blip r:embed="rId1"/>
          <a:stretch/>
        </p:blipFill>
        <p:spPr>
          <a:xfrm>
            <a:off x="2438280" y="1981080"/>
            <a:ext cx="4248360" cy="28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790640" y="762120"/>
            <a:ext cx="5562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8080" y="43434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OBERT  DOWNEY  JR.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  OF SILENT FILM WAS FAMOUS FOR HIS PERSONA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240" y="952560"/>
            <a:ext cx="39625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udge-judy.jpg"/>
          <p:cNvPicPr/>
          <p:nvPr/>
        </p:nvPicPr>
        <p:blipFill>
          <a:blip r:embed="rId1"/>
          <a:stretch/>
        </p:blipFill>
        <p:spPr>
          <a:xfrm>
            <a:off x="2448000" y="2057400"/>
            <a:ext cx="42480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43:08Z</dcterms:created>
  <dc:creator>Jennifer Budzinski</dc:creator>
  <dc:description/>
  <dc:language>en-US</dc:language>
  <cp:lastModifiedBy>Erich Friedman</cp:lastModifiedBy>
  <dcterms:modified xsi:type="dcterms:W3CDTF">2020-08-27T11:44:04Z</dcterms:modified>
  <cp:revision>350</cp:revision>
  <dc:subject/>
  <dc:title>Slide 1</dc:title>
</cp:coreProperties>
</file>