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401F-F25A-45CE-80BA-3E0315A1D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378B-2931-41D8-AFC9-392E9C01B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6B5F-20CF-41E8-9EBB-B165E907D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714B-73F6-4B85-8CC8-18D69F442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ABD6-C472-47DD-AE3B-73CBBC153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A3DB-BCB8-4747-B4AD-C9D7FB363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3E80B-B69B-43ED-A5A7-AE07D802A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CB0F-0146-450B-A228-394302C08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3503-4056-4EC6-B1BD-E4B2DE860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0C0F-B7DA-4218-8BD2-E44AA60C9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00EC-D1B9-4FFC-AFCA-C581E72AE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FA1C-53E6-432A-B783-75619A720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0356-E434-4E21-8D94-4A378C29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F4E4-9B32-4180-B653-752366D48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2A60-EA94-4AA1-8CF8-CBDAC297B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01D8-0354-4015-9FAC-22D855563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ADE5-22CD-4974-BC2D-493074EC1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00B0-0ECB-4F2F-97C9-D38D62A5E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54E1-5909-4DFB-8B5F-D8259E661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7F2DF-17E0-435E-B504-B54E4718A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23E6-91E9-4995-949E-C44760F2C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4909-ED0B-4DC7-9783-E2844E20D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E824-9A5C-4AD5-9D9F-F93B16DF5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790640" y="76176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IS THE ALTER EGO OF TONY ST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1181160" y="762120"/>
            <a:ext cx="6781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HUMANS FIRST SET FOOT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    OF SILENT FILM WAS FAMOUS FOR HIS PERSONA "THE 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L,  CAESA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HOLLYWOOD IN THE 50'S HAS A TITLE MORE FITTING THE ROMAN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I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ING OF ENGLAND AFTER EDWARD V AND BEFORE HENRY V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53352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AND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914400"/>
            <a:ext cx="38289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 OF COOKIES ARE THE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ESE  ZOD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914400" y="762120"/>
            <a:ext cx="7315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FICATION SCHEME ASSIGNS 1 OF 12 ANIMALS TO EACH YEA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18440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CHARACTER LIVES AT 221 B BAKER STR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HUMANS FIRST SET FOOT ON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457200" y="490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GE  J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judge-judy.jpg"/>
          <p:cNvPicPr/>
          <p:nvPr/>
        </p:nvPicPr>
        <p:blipFill>
          <a:blip r:embed="rId1"/>
          <a:stretch/>
        </p:blipFill>
        <p:spPr>
          <a:xfrm>
            <a:off x="2438280" y="1981080"/>
            <a:ext cx="4248360" cy="28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790640" y="762120"/>
            <a:ext cx="5562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IS THE ALTER EGO OF TONY ST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38080" y="4343400"/>
            <a:ext cx="7467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ROBERT  DOWNEY  JR.  MOV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      OF SILENT FILM WAS FAMOUS FOR HIS PERSONA "THE TRAM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FILM ABOUT HOLLYWOOD IN THE 50'S HAS A TITLE MORE FITTING THE ROMAN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ING OF ENGLAND AFTER EDWARD V AND BEFORE HENRY V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28240" y="952560"/>
            <a:ext cx="3962520" cy="27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 OF COOKIES ARE THES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4876920" y="609480"/>
            <a:ext cx="3733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FICATION SCHEME ASSIGNS 1 OF 12 ANIMALS TO EACH YEA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CHARACTER LIVES AT 221 B BAKER STR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judge-judy.jpg"/>
          <p:cNvPicPr/>
          <p:nvPr/>
        </p:nvPicPr>
        <p:blipFill>
          <a:blip r:embed="rId1"/>
          <a:stretch/>
        </p:blipFill>
        <p:spPr>
          <a:xfrm>
            <a:off x="2448000" y="2057400"/>
            <a:ext cx="4248000" cy="284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9:43:08Z</dcterms:created>
  <dc:creator>Jennifer Budzinski</dc:creator>
  <dc:description/>
  <dc:language>en-US</dc:language>
  <cp:lastModifiedBy>Erich Friedman</cp:lastModifiedBy>
  <dcterms:modified xsi:type="dcterms:W3CDTF">2020-08-27T11:44:04Z</dcterms:modified>
  <cp:revision>350</cp:revision>
  <dc:subject/>
  <dc:title>Slide 1</dc:title>
</cp:coreProperties>
</file>