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7D2E-29A1-4E63-91D4-DF9EC031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C8EE-45EA-4BC0-AD5B-64617B1DA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9EEE-F193-4B68-904E-F444479CF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B75D-B113-448C-AC66-944F40CC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0B9-DF1D-4EEE-827F-7FDF9E5AD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436-38D3-45E0-86F9-BA778AFC0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5A93-B9CB-4CFC-B06B-5B6B54B0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A9F-E80C-4383-AAA2-0CE90E367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EF11-DD14-42B9-A34B-9D6D52156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B600-6EDE-41AF-BD46-C4984B057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A8E6-225C-4749-B741-D64959BB2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BD16-4C94-4219-8D89-0183542F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83DD-0E94-4455-88AB-FEDE8B6B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145E-BE87-46C3-87D4-638BAA1B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EC7B-0297-480E-B41B-426A80FB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5F82-55F3-4CCD-819C-2BD960A87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848E-7A9E-48B8-B8AA-8737742A9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10CF-2EE3-4091-A4A3-4DE8F5E4F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BCD7-7CF2-418A-BDA5-14788630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FDB0-BC3E-446F-A7BF-741CDF0E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807-D584-4ADA-89FD-98BC605F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250F-4197-4478-B883-D6EC91920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9AA4-3367-4F7B-8EB9-92B6463E9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AYN RAND'S MOST FAMOUS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HIGH IN NUTRIENTS IS SOMETIMES CALLED "LEAF CABB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(BUFF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ORTRAYED BY LISA KUD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E INTERNET RADIO SERVICE IS "POWERED BY THE MUSIC GENOME PROJ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ANTASY FILM WAS AN ALTERNATIVE ORIGIN STORY OF CAPTAIN H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ERMAID IN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ANDA  (HOBB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"SEX AND THE CITY" CHARACTER PLAYED BY CYNTHIA NIX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LABOR OF HERCULES WAS TO     SLAY WHAT REPTILIAN CREATURE WITH 9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HIGH IN NUTRIENTS IS SOMETIMES CALLED "LEAF CABB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ABE" AND "MR. ROBOT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  (SHRUGG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AYN RAND'S MOST FAMOUS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553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OONS  IN  OUR  SOLAR 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ORTRAYED BY LISA KUD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E INTERNET RADIO SERVICE IS "POWERED BY THE MUSIC GENOME PROJ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FANTASY FILM WAS AN ALTERNATIVE ORIGIN STORY OF CAPTAIN H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ERMAID IN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"SEX AND THE CITY" CHARACTER PLAYED BY CYNTHIA NIX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LABOR OF HERCULES WAS TO     SLAY WHAT REPTILIAN CREATURE WITH 9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ABE" AND "MR. ROBOT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6:37:05Z</dcterms:created>
  <dc:creator>Jennifer Budzinski</dc:creator>
  <dc:description/>
  <dc:language>en-US</dc:language>
  <cp:lastModifiedBy>Erich Friedman</cp:lastModifiedBy>
  <dcterms:modified xsi:type="dcterms:W3CDTF">2020-08-27T11:45:11Z</dcterms:modified>
  <cp:revision>418</cp:revision>
  <dc:subject/>
  <dc:title>Slide 1</dc:title>
</cp:coreProperties>
</file>