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D9C5-6981-4431-AEF1-8DF08B59A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AC6B-0C94-4CAB-AD84-8878CE71D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11CA-CBC0-4A02-8CBF-DCDE064B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3E8F-55AF-4C51-9CFF-051BA4FC9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13CC-E0BE-4DA2-B2A4-7F815732D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0728-3B97-4C69-A3F1-AFD8F6D69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30FE-4285-4A95-BA97-E69371146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C16F-161F-4BE4-ABE8-361338760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F3C7-5515-471A-AB9C-ED9922A8D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75D0-D874-4904-8D3A-754F475A6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B738-0245-4DC7-9E5C-A2AC549CD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C9C9-2748-4309-8809-21F4E9B2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6A72-BBD7-45E8-93D4-9814FB427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0E4-1EA7-4B7E-9DD8-2536BD432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A8FD-EFD2-4B4A-8DB8-2E5A1BEDA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C4A2-4F08-4293-9722-E4163BD33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6E33-677C-4DFD-898D-2C761BD26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3875-917F-4693-9054-24B6FE77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804A-63FD-45BD-922E-FB18EE0E1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E68F-02BC-4E4D-AF75-2552E5244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BEDD-2360-439D-80E2-E4360F1A8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5E47-951F-4A31-A4F8-9CD9E34D1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6429-BA20-472D-8F4F-BFCAABB79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AYN RAND'S MOST FAMOUS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HIGH IN NUTRIENTS IS SOMETIMES CALLED "LEAF CABB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BE  (BUFF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ORTRAYED BY LISA KUD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E INTERNET RADIO SERVICE IS "POWERED BY THE MUSIC GENOME PROJ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FANTASY FILM WAS AN ALTERNATIVE ORIGIN STORY OF CAPTAIN H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ERMAID IN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RANDA  (HOBB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"SEX AND THE CITY" CHARACTER PLAYED BY CYNTHIA NIX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LABOR OF HERCULES WAS TO     SLAY WHAT REPTILIAN CREATURE WITH 9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HIGH IN NUTRIENTS IS SOMETIMES CALLED "LEAF CABB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Y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ABE" AND "MR. ROBOT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S  (SHRUGG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AYN RAND'S MOST FAMOUS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343400"/>
            <a:ext cx="65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OONS  IN  OUR  SOLAR 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ORTRAYED BY LISA KUD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E INTERNET RADIO SERVICE IS "POWERED BY THE MUSIC GENOME PROJ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FANTASY FILM WAS AN ALTERNATIVE ORIGIN STORY OF CAPTAIN H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ERMAID IN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"SEX AND THE CITY" CHARACTER PLAYED BY CYNTHIA NIX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LABOR OF HERCULES WAS TO     SLAY WHAT REPTILIAN CREATURE WITH 9 HE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ABE" AND "MR. ROBOT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6:37:05Z</dcterms:created>
  <dc:creator>Jennifer Budzinski</dc:creator>
  <dc:description/>
  <dc:language>en-US</dc:language>
  <cp:lastModifiedBy>Erich Friedman</cp:lastModifiedBy>
  <dcterms:modified xsi:type="dcterms:W3CDTF">2020-08-27T11:45:11Z</dcterms:modified>
  <cp:revision>418</cp:revision>
  <dc:subject/>
  <dc:title>Slide 1</dc:title>
</cp:coreProperties>
</file>