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D223-7BA2-4D39-B3AE-C8E4AC5AD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4024-52AE-437C-A934-51D3D495A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CD9B-0238-45BC-9C86-0E0BB14F4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071D-F526-4847-8839-88035E659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9503-E74F-4AC6-8BB8-3804FD52D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0A1B-8CDF-4DA2-A5D4-D7CDE4762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42B9-54C3-4291-B3EB-21EA1547C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5B2E-F40E-4629-9C4E-A4968391E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CE80-DAE7-4F9A-9823-2B9F5C896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2175-1A71-4892-8840-C0DAF12BE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77DF-920C-4EC2-9A90-A135CC200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D76E-A325-466F-91D0-524B089AF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E291-6894-449E-95C0-993DB3E6D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B99B-22FF-42F2-B242-B4A28E91A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C34D-98FD-48A9-81DD-F07441190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3399-C1CA-4D23-9062-8CDA4CB38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9D97-22FB-413C-8EC5-BA77C4DB0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B0EB-33A4-473F-8BD6-8B46072AC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B6F0-F33E-47D1-BBD1-F1B6BFEF1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3334-46EC-4E61-9F19-598EE7969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A803-CD06-4E43-8A8D-562F8975C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8070-B781-4995-AADF-5D5E3AC3A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8586-0B94-4594-87CC-B1B971C07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TITLE OF AYN RAND'S MOST FAMOUS BOO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EGETABLE HIGH IN NUTRIENTS IS SOMETIMES CALLED "LEAF CABBAG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EBE  (BUFFA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"FRIENDS" CHARACTER PORTRAYED BY LISA KUDR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NDO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76240" y="76212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E INTERNET RADIO SERVICE IS "POWERED BY THE MUSIC GENOME PROJEC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 FANTASY FILM WAS AN ALTERNATIVE ORIGIN STORY OF CAPTAIN HOO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I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MERMAID IN "THE LITTLE MERMAI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RANDA  (HOBB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"SEX AND THE CITY" CHARACTER PLAYED BY CYNTHIA NIX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YD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ECOND LABOR OF HERCULES WAS TO     SLAY WHAT REPTILIAN CREATURE WITH 9 HEA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EGETABLE HIGH IN NUTRIENTS IS SOMETIMES CALLED "LEAF CABBAG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Y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ANG "BABE" AND "MR. ROBOT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TLAS  (SHRUGG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TITLE OF AYN RAND'S MOST FAMOUS BOO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95280" y="4343400"/>
            <a:ext cx="65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MOONS  IN  OUR  SOLAR 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"FRIENDS" CHARACTER PORTRAYED BY LISA KUDR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E INTERNET RADIO SERVICE IS "POWERED BY THE MUSIC GENOME PROJEC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 FANTASY FILM WAS AN ALTERNATIVE ORIGIN STORY OF CAPTAIN HOO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MERMAID IN "THE LITTLE MERMAI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"SEX AND THE CITY" CHARACTER PLAYED BY CYNTHIA NIX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ECOND LABOR OF HERCULES WAS TO     SLAY WHAT REPTILIAN CREATURE WITH 9 HEA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ANG "BABE" AND "MR. ROBOT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3T16:37:05Z</dcterms:created>
  <dc:creator>Jennifer Budzinski</dc:creator>
  <dc:description/>
  <dc:language>en-US</dc:language>
  <cp:lastModifiedBy>Erich Friedman</cp:lastModifiedBy>
  <dcterms:modified xsi:type="dcterms:W3CDTF">2020-08-27T11:45:11Z</dcterms:modified>
  <cp:revision>418</cp:revision>
  <dc:subject/>
  <dc:title>Slide 1</dc:title>
</cp:coreProperties>
</file>