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C428-0D51-46F4-A8C9-BA523ED15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EE2D-6B2C-44EB-9E05-93B0C394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3CC3-1E50-40FD-8011-881818E80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EA75-1142-4C06-9D9E-2307FEB7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9B0C-17B1-4364-9910-D1A4F6843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2ECD-C719-4401-8446-5EC2960A7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23A5-ADD5-43E4-9CD2-B2AE7192B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D709-641A-4E79-AD52-A02E21E74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4F39-A9EE-44F8-BA67-7C78C4D3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F18C-4BBB-40B9-81E1-CB3FE7DE6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5098-DCBA-42CC-940C-F037D9321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DB68-2A23-452A-9B26-9800B4E8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2DBE-04E1-4C39-8233-287A9AD77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7D1F-A39F-4E77-8B88-6EA06CA44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002B-7C7A-48EB-A0CC-E0889287C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C3EB-7ECB-4772-AD73-D434FCB82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A371-6879-4438-9679-FAFD1CF70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075E-75C9-47AE-A3F5-324F900D3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BE88-C3C2-478D-B0B1-C1CD1DB58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D34F-F854-428A-9C6B-6480708EB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EDB5-FAE6-460E-BE0F-175CD770F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00B7-8E32-49DC-A978-B38DA2A0C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0121-9DA9-45D7-8F1B-C7FA53CDF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207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STELLATION OF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4102200" y="2057400"/>
            <a:ext cx="4657680" cy="3429000"/>
          </a:xfrm>
          <a:prstGeom prst="rect">
            <a:avLst/>
          </a:prstGeom>
          <a:ln w="0">
            <a:noFill/>
          </a:ln>
        </p:spPr>
      </p:pic>
      <p:sp>
        <p:nvSpPr>
          <p:cNvPr id="502" name="TextBox 4"/>
          <p:cNvSpPr/>
          <p:nvPr/>
        </p:nvSpPr>
        <p:spPr>
          <a:xfrm>
            <a:off x="352440" y="1889280"/>
            <a:ext cx="338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ZODIAC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A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04920" y="762120"/>
            <a:ext cx="8534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PORTS TEAMS OF SOUTHERN METHODIST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95240" y="762120"/>
            <a:ext cx="755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CESS IS RESPONSIBLE FOR MOST OF A STAR'S ENE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69960" y="752400"/>
            <a:ext cx="780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HONE MADE BY SAMS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55560" y="4876920"/>
            <a:ext cx="78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N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30200" y="762120"/>
            <a:ext cx="82836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EAM WON THE 2016 SUPER BOWL, BEATING THE PANTHERS 24-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VE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47720" y="762120"/>
            <a:ext cx="7648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WESTERN FILM STARRED MEL GIBSON AND JODIE FOSTER AS CON ARTISTS AND JAMES GARNER AS A MARSH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31880" y="762120"/>
            <a:ext cx="76802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BEAN VARIETY IN THE U.S.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14440" y="762120"/>
            <a:ext cx="811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PTICS, WHAT IS THE NAME OF THE POINT AT WHICH LIGHT RAYS CONVER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69360" y="762120"/>
            <a:ext cx="8402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PORTS TEAMS OF SOUTHERN METHODIST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AND KEYBOARDIST FOR U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338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U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2160" y="7621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STELLATION OF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4114800" y="2120760"/>
            <a:ext cx="4538520" cy="3341880"/>
          </a:xfrm>
          <a:prstGeom prst="rect">
            <a:avLst/>
          </a:prstGeom>
          <a:ln w="0">
            <a:noFill/>
          </a:ln>
        </p:spPr>
      </p:pic>
      <p:sp>
        <p:nvSpPr>
          <p:cNvPr id="524" name="TextBox 3"/>
          <p:cNvSpPr/>
          <p:nvPr/>
        </p:nvSpPr>
        <p:spPr>
          <a:xfrm>
            <a:off x="380880" y="1828800"/>
            <a:ext cx="338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ZODIAC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36640" y="4876920"/>
            <a:ext cx="747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ORD 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3440" y="761760"/>
            <a:ext cx="773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CESS IS RESPONSIBLE FOR MOST OF A STAR'S ENER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5440" y="762120"/>
            <a:ext cx="795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HONE MADE BY SAMS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EAM WON THE 2016 SUPER BOWL, BEATING THE PANTHERS 24-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WESTERN FILM STARRED MEL GIBSON AND JODIE FOSTER AS CON ARTISTS AND JAMES GARNER AS A MARSH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93720" y="762120"/>
            <a:ext cx="775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BEAN VARIETY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PTICS, WHAT IS THE NAME OF THE POINT AT WHICH LIGHT RAYS CONVER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47760" y="762120"/>
            <a:ext cx="6648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AND KEYBOARDIST FOR U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27T11:47:28Z</dcterms:modified>
  <cp:revision>387</cp:revision>
  <dc:subject/>
  <dc:title>Slide 1</dc:title>
</cp:coreProperties>
</file>