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9917-4B1D-47D0-84C4-82B597746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B33E-F27A-47F0-B144-CDD965576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F2AF-8857-410C-80BD-5384CD98E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CFEC-FA47-45AB-BC9E-C857DC1AC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AEBB-B3D3-49F1-B8A3-DC33E6DC0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927B-58B1-484C-8C4C-1496E69A7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846D-E654-4909-B2E6-834787CDD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05D6-D011-49E2-AB83-76EEED539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ED61-192B-4436-A935-1ED475D71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93CD-2D32-4765-8C91-CDD4C0FED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2D7B-1BC5-4FFC-BBF9-83453092A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02DA-F341-49E3-81D7-D16B1F429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75C1-8B8D-4742-A5A8-F34A515FA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494D-31A8-49F9-9A2C-8B716F1E3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4F27-121F-4E84-9D61-8E0FD1F09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FFA4-8D4C-477E-92CD-1A26D1FBE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A7AD-887A-4293-9D76-0B30448B4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252C-2A58-41F4-A1B6-50336AEEF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2AAF-B203-404C-BDDC-B013C47CF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BB33-2932-49DC-A8BB-6299A8C10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7D72-E06A-41ED-82FB-DE904EAF6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72AE-47EA-4ABF-9076-2C61EDCF0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18E0-3622-402A-9E5D-A8BFF6E50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207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NSTELLATION OF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4102200" y="2057400"/>
            <a:ext cx="4657680" cy="3429000"/>
          </a:xfrm>
          <a:prstGeom prst="rect">
            <a:avLst/>
          </a:prstGeom>
          <a:ln w="0">
            <a:noFill/>
          </a:ln>
        </p:spPr>
      </p:pic>
      <p:sp>
        <p:nvSpPr>
          <p:cNvPr id="502" name="TextBox 4"/>
          <p:cNvSpPr/>
          <p:nvPr/>
        </p:nvSpPr>
        <p:spPr>
          <a:xfrm>
            <a:off x="352440" y="1889280"/>
            <a:ext cx="338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ZODIAC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TA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04920" y="762120"/>
            <a:ext cx="8534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SPORTS TEAMS OF SOUTHERN METHODIST UNIVERS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95240" y="762120"/>
            <a:ext cx="7553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CESS IS RESPONSIBLE FOR MOST OF A STAR'S ENER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A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69960" y="752400"/>
            <a:ext cx="780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PHONE MADE BY SAMS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655560" y="4876920"/>
            <a:ext cx="78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N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30200" y="762120"/>
            <a:ext cx="828360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EAM WON THE 2016 SUPER BOWL, BEATING THE PANTHERS 24-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VE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47720" y="762120"/>
            <a:ext cx="7648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WESTERN FILM STARRED MEL GIBSON AND JODIE FOSTER AS CON ARTISTS AND JAMES GARNER AS A MARSH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31880" y="762120"/>
            <a:ext cx="76802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BEAN VARIETY IN THE U.S.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14440" y="762120"/>
            <a:ext cx="811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OPTICS, WHAT IS THE NAME OF THE POINT AT WHICH LIGHT RAYS CONVERG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69360" y="762120"/>
            <a:ext cx="8402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SPORTS TEAMS OF SOUTHERN METHODIST UNIVERS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GUITARIST AND KEYBOARDIST FOR U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338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U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2160" y="7621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NSTELLATION OF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4114800" y="2120760"/>
            <a:ext cx="4538520" cy="3341880"/>
          </a:xfrm>
          <a:prstGeom prst="rect">
            <a:avLst/>
          </a:prstGeom>
          <a:ln w="0">
            <a:noFill/>
          </a:ln>
        </p:spPr>
      </p:pic>
      <p:sp>
        <p:nvSpPr>
          <p:cNvPr id="524" name="TextBox 3"/>
          <p:cNvSpPr/>
          <p:nvPr/>
        </p:nvSpPr>
        <p:spPr>
          <a:xfrm>
            <a:off x="380880" y="1828800"/>
            <a:ext cx="338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ZODIAC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836640" y="4876920"/>
            <a:ext cx="747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ORD 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03440" y="761760"/>
            <a:ext cx="773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CESS IS RESPONSIBLE FOR MOST OF A STAR'S ENER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95440" y="762120"/>
            <a:ext cx="795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PHONE MADE BY SAMS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EAM WON THE 2016 SUPER BOWL, BEATING THE PANTHERS 24-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WESTERN FILM STARRED MEL GIBSON AND JODIE FOSTER AS CON ARTISTS AND JAMES GARNER AS A MARSH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93720" y="762120"/>
            <a:ext cx="775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BEAN VARIETY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OPTICS, WHAT IS THE NAME OF THE POINT AT WHICH LIGHT RAYS CONVER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47760" y="762120"/>
            <a:ext cx="6648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GUITARIST AND KEYBOARDIST FOR U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27T11:47:28Z</dcterms:modified>
  <cp:revision>387</cp:revision>
  <dc:subject/>
  <dc:title>Slide 1</dc:title>
</cp:coreProperties>
</file>