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56DC-03B7-4DA1-AC30-800C18A51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B191-15CE-4A40-8BAF-26BF759A6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3C35-A5CB-4240-BCD5-69E6078C3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4348-91F2-47AF-B717-5F3470B30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5043-91E7-4CA1-AB3A-F1E86E313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A478-6146-4A88-B020-9926F6FC9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3540-5204-48E1-A41D-3C114017D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AAE8-C9BF-4914-A034-21D0A6F11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9EA4-A893-4397-8DDB-80C1A82D3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86F3-9F17-4096-BFF3-4E624BA06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6CAF-BB43-4BBE-868A-3014AAA4E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E076-2712-4DBA-AD22-F8F87F566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E9F8-CD13-4D7F-AA70-94238077D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19BC-4D1E-47A3-9056-A0A047308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77A5-E75D-49EF-A325-E885869FE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53DF-0A74-4099-853F-3825AEB43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FBC1-AEB6-4502-BEEB-850A337E5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8C63-681D-4185-B73B-81BCFA3CD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5163-8D1C-4C9C-868B-F58A6D28A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E83A-62C8-46B5-9715-7B6EFA7A4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96B7-3A04-4E32-A673-148EE5D50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4FE3-8568-4375-A392-6AA410AEA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E347-9A9E-463B-B5D4-EC211BF3B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20760" y="761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NSTELLATION OF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1"/>
          <a:stretch/>
        </p:blipFill>
        <p:spPr>
          <a:xfrm>
            <a:off x="4102200" y="2057400"/>
            <a:ext cx="4657680" cy="3429000"/>
          </a:xfrm>
          <a:prstGeom prst="rect">
            <a:avLst/>
          </a:prstGeom>
          <a:ln w="0">
            <a:noFill/>
          </a:ln>
        </p:spPr>
      </p:pic>
      <p:sp>
        <p:nvSpPr>
          <p:cNvPr id="502" name="TextBox 4"/>
          <p:cNvSpPr/>
          <p:nvPr/>
        </p:nvSpPr>
        <p:spPr>
          <a:xfrm>
            <a:off x="352440" y="1889280"/>
            <a:ext cx="338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ZODIAC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STA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04920" y="762120"/>
            <a:ext cx="8534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THE SPORTS TEAMS OF SOUTHERN METHODIST UNIVERS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95240" y="762120"/>
            <a:ext cx="7553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CESS IS RESPONSIBLE FOR MOST OF A STAR'S ENER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AX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69960" y="752400"/>
            <a:ext cx="780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PHONE MADE BY SAMSU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655560" y="4876920"/>
            <a:ext cx="78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N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30200" y="762120"/>
            <a:ext cx="828360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EAM WON THE 2016 SUPER BOWL, BEATING THE PANTHERS 24-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VER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47720" y="762120"/>
            <a:ext cx="7648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WESTERN FILM STARRED MEL GIBSON AND JODIE FOSTER AS CON ARTISTS AND JAMES GARNER AS A MARSH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31880" y="762120"/>
            <a:ext cx="768024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BEAN VARIETY IN THE U.S.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14440" y="762120"/>
            <a:ext cx="8115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OPTICS, WHAT IS THE NAME OF THE POINT AT WHICH LIGHT RAYS CONVERG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69360" y="762120"/>
            <a:ext cx="8402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THE SPORTS TEAMS OF SOUTHERN METHODIST UNIVERS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752480" y="48769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95280" y="762120"/>
            <a:ext cx="65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GUITARIST AND KEYBOARDIST FOR U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00600"/>
            <a:ext cx="338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U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2160" y="76212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NSTELLATION OF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4114800" y="2120760"/>
            <a:ext cx="4538520" cy="3341880"/>
          </a:xfrm>
          <a:prstGeom prst="rect">
            <a:avLst/>
          </a:prstGeom>
          <a:ln w="0">
            <a:noFill/>
          </a:ln>
        </p:spPr>
      </p:pic>
      <p:sp>
        <p:nvSpPr>
          <p:cNvPr id="524" name="TextBox 3"/>
          <p:cNvSpPr/>
          <p:nvPr/>
        </p:nvSpPr>
        <p:spPr>
          <a:xfrm>
            <a:off x="380880" y="1828800"/>
            <a:ext cx="338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ZODIAC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836640" y="4876920"/>
            <a:ext cx="747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FORD 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03440" y="761760"/>
            <a:ext cx="773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CESS IS RESPONSIBLE FOR MOST OF A STAR'S ENER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95440" y="762120"/>
            <a:ext cx="795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PHONE MADE BY SAMSU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EAM WON THE 2016 SUPER BOWL, BEATING THE PANTHERS 24-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WESTERN FILM STARRED MEL GIBSON AND JODIE FOSTER AS CON ARTISTS AND JAMES GARNER AS A MARSH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93720" y="762120"/>
            <a:ext cx="7755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BEAN VARIETY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OPTICS, WHAT IS THE NAME OF THE POINT AT WHICH LIGHT RAYS CONVER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47760" y="762120"/>
            <a:ext cx="6648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GUITARIST AND KEYBOARDIST FOR U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27T11:47:28Z</dcterms:modified>
  <cp:revision>387</cp:revision>
  <dc:subject/>
  <dc:title>Slide 1</dc:title>
</cp:coreProperties>
</file>