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2FE-38FA-462F-89E0-ACB6C4D9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00B6-C67E-45DD-8C67-A5ABC3094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B237-3B6A-488E-8B98-423AC116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9F76-F540-46D2-A935-10EB9358F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344-3B62-448D-8F01-9E7C4474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498B-F529-44C4-936F-8F361CD7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A441-D681-4B4A-8426-5DDE6FA0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D5A1-B902-4F32-8D11-F4EE1F5A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667B-AF7E-4A48-935F-24BD53DD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CE69-72E6-40C6-A70D-7126B9EB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F1B1-017E-4A2A-A222-50BCC6B5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F234-B2B6-4799-80F0-9880D030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383F-46A6-4A1F-ADE5-7FB5906F0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1001-18D6-45CD-9F61-E4E448FF8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238D-B3A8-47DF-870A-1A8C5326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A9F-F3C7-48D9-A153-70ADC6CA1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21CE-F386-4CF8-9717-837764D0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674F-B6AE-4080-8FFC-2FBF3FBA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39E-B339-43D3-9499-9260B9AC3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62CB-AC38-4C6B-93CC-3D7A3B37A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0256-32B3-4D34-A4ED-7B4ADF36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9706-6A2B-400C-950D-CA1E3994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B5B5-9D2E-40A1-96C6-5E46F7ED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ERN WATERFRONT OF SAN FRANCISCO IS A NEIGHBORHOOD KNOWN    AS WHOSE WHARF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HEMICAL COMPOUND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504800" y="762120"/>
            <a:ext cx="613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ED FOR MOST ANIMALS BUT BLUE FOR SP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HU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LOWER MICHIGAN IS MITTEN-SHAPED, WHAT IS THE PENINSULA NORTH OF DETROIT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00600"/>
            <a:ext cx="4724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33640" y="78120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MEANS LANDSLIDE IN NEW ZEA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71400" y="762120"/>
            <a:ext cx="7801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OGLE SOFTWARE DOES THE SAME THING AS MICROSOFT'S EXCEL AND APPLE'S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00600"/>
            <a:ext cx="5639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9080" y="762120"/>
            <a:ext cx="730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XING, WHAT IS A SEMI-CIRCULAR DOWNWARD PUNCH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URE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LEMNISCAT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7040" y="762120"/>
            <a:ext cx="7907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HEMICAL COMPOUND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IGHT-ANGLED RHOMBU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ERMA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66640" y="762120"/>
            <a:ext cx="8010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ERN WATERFRONT OF SAN FRANCISCO IS A NEIGHBORHOOD KNOWN    AS WHOSE WHAR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0060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KN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38200" y="761760"/>
            <a:ext cx="626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ED FOR MOST ANIMALS BUT BLUE FOR SP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LOWER MICHIGAN IS MITTEN-SHAPED, WHAT IS THE PENINSULA NORTH OF DETROIT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MEANS LANDSLIDE IN NEW ZEA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OGLE SOFTWARE DOES THE SAME THING AS MICROSOFT'S EXCEL AND APPLE'S NU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XING, WHAT IS A SEMI-CIRCULAR DOWNWARD PUNC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6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LEMNISC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IGHT-ANGLED RHOMBU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2:25:32Z</dcterms:modified>
  <cp:revision>362</cp:revision>
  <dc:subject/>
  <dc:title>Slide 1</dc:title>
</cp:coreProperties>
</file>