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FC3D-B6B9-42CA-BB45-D47215279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1290-4DE5-4EC3-BE68-C545A5097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226A-A325-4B42-8EEC-7A69F8620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CB76-0E46-4146-9AF3-E045E6A8A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E71C-3F13-4439-BA7F-0FCC5A9C6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467A-CFC6-4798-A18F-4EC61B41A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24E1-517D-4561-88B8-9F247D9DF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06DF-A425-4C02-ACF1-BBC126BD1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3A22-0076-4247-BCE1-31A20B556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59C1-9FCA-47D9-AAE3-D88D8A1EC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4F78-8F91-4D80-917D-8A1A019CB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9DE9-58C4-48A3-90E5-AABC5E174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EF48-CCAF-48E6-8AC4-362F00C3A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E7D7-1D57-404F-8685-D56B861CD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51F3-A624-423E-8000-42571C70C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0CA5-E0E8-413A-8E9C-EF29E21AA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E013-2390-4DE1-A623-4584B5413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CB4B-3A2B-443C-8311-3FE94AD5E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392D-1BC9-42E0-BF92-087F93F88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A7AE-1A49-47F3-8C95-C61AF906F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A802-8B72-450C-B937-B0F923DDE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8141-3C2F-4F10-9FB9-74AD9B746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8D99-5FCC-4127-BC1E-9DFE715DD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28480" y="761760"/>
            <a:ext cx="8087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ORTHERN WATERFRONT OF SAN FRANCISCO IS A NEIGHBORHOOD KNOWN    AS WHOSE WHARF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CHEMICAL COMPOUND IN THE UNIVE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00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504800" y="762120"/>
            <a:ext cx="6134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RED FOR MOST ANIMALS BUT BLUE FOR SPID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006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HUM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81200" y="762120"/>
            <a:ext cx="7581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LOWER MICHIGAN IS MITTEN-SHAPED, WHAT IS THE PENINSULA NORTH OF DETROIT SOMETIME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2209680" y="4800600"/>
            <a:ext cx="47246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33640" y="781200"/>
            <a:ext cx="6876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MEANS LANDSLIDE IN NEW ZEA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0060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71400" y="762120"/>
            <a:ext cx="7801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OOGLE SOFTWARE DOES THE SAME THING AS MICROSOFT'S EXCEL AND APPLE'S NUMB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752480" y="4800600"/>
            <a:ext cx="5639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VER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9080" y="762120"/>
            <a:ext cx="7305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OXING, WHAT IS A SEMI-CIRCULAR DOWNWARD PUNCH CALL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GURE 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MMON NAME FOR A LEMNISCATE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17040" y="762120"/>
            <a:ext cx="7907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CHEMICAL COMPOUND IN THE UNIVE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00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QU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34920" y="762120"/>
            <a:ext cx="727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RIGHT-ANGLED RHOMBU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SHERMAN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66640" y="762120"/>
            <a:ext cx="8010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ORTHERN WATERFRONT OF SAN FRANCISCO IS A NEIGHBORHOOD KNOWN    AS WHOSE WHARF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23960" y="4800600"/>
            <a:ext cx="7696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KN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438200" y="761760"/>
            <a:ext cx="6267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RED FOR MOST ANIMALS BUT BLUE FOR SPID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81200" y="762120"/>
            <a:ext cx="7581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LOWER MICHIGAN IS MITTEN-SHAPED, WHAT IS THE PENINSULA NORTH OF DETROIT SOMETIME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MEANS LANDSLIDE IN NEW ZEA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OOGLE SOFTWARE DOES THE SAME THING AS MICROSOFT'S EXCEL AND APPLE'S NUMB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19280" y="762120"/>
            <a:ext cx="770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OXING, WHAT IS A SEMI-CIRCULAR DOWNWARD PUNCH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43120" y="761760"/>
            <a:ext cx="7456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MMON NAME FOR A LEMNISC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RIGHT-ANGLED RHOMBU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27T12:25:32Z</dcterms:modified>
  <cp:revision>362</cp:revision>
  <dc:subject/>
  <dc:title>Slide 1</dc:title>
</cp:coreProperties>
</file>