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D180-B64F-4962-8F28-5374DC6E0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3F8A-8B31-491E-9E3C-D4D15B75F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85B5-C0B8-4A2F-AF15-11F4461BF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789C-D288-439F-8DF1-C320667B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52C2-83A5-4D6B-8295-39394EF5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E2B-190A-4324-A86E-95181B981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BD4B-BE9A-4145-A7BE-A2F2A3535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8032-B59F-4BA8-A503-B90F3D22D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330C-06F7-4843-B5C3-B19F41B5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F69-18EB-49A4-AC1D-8A6FAE4A9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3C93-1320-4711-B1DA-8758C744C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A654-01F2-4BBC-8C96-1D9A355AA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1481-7EE4-4ADC-9C76-BD4D26F4F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10E4-905D-4BB4-B979-3DE5561C9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AA1B-DCC7-4E9C-AE45-18DB8E60B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0956-CFCF-4104-9865-DE3486E76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5B3A-D295-4FBC-90EB-9553A834E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F212-5748-44F0-808A-31857FE5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84E8-F232-4038-8ACC-8F5657D47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1FD-5DC4-4633-B779-2087AD0D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C502-0894-4C09-A606-C8B538210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55E9-40DD-40DF-B112-9BB069E9F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46AE-B31E-4BC3-8721-2B8B6DD5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ERN WATERFRONT OF SAN FRANCISCO IS A NEIGHBORHOOD KNOWN    AS WHOSE WHARF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HEMICAL COMPOUND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504800" y="762120"/>
            <a:ext cx="613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ED FOR MOST ANIMALS BUT BLUE FOR SP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H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LOWER MICHIGAN IS MITTEN-SHAPED, WHAT IS THE PENINSULA NORTH OF DETROIT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00600"/>
            <a:ext cx="47246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33640" y="781200"/>
            <a:ext cx="68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MEANS LANDSLIDE IN NEW ZEA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0060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71400" y="762120"/>
            <a:ext cx="7801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OGLE SOFTWARE DOES THE SAME THING AS MICROSOFT'S EXCEL AND APPLE'S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00600"/>
            <a:ext cx="5639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ERH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XING, WHAT IS A SEMI-CIRCULAR DOWNWARD PUNCH CALL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GURE 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LEMNISCATE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17040" y="762120"/>
            <a:ext cx="7907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HEMICAL COMPOUND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IGHT-ANGLED RHOMBU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ERMAN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66640" y="762120"/>
            <a:ext cx="8010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THERN WATERFRONT OF SAN FRANCISCO IS A NEIGHBORHOOD KNOWN    AS WHOSE WHAR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23960" y="480060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K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438200" y="761760"/>
            <a:ext cx="6267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ED FOR MOST ANIMALS BUT BLUE FOR SP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LOWER MICHIGAN IS MITTEN-SHAPED, WHAT IS THE PENINSULA NORTH OF DETROIT SOMETIM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MEANS LANDSLIDE IN NEW ZEA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OGLE SOFTWARE DOES THE SAME THING AS MICROSOFT'S EXCEL AND APPLE'S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XING, WHAT IS A SEMI-CIRCULAR DOWNWARD PUNCH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43120" y="761760"/>
            <a:ext cx="7456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A LEMNISC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IGHT-ANGLED RHOMBU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27T12:25:32Z</dcterms:modified>
  <cp:revision>362</cp:revision>
  <dc:subject/>
  <dc:title>Slide 1</dc:title>
</cp:coreProperties>
</file>