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4A2C-9A91-4CCB-9134-48828679F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0780-D3EA-4B19-B27D-5D8C90643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CE10-409E-49BF-AA8F-CB9BCF971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CB0B-A130-475C-BC5B-18B7F00D1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D82D-A4CD-4E19-9589-2D580B19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01A1-1340-40F8-9788-9DB5D196D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0E90-71D9-4CFA-8893-C690A7D31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F242-81B0-4C3A-B0F5-748D87170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4533-0538-4057-AC70-F72B67118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6C4C-FCA3-4F77-94B9-BDCBFBB2C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652B-9D37-4464-9F46-D4AB8EEC1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7CC2-3E03-4368-B29C-AAB20616F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D38F-A940-4B2E-AF8C-CDAB753EA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4DD9-835D-4EB1-9874-032A95CCD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D42C-4C8D-4E8E-927D-1884CEED0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6F8C-8DFB-4CAF-92A5-45A6FDB31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EF12-1D50-4C65-AD5F-D562F55E7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D1A2-632A-462A-BB97-BB701002C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5D81-206F-4507-A133-75B28FA32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C95F-5714-4B25-BA0C-925AFCF93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A513-9244-4ACA-B06A-D967164B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D5DB-9E9D-43EE-8B10-2556C2F61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62F0-EF16-4961-AE8A-5BDF56546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THAT CLOSED IN 1966 MADE THIS 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3" descr="BN-SO111_MYRIDE_M_20170320153719.jpg"/>
          <p:cNvPicPr/>
          <p:nvPr/>
        </p:nvPicPr>
        <p:blipFill>
          <a:blip r:embed="rId1"/>
          <a:stretch/>
        </p:blipFill>
        <p:spPr>
          <a:xfrm>
            <a:off x="2209680" y="2743200"/>
            <a:ext cx="47149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  C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ASSOCIATED WITH THE CHESAPEAKE BAY AREA IS MADE FROM SEAFOOD, BREADCRUMBS, MAYO, AND SEASO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864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VA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864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SOLD THEIR COUNTRY'S INTERNET EXTENSION ".TV" FOR $5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JAC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LMS "NON-STOP", "AIR FORCE ONE", AND "CAPTAIN PHILLIPS"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O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ARE THESE PIECES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download.jpg"/>
          <p:cNvPicPr/>
          <p:nvPr/>
        </p:nvPicPr>
        <p:blipFill>
          <a:blip r:embed="rId1"/>
          <a:stretch/>
        </p:blipFill>
        <p:spPr>
          <a:xfrm>
            <a:off x="2552760" y="2590920"/>
            <a:ext cx="403848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MEM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ARGOS COMMANDED THE GREEK FORCES IN THE TROJAN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ARY  OF 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B DID ROBERT GATES, LEON PANETTA, CHUCK HAGEL, AND ASHTON CARTER HOLD IN THE OBAMA CABI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GHING 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TERM FOR NITROUS OX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ASSOCIATED WITH THE CHESAPEAKE BAY AREA IS MADE FROM SEAFOOD, BREADCRUMBS, MAYO, AND SEASO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ENDMENT TO THE U.S. CONSTITUTION ESTABLISHES THE FREE EXERCISE OF RELI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DE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528480" y="76212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THAT CLOSED IN 1966 MADE THIS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N-SO111_MYRIDE_M_20170320153719.jpg"/>
          <p:cNvPicPr/>
          <p:nvPr/>
        </p:nvPicPr>
        <p:blipFill>
          <a:blip r:embed="rId1"/>
          <a:stretch/>
        </p:blipFill>
        <p:spPr>
          <a:xfrm>
            <a:off x="2471760" y="2560680"/>
            <a:ext cx="420048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19040" y="373392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3  CONSECUTIVE  LETTERS  THAT  ARE  ADJACENT  IN  THE  ALPHA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SOLD THEIR COUNTRY'S INTERNET EXTENSION ".TV" FOR $5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LMS "NON-STOP", "AIR FORCE ONE", AND "CAPTAIN PHILLIPS"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ARE THESE PIECES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download.jpg"/>
          <p:cNvPicPr/>
          <p:nvPr/>
        </p:nvPicPr>
        <p:blipFill>
          <a:blip r:embed="rId1"/>
          <a:stretch/>
        </p:blipFill>
        <p:spPr>
          <a:xfrm>
            <a:off x="2394000" y="2666880"/>
            <a:ext cx="435456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ARGOS COMMANDED THE GREEK FORCES IN THE TROJAN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B DID ROBERT GATES, LEON PANETTA, CHUCK HAGEL, AND ASHTON CARTER HOLD IN THE OBAMA CABI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TERM FOR NITROUS OX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ENDMENT TO THE U.S. CONSTITUTION ESTABLISHES THE FREE EXERCISE OF RELIG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9:32:48Z</dcterms:created>
  <dc:creator>Jennifer Budzinski</dc:creator>
  <dc:description/>
  <dc:language>en-US</dc:language>
  <cp:lastModifiedBy>Erich Friedman</cp:lastModifiedBy>
  <dcterms:modified xsi:type="dcterms:W3CDTF">2020-08-27T12:27:59Z</dcterms:modified>
  <cp:revision>392</cp:revision>
  <dc:subject/>
  <dc:title>Slide 1</dc:title>
</cp:coreProperties>
</file>