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F88-B7F6-4609-B5D6-8BCDEA9A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834-88C7-46EB-A2A2-8CCFAC2E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E78-2357-4B27-9039-79FFEE4B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9D2-33CF-41B8-94AF-EB717A9A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49A-DC7D-47E7-ACD0-7B14365A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A33-AA20-43E1-A770-4149936A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5457-5F37-4EF2-B483-1626827D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626-0878-408C-8DAA-6CCB598E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142E-EF68-4FCD-807B-D0D98A50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488-7175-43F2-BB83-4139C3F4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0B2F-2817-4388-9BB6-1ACCEB4F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67B-9F36-4BA9-9E0B-65F7B6BA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1D2-A5C9-4564-9DC6-1F1B1670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542-E0AC-464E-BDEC-2DBB0099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7B0-0782-4B1A-9383-57A3667F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3D27-D09C-4241-901E-04B0ABEC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5137-B1D1-4E3E-9D39-A48967AC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4F15-6737-4DB1-B5B6-9EA50925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972-2A59-4153-95EA-D102E7CF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6F9-F107-4A5E-89E8-E42929BA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6FD-A323-40EB-9A22-80B6ADF9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DBF-72ED-4B7C-ACFE-130CBCE4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602-42BE-4F9C-961D-91907503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209680" y="2743200"/>
            <a:ext cx="4714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  C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864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JAC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download.jpg"/>
          <p:cNvPicPr/>
          <p:nvPr/>
        </p:nvPicPr>
        <p:blipFill>
          <a:blip r:embed="rId1"/>
          <a:stretch/>
        </p:blipFill>
        <p:spPr>
          <a:xfrm>
            <a:off x="2552760" y="2590920"/>
            <a:ext cx="40384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MEM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Y  OF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ING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E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528480" y="7621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471760" y="2560680"/>
            <a:ext cx="42004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19040" y="373392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3  CONSECUTIVE  LETTERS  THAT  ARE  ADJACENT  IN  THE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jpg"/>
          <p:cNvPicPr/>
          <p:nvPr/>
        </p:nvPicPr>
        <p:blipFill>
          <a:blip r:embed="rId1"/>
          <a:stretch/>
        </p:blipFill>
        <p:spPr>
          <a:xfrm>
            <a:off x="2394000" y="2666880"/>
            <a:ext cx="4354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9:32:48Z</dcterms:created>
  <dc:creator>Jennifer Budzinski</dc:creator>
  <dc:description/>
  <dc:language>en-US</dc:language>
  <cp:lastModifiedBy>Erich Friedman</cp:lastModifiedBy>
  <dcterms:modified xsi:type="dcterms:W3CDTF">2020-08-27T12:27:59Z</dcterms:modified>
  <cp:revision>392</cp:revision>
  <dc:subject/>
  <dc:title>Slide 1</dc:title>
</cp:coreProperties>
</file>