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DC82-3D46-4B61-AD79-D4DACB132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009-1DC4-409B-8F0C-10F5C0B8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7F9-4C46-44EB-B9A1-B34F0E92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C114-6AC5-47D0-ABAF-AF6FC6771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2D10-5F8E-453C-9E05-6ABE00F0D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B5E9-1BB4-4B64-8CF1-5027BA9C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589B-5EB7-4D01-A683-AE85F8901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4010-6776-4005-B2B8-A3B87B6C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3A4D-8FB2-4D6E-8BBB-5AFA4965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C292-C411-4E14-87D0-5FC2774BB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4720-9FFA-4F49-9775-482C1757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BC1-EC2D-47E9-B226-A7D12228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51F-4627-4D77-A4C0-4C161C60E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04CA-13D6-4C8E-849C-692A0167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8F8-10F2-40D0-9D90-06E49CEF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5CF-ED5A-41C7-9347-6A812AC5B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C0E6-BBDE-44C0-9AD0-65248423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2F3C-3E98-4ED0-9675-3C7FE430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E30-F4D3-4DE2-9FDD-6B115AE1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A6E0-F8FE-4A86-8F43-2F9C1D0C5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497E-3C24-4C56-8A32-2DE3AA751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7601-37DC-4456-9D2B-4B4C24B0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F28F-D154-44AE-B6C8-E1A45207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THAT CLOSED IN 1966 MADE THIS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3" descr="BN-SO111_MYRIDE_M_20170320153719.jpg"/>
          <p:cNvPicPr/>
          <p:nvPr/>
        </p:nvPicPr>
        <p:blipFill>
          <a:blip r:embed="rId1"/>
          <a:stretch/>
        </p:blipFill>
        <p:spPr>
          <a:xfrm>
            <a:off x="2209680" y="2743200"/>
            <a:ext cx="4714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  C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ASSOCIATED WITH THE CHESAPEAKE BAY AREA IS MADE FROM SEAFOOD, BREADCRUMBS, MAYO, AND SEAS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864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VA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864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OLD THEIR COUNTRY'S INTERNET EXTENSION ".TV" FOR $5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JAC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LMS "NON-STOP", "AIR FORCE ONE", AND "CAPTAIN PHILLIPS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ARE THESE PIECE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download.jpg"/>
          <p:cNvPicPr/>
          <p:nvPr/>
        </p:nvPicPr>
        <p:blipFill>
          <a:blip r:embed="rId1"/>
          <a:stretch/>
        </p:blipFill>
        <p:spPr>
          <a:xfrm>
            <a:off x="2552760" y="2590920"/>
            <a:ext cx="403848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MEM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ARGOS COMMANDED THE GREEK FORCES IN THE TROJAN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ARY  OF 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DID ROBERT GATES, LEON PANETTA, CHUCK HAGEL, AND ASHTON CARTER HOLD IN THE OBAMA CABI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ING 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TERM FOR NITROUS OX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ASSOCIATED WITH THE CHESAPEAKE BAY AREA IS MADE FROM SEAFOOD, BREADCRUMBS, MAYO, AND SEASO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NDMENT TO THE U.S. CONSTITUTION ESTABLISHES THE FREE EXERCISE OF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DE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528480" y="7621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THAT CLOSED IN 1966 MADE THIS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N-SO111_MYRIDE_M_20170320153719.jpg"/>
          <p:cNvPicPr/>
          <p:nvPr/>
        </p:nvPicPr>
        <p:blipFill>
          <a:blip r:embed="rId1"/>
          <a:stretch/>
        </p:blipFill>
        <p:spPr>
          <a:xfrm>
            <a:off x="2471760" y="2560680"/>
            <a:ext cx="420048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19040" y="373392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3  CONSECUTIVE  LETTERS  THAT  ARE  ADJACENT  IN  THE  ALPHA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OLD THEIR COUNTRY'S INTERNET EXTENSION ".TV" FOR $5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LMS "NON-STOP", "AIR FORCE ONE", AND "CAPTAIN PHILLIPS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ARE THESE PIECES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download.jpg"/>
          <p:cNvPicPr/>
          <p:nvPr/>
        </p:nvPicPr>
        <p:blipFill>
          <a:blip r:embed="rId1"/>
          <a:stretch/>
        </p:blipFill>
        <p:spPr>
          <a:xfrm>
            <a:off x="2394000" y="2666880"/>
            <a:ext cx="4354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ARGOS COMMANDED THE GREEK FORCES IN THE TROJAN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DID ROBERT GATES, LEON PANETTA, CHUCK HAGEL, AND ASHTON CARTER HOLD IN THE OBAMA CABI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TERM FOR NITROUS OX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NDMENT TO THE U.S. CONSTITUTION ESTABLISHES THE FREE EXERCISE OF RELI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9:32:48Z</dcterms:created>
  <dc:creator>Jennifer Budzinski</dc:creator>
  <dc:description/>
  <dc:language>en-US</dc:language>
  <cp:lastModifiedBy>Erich Friedman</cp:lastModifiedBy>
  <dcterms:modified xsi:type="dcterms:W3CDTF">2020-08-27T12:27:59Z</dcterms:modified>
  <cp:revision>392</cp:revision>
  <dc:subject/>
  <dc:title>Slide 1</dc:title>
</cp:coreProperties>
</file>